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13.wmf" ContentType="image/x-wmf"/>
  <Override PartName="/ppt/media/whoosh.wav" ContentType="audio/x-wav"/>
  <Override PartName="/ppt/media/image2.wmf" ContentType="image/x-wmf"/>
  <Override PartName="/ppt/media/image6.jpeg" ContentType="image/jpeg"/>
  <Override PartName="/ppt/media/image7.wmf" ContentType="image/x-wmf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A269-6160-4D46-905C-D2EFBDC9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97AA-5665-43A9-9E7D-550AA790C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043-99FC-4531-B679-ABB8B38E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B02-0116-447A-A33F-8D9AFCD6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C84-3437-415D-9FC4-70AE1CF7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F40-2E12-446B-B299-3F8838E5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238-F279-416E-89BC-DCD45E09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ADE-FEA1-4960-85E0-C509EB6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AA2-E7FD-4E80-81BB-41383DC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85B-F7A0-4A77-A4ED-73F1051E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0B4-7F27-4EA5-8130-6D07D3C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8BA-8E58-4AB6-842B-ACFC7A79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B71-228B-4760-8973-890B886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131-4891-4E28-8FF8-F32B5FF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D01-18DD-47F5-976E-B57927B95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9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WordArt 32"/>
          <p:cNvSpPr txBox="1"/>
          <p:nvPr/>
        </p:nvSpPr>
        <p:spPr>
          <a:xfrm>
            <a:off x="2133720" y="533520"/>
            <a:ext cx="4952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化学肥料质量检测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8" name="WordArt 34"/>
          <p:cNvSpPr txBox="1"/>
          <p:nvPr/>
        </p:nvSpPr>
        <p:spPr>
          <a:xfrm>
            <a:off x="1066680" y="1828800"/>
            <a:ext cx="7239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第二章 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肥料样品的采集制备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及水分测定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33520" y="1295280"/>
            <a:ext cx="784836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9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采用的采样方法和采取的份样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.10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样品容器和样品容器的密封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.11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采样人对样品所做的识别记号或编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.12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采样期间所做的各种观察记录和对肥料状况的评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2.13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交易中有关各方的姓名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或名称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和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4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最终样品的送交地点或检验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.15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生产单位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或货主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采样人或采样报告内容提供人的签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附加部分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按照肥料产品标准或合同要求，或者是当采样人认为需要或受买方委托时，可以另加“基本部分”中未规定的其它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2666880" y="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94120" y="762120"/>
            <a:ext cx="32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样报告必需具备的内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066680" y="2057400"/>
            <a:ext cx="678204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制备：根据需要进行磨细、过筛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保存：一份检验，另一份原样保持备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27400" y="990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三、制备和保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057400" y="1371600"/>
            <a:ext cx="46483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一、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二、真空干燥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三、气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卡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费休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五、中和滴定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756880" y="403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第二节  化学肥料中水分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1219320"/>
            <a:ext cx="77724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肥料的水分是指外来的水分；如所含的游离水、吸湿水等。不包括化学肥料自身所含的结构水，如结晶水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肥料中水分的含量对肥料品质有较大影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CO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含水量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.8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温度高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，暴露在空气中，就会自行分解导致挥发损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过磷酸钙含水量较大时，在贮存过程中就易发生磷酸退化作用，而导致磷的有效性降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因此，国家对肥料中的水分含量有明确规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75000" y="22860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概述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9"/>
          <p:cNvSpPr/>
          <p:nvPr/>
        </p:nvSpPr>
        <p:spPr>
          <a:xfrm>
            <a:off x="182880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几种肥料的水分含量标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838080"/>
          <a:ext cx="7620120" cy="5578560"/>
        </p:xfrm>
        <a:graphic>
          <a:graphicData uri="http://schemas.openxmlformats.org/drawingml/2006/table">
            <a:tbl>
              <a:tblPr/>
              <a:tblGrid>
                <a:gridCol w="3886200"/>
                <a:gridCol w="1702080"/>
                <a:gridCol w="20318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水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(≤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碳酸氢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干碳酸氢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氯化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氯化铵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小联碱厂产，农用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过磷酸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特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9480" y="1066680"/>
            <a:ext cx="80010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肥料中的含水量，不仅是重要的质量指标；而且，在肥料分析时计算养分含量要用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含量为干基计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在肥料试验时也是计算施肥量的依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肥料中水分的测定方法有普通的烘干法、减压干燥法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真空干燥法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、气量法、卡尔</a:t>
            </a:r>
            <a:r>
              <a:rPr b="1" lang="en-US" sz="26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660066"/>
                </a:solidFill>
                <a:latin typeface="Times New Roman"/>
              </a:rPr>
              <a:t>费休法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由于化学肥料种类复杂、许多肥料的热稳定性有显著差异，有不少品种还含结晶水。在测定时，应根据化学肥料的性质，选择适宜的测定方法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324480" y="0"/>
            <a:ext cx="2210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1143000" y="2971800"/>
            <a:ext cx="6705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因肥料的种类不同，烘干法的使用温度有一定差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包括：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℃(±2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10℃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30℃(±2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丙酮洗涤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0℃(±1 ℃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烘干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84384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烘干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14300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原理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烘干法是利用水分挥发后的失重，测定肥料中的水分含量，该方法主要适用于热稳定性强的肥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62120" y="1143000"/>
            <a:ext cx="74674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℃(±2℃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烘干法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本法适用于过磷酸钙、重过磷酸钙、沉淀磷酸钙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称取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g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准至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0.01g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于预先干燥至恒重的称量瓶中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直径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50mm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高为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0mm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置于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00±2℃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的烘箱内，称量瓶应近于温度计水银球水平位置，干燥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小时取出，放入干燥器中冷却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分钟称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914400" y="1066680"/>
            <a:ext cx="762012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100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样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样称量瓶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烘干后试样称量瓶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取平行测定结果的算数平均值为测定结果。平行测定结果的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不同实验室测定结果的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注意事项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为了提高干燥效果，用直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矮型称量瓶效果较好；尤其对过磷酸钙和重过磷酸钙等有吸湿性的肥料，用高型称量瓶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直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5mm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效果就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09480" y="1676520"/>
            <a:ext cx="815364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本法适测的化肥有：硫酸铵、氯化铵、结晶硝酸铵、硝酸钾、硝酸钠、脱氟磷肥、磷矿粉、骨粉、硫酸钾、氯化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置于预先已恒重的称量瓶，轻轻摇动称量瓶，使样品均匀的平铺于称量瓶的底部，打开称量瓶盖，放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烘箱内，干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小时后取出放入干燥器内冷却至室温，称量。再烘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小时后称重，重复操作直至恒重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两次称量之间差值不大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3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26840" y="914400"/>
            <a:ext cx="37692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5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烘干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066680" y="990720"/>
            <a:ext cx="7010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第二章  肥料样品的采集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及水分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19320" y="28195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第一节  化学肥料样品的采集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第二节  化学肥料中水分的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43000" y="1905120"/>
            <a:ext cx="655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的允许绝对差值不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不同肥料品种的规定又略有出入，氯化钾含水量等于或小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允许绝对差值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内，含水量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时允许绝对差值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内。硝酸铵允许绝对差值不大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3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91280" y="1143000"/>
            <a:ext cx="30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1024"/>
          <p:cNvGraphicFramePr/>
          <p:nvPr/>
        </p:nvGraphicFramePr>
        <p:xfrm>
          <a:off x="7480440" y="518148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0440" y="518148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3"/>
          <p:cNvSpPr/>
          <p:nvPr/>
        </p:nvSpPr>
        <p:spPr>
          <a:xfrm>
            <a:off x="838080" y="990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9480" y="1523880"/>
            <a:ext cx="78487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本法适宜测定的化肥有：硝酸钾、磷酸二氢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置于预先已恒重的称量瓶中，放入烘箱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1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干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时，移至干燥器内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允许绝对差值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40" y="89208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8ff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609480" y="1600200"/>
            <a:ext cx="769644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本法适宜测定的化肥有：钙镁磷肥、钢渣磷肥、脱氟磷肥、磷矿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于预先已称至恒重的称量瓶中，置于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30℃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的烘箱中，干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分钟后取出，放入干燥器中，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取平行测定结果的算数平均值为测定结果。平行测定结果允许绝对差值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3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12600" y="914400"/>
            <a:ext cx="37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30℃(±2℃)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1024"/>
          <p:cNvGraphicFramePr/>
          <p:nvPr/>
        </p:nvGraphicFramePr>
        <p:xfrm>
          <a:off x="6629400" y="5562720"/>
          <a:ext cx="21337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5562720"/>
                    <a:ext cx="2133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4"/>
          <p:cNvSpPr/>
          <p:nvPr/>
        </p:nvSpPr>
        <p:spPr>
          <a:xfrm>
            <a:off x="457200" y="1523880"/>
            <a:ext cx="784872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本方法适用于磷酸氢钙的水分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05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置于已干燥至恒重的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号玻璃砂芯坩埚内，加丙酮洗二次，每次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将玻璃砂芯坩埚及试样于室温通风处放置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分钟，而后移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±1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烘箱中烘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小时，置于干燥器冷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分钟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取平行测定结果的算数平均值为测定结果。平行测定的允许差值，在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.5%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以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600200" y="0"/>
            <a:ext cx="7162920" cy="7621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水分测定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烘干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39600" y="838080"/>
            <a:ext cx="38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丙酮洗涤、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0℃(±1 ℃)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烘干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1024"/>
          <p:cNvGraphicFramePr/>
          <p:nvPr/>
        </p:nvGraphicFramePr>
        <p:xfrm>
          <a:off x="0" y="5562720"/>
          <a:ext cx="36576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62720"/>
                    <a:ext cx="36576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025"/>
          <p:cNvGraphicFramePr/>
          <p:nvPr/>
        </p:nvGraphicFramePr>
        <p:xfrm>
          <a:off x="2895480" y="5715000"/>
          <a:ext cx="685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71500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026"/>
          <p:cNvGraphicFramePr/>
          <p:nvPr/>
        </p:nvGraphicFramePr>
        <p:xfrm>
          <a:off x="7924680" y="5638680"/>
          <a:ext cx="8384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5638680"/>
                    <a:ext cx="838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027"/>
          <p:cNvGraphicFramePr/>
          <p:nvPr/>
        </p:nvGraphicFramePr>
        <p:xfrm>
          <a:off x="5029200" y="6019920"/>
          <a:ext cx="8380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7"/>
          <p:cNvSpPr/>
          <p:nvPr/>
        </p:nvSpPr>
        <p:spPr>
          <a:xfrm>
            <a:off x="1066680" y="1295280"/>
            <a:ext cx="7162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本方法适宜测定的化肥品种多为具有易吸水、高温分解等特性，如硝酸铵、硝酸钙、硝酸铵钙、硝硫酸铵、尿素和磷铵类肥料等，以及不含碳酸氢铵的复混肥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操作步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在预先干燥至恒重的称量瓶中，称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置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±2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真空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8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0m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汞柱的真空干燥箱中，干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h±10min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取出，在干燥器中冷却至室温，称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272680" y="406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二、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4952880" y="0"/>
            <a:ext cx="39625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838080" y="762120"/>
            <a:ext cx="769644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取平行测定结果的算数平均值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平行测定结果的允许差值：含水量小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允许绝对差值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含水量大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允许绝对差值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磷铵类允许绝对差值小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20%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若无真空干燥箱，对下列肥料可作如下处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硝酸铵钙、硝酸硫铵，可使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磷酸铵等可采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至恒重或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±1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小时，并进行挥发性物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即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校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4952880" y="0"/>
            <a:ext cx="3962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真空干燥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ject 1024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219320" y="685800"/>
            <a:ext cx="73152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本法适宜于碳酸氢铵肥料中水分含量的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碳化钙能和试样中的水分起作用而放出乙炔气，根据乙炔气在一定温度和和压力下所占的体积，可以算出试样中水分的含量。反应式如下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a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+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a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+C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28600" y="3733920"/>
            <a:ext cx="86868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试剂和仪器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电石：即碳化钙，工业一级品，全部通过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25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封闭液：以氯化钠饱和液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盐酸酸化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%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甲基红指示剂呈红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大气压表；称量瓶：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2*22m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气量法测定装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04812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三、气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609480" y="1066680"/>
            <a:ext cx="777240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操作步骤 ：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打开乙炔气体发生瓶塞，高举水准瓶，使量气管充满封闭液，塞紧瓶塞，放下水准瓶，使仪器系统产生负压，检查仪器不漏气后，以弹簧夹夹住水准瓶口胶管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然后于已知重量的称量瓶中，称取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准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取盖，置于已预先放有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电石粉的气体发生器瓶中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将广口瓶的胶塞塞紧，连接仪器，打开弹簧夹，读取初读数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摇动广口瓶，使试样与电石充分混合至无结块现象为止，放置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-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分钟，读取气体体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在读取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,V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时，使水准瓶液面与量气管液面保持同样高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并记下测定温度和大气压力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毫米汞柱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0213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457200" y="2286000"/>
            <a:ext cx="830592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-V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产生乙炔气体积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测定时读取的大气压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P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w—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氯化钠饱和溶液的蒸汽压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P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取平行测定结果的算术平均值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、当含水量小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5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时，平行测定结果的允许绝对差值不大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；当含水量大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5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时，平行测定结果的允许绝对误差不大于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20%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7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371600"/>
          <a:ext cx="7391520" cy="914400"/>
        </p:xfrm>
        <a:graphic>
          <a:graphicData uri="http://schemas.openxmlformats.org/drawingml/2006/table">
            <a:tbl>
              <a:tblPr/>
              <a:tblGrid>
                <a:gridCol w="2389320"/>
                <a:gridCol w="1419120"/>
                <a:gridCol w="223920"/>
                <a:gridCol w="969840"/>
                <a:gridCol w="297000"/>
                <a:gridCol w="2092320"/>
              </a:tblGrid>
              <a:tr h="52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V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-P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*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+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4*1000*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9"/>
          <p:cNvSpPr/>
          <p:nvPr/>
        </p:nvSpPr>
        <p:spPr>
          <a:xfrm>
            <a:off x="571680" y="78588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欲测含水量小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时，量气管刻度应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毫升，含水量大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，量气管刻度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20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碳化钙与水反应是放热反应，而当温度高时，促使碳酸氢铵分解。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→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↑+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O+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↑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释放初出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占有一定体积，给测定带来误差。所以当试样含水量大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时，一定要用冷水浴，使反应瓶温度保持在室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贮存在贮藏瓶中的碳酸氢铵，各层次水分含量不完全一致，试样称量前，一定要将试样瓶充分摇动，混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0"/>
          <p:cNvSpPr/>
          <p:nvPr/>
        </p:nvSpPr>
        <p:spPr>
          <a:xfrm>
            <a:off x="5943600" y="0"/>
            <a:ext cx="2819520" cy="7621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气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6248520" y="3809880"/>
          <a:ext cx="28954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809880"/>
                    <a:ext cx="2895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6"/>
          <p:cNvSpPr/>
          <p:nvPr/>
        </p:nvSpPr>
        <p:spPr>
          <a:xfrm>
            <a:off x="1676520" y="2057400"/>
            <a:ext cx="56386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一、取样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二、取样数量和取样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三、制备和保存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775960" y="838080"/>
            <a:ext cx="43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第一节  化学肥料样品的采集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04920" y="762120"/>
            <a:ext cx="853416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本方法准确度高，适用于尿素、非结晶硝酸铵、氯化铵、磷酸一铵、磷酸二铵及复混肥料中水分含量的测定。因此法需要的试剂配制较为费时、且价格昂贵，因此一般不采用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但化学肥料质量抽检和仲裁检验，以及含有易分解碳酸氢铵的复混肥料，必须采用此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试样中的水与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碘、二氧化硫、吡啶、甲醇按一定比例组成的溶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反应，或改进的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碘、二氧化硫、乙酸铵、碘化钠、甲醇按一定比例组成的溶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反应；反应终点用“永停”电量法确定，根据卡尔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费休试剂与水的相当量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用纯水标定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，计算水分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3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+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HI+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·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C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·OS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CH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207800" y="0"/>
            <a:ext cx="15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四、卡尔</a:t>
            </a:r>
            <a:r>
              <a:rPr b="1" lang="en-US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ffff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5000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54"/>
          <p:cNvSpPr/>
          <p:nvPr/>
        </p:nvSpPr>
        <p:spPr>
          <a:xfrm>
            <a:off x="533520" y="457200"/>
            <a:ext cx="8076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尿素、硝酸铵、氯化铵、氯化钾和硫酸铵含水量用直接滴定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称量管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-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加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75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甲醇于反应瓶中，甲醇用量须足以淹没电极。接通电源，开动电磁搅拌机，与标定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一样，用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滴定至电流计指针产生与标定时同样的偏转，并保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变，不记录消耗的卡尔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费休试剂的体积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打开加料口橡皮塞迅速将称量管中的试样倾入反应瓶中，立即盖紧橡皮塞，搅拌溶液至试样溶解后，用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滴定至电流计有较大偏转，并保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不变为终点。记录消耗的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的体积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V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56"/>
          <p:cNvSpPr/>
          <p:nvPr/>
        </p:nvSpPr>
        <p:spPr>
          <a:xfrm>
            <a:off x="4648320" y="22860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481"/>
            </a:gs>
            <a:gs pos="100000">
              <a:srgbClr val="6342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28"/>
          <p:cNvSpPr/>
          <p:nvPr/>
        </p:nvSpPr>
        <p:spPr>
          <a:xfrm>
            <a:off x="380880" y="1143000"/>
            <a:ext cx="84582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复混肥料、磷酸一铵和磷酸二铵中含水量的测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萃取滴定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25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带塞的三角瓶中，称取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5-2.5g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盖上塞子。用注射器注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氧六环或无水乙醇，摇动或振荡几分钟，待试样稍微沉降后，取部分溶液于带塞的离心管中离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通过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滴定仪的废液口，将滴定容器中残液放完，用注射器经瓶塞注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甲醇于滴定容器中，甲醇用量需足以淹没电极。接通电源，打开电磁搅拌器，与标定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一样，用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滴定至电流计产生与标定时同样的偏转，并保持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。卡尔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费休试剂的体积不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9"/>
          <p:cNvSpPr/>
          <p:nvPr/>
        </p:nvSpPr>
        <p:spPr>
          <a:xfrm>
            <a:off x="832680" y="4078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31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66680" y="1447920"/>
            <a:ext cx="66294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用注射器从离心管中取出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10.0ml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二氧六环或无水乙醇萃取液，经瓶塞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加料口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注入反应瓶中，用卡尔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费休试剂滴定至电流计产生与标定时同样的偏转，并保持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1min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。记录消耗卡尔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费休试剂的体积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(V)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以同样方法，测定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0.0ml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二氧六环或无水乙醇所消耗的卡尔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费休试剂的体积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(V</a:t>
            </a:r>
            <a:r>
              <a:rPr b="1" lang="en-US" sz="2600" spc="-1" strike="noStrike" baseline="-25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08640" y="6094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685800" y="2057400"/>
            <a:ext cx="762012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滴定消耗的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体积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滴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二氧六环或无水乙醇消耗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体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卡尔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费休试剂的水当量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/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分取倍数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/10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萃取法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0976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1806120" y="1295280"/>
            <a:ext cx="52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%)=(V-V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*T*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分取倍数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/(m*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66680" y="14479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、取平行测定结果的算术平均值作为测定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、平行测定结果的允许绝对差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1249560" y="5335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果要求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743200"/>
          <a:ext cx="6858000" cy="3379680"/>
        </p:xfrm>
        <a:graphic>
          <a:graphicData uri="http://schemas.openxmlformats.org/drawingml/2006/table">
            <a:tbl>
              <a:tblPr/>
              <a:tblGrid>
                <a:gridCol w="2031840"/>
                <a:gridCol w="1854360"/>
                <a:gridCol w="2971800"/>
              </a:tblGrid>
              <a:tr h="561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肥料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水量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允许绝对差值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83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尿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bbedff"/>
                    </a:solidFill>
                  </a:tcPr>
                </a:tc>
              </a:tr>
              <a:tr h="89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c7ff"/>
                    </a:solidFill>
                  </a:tcPr>
                </a:tc>
              </a:tr>
              <a:tr h="561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磷酸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93ff93"/>
                    </a:solidFill>
                  </a:tcPr>
                </a:tc>
              </a:tr>
              <a:tr h="89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混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复混肥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gt;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838080" y="1523880"/>
            <a:ext cx="74678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直接滴定法的称样量，应以消耗卡尔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费休试剂的用量不超过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为宜。萃取滴定法的称样量，其试样的游离水含量应小于或等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50m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如测定尿素中的水分而没有卡尔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费休法的试剂和设备，可采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温度下干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方法测定。具体步骤：准确称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样品，放于高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直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称量瓶中，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5±1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温度下干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移入干燥器中冷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准确称量，所失重即为样品的含水量，计算含水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97640" y="685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295280" y="1447920"/>
            <a:ext cx="66294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萃取滴定法不适用于镁盐类、尿素之外的有机化合物以及含有这类物质的复混肥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标定卡尔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费休试剂的标准物质以纯水作标准最准确，另外还可用酒石酸钠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Na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2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草酸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草酸铵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.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等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但以酒石酸钠的结晶水含量最稳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定结果与纯水作标准所测定的水分相差不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02132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Object 0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654200" cy="169848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>
            <a:off x="1066680" y="5943600"/>
            <a:ext cx="58676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14400" y="1523880"/>
            <a:ext cx="73915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复混肥料游离水测定，采用二氧六环萃取，可防止肥料中的结晶水与卡尔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费休试剂反应，也可同时防止复混肥料中碳酸氢铵的干扰。对于不含碳酸氢铵的复混肥料可采用真空干燥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二氧六环价格昂贵，可用无水乙醇代替，但乙醇可溶解部分结晶水，产生误差，因此用无水乙醇只能作参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724280" y="0"/>
            <a:ext cx="4114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卡尔</a:t>
            </a: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费休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2132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38080" y="1371600"/>
            <a:ext cx="762012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此法适用于不含结晶水的肥料品种，如硫酸铵、氯化铵、硝酸铵、氯化钾、硫酸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无水三氯化铝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AlCl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样品中的水反应，三氯化铝水解，生产酸，产生的酸用标准碱滴定，根据碱的摩尔数即可计算出样品的水分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AlCl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+3H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===6HCl+Al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HCl+6NaOH===6NaCl+6H</a:t>
            </a:r>
            <a:r>
              <a:rPr b="1" lang="en-US" sz="2400" spc="-1" strike="noStrike" baseline="-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341080" y="457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838080" y="1600200"/>
            <a:ext cx="708660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取样探针：用于袋装肥料或较松散的堆放肥料，有单管探针和套管式双管探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、取样杯：用于生产过程中，从流水线上采样，一般是每间隔一定时间从传送带上肥料流的垂直方向取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、取样铲：用于铲取样品或在四分法缩分样品后，将样品铲起、装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、取样管及取样瓶：用于采集液体肥料样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414440" y="685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、取样工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219320" y="1600200"/>
            <a:ext cx="66294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准确吸取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0ml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无水甲醇于干燥的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250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三角瓶中；称取含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1m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以上水分的样品放于甲醇液面上；加入无水三氯化铝粉末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0.1-0.2g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于上述甲醇液面上，摇动反应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3min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，干过滤。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吸取甲醇滤液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5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，于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50m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干燥的三角瓶中，加入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%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的酚酞指示剂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-3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滴，用浓度为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0.0200mol/L</a:t>
            </a: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的标准氢氧化钠溶液滴定至刚呈微红色为终点，同时做空白试验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6311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d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8305920" y="5105520"/>
            <a:ext cx="838080" cy="1751760"/>
            <a:chOff x="8305920" y="5105520"/>
            <a:chExt cx="838080" cy="1751760"/>
          </a:xfrm>
        </p:grpSpPr>
        <p:sp>
          <p:nvSpPr>
            <p:cNvPr id="241" name="Freeform 5"/>
            <p:cNvSpPr/>
            <p:nvPr/>
          </p:nvSpPr>
          <p:spPr>
            <a:xfrm>
              <a:off x="8519040" y="6757920"/>
              <a:ext cx="318960" cy="99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6"/>
            <p:cNvGrpSpPr/>
            <p:nvPr/>
          </p:nvGrpSpPr>
          <p:grpSpPr>
            <a:xfrm>
              <a:off x="8305920" y="5105520"/>
              <a:ext cx="838080" cy="1710720"/>
              <a:chOff x="8305920" y="5105520"/>
              <a:chExt cx="838080" cy="1710720"/>
            </a:xfrm>
          </p:grpSpPr>
          <p:sp>
            <p:nvSpPr>
              <p:cNvPr id="243" name="Freeform 7"/>
              <p:cNvSpPr/>
              <p:nvPr/>
            </p:nvSpPr>
            <p:spPr>
              <a:xfrm>
                <a:off x="8467200" y="5378760"/>
                <a:ext cx="173520" cy="19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8"/>
              <p:cNvGrpSpPr/>
              <p:nvPr/>
            </p:nvGrpSpPr>
            <p:grpSpPr>
              <a:xfrm>
                <a:off x="8402760" y="5155920"/>
                <a:ext cx="551160" cy="1660320"/>
                <a:chOff x="8402760" y="5155920"/>
                <a:chExt cx="551160" cy="1660320"/>
              </a:xfrm>
            </p:grpSpPr>
            <p:sp>
              <p:nvSpPr>
                <p:cNvPr id="245" name="Freeform 9"/>
                <p:cNvSpPr/>
                <p:nvPr/>
              </p:nvSpPr>
              <p:spPr>
                <a:xfrm>
                  <a:off x="8402760" y="5155920"/>
                  <a:ext cx="551160" cy="166032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1660320"/>
                    <a:gd name="textAreaBottom" fmla="*/ 1660680 h 166032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"/>
                <p:cNvSpPr/>
                <p:nvPr/>
              </p:nvSpPr>
              <p:spPr>
                <a:xfrm>
                  <a:off x="8654040" y="5193000"/>
                  <a:ext cx="241200" cy="161928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1619280"/>
                    <a:gd name="textAreaBottom" fmla="*/ 1619640 h 161928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1"/>
              <p:cNvGrpSpPr/>
              <p:nvPr/>
            </p:nvGrpSpPr>
            <p:grpSpPr>
              <a:xfrm>
                <a:off x="8305920" y="5900040"/>
                <a:ext cx="838080" cy="218160"/>
                <a:chOff x="8305920" y="5900040"/>
                <a:chExt cx="838080" cy="218160"/>
              </a:xfrm>
            </p:grpSpPr>
            <p:sp>
              <p:nvSpPr>
                <p:cNvPr id="248" name="Freeform 12"/>
                <p:cNvSpPr/>
                <p:nvPr/>
              </p:nvSpPr>
              <p:spPr>
                <a:xfrm>
                  <a:off x="8305920" y="5900040"/>
                  <a:ext cx="838080" cy="218160"/>
                </a:xfrm>
                <a:custGeom>
                  <a:avLst/>
                  <a:gdLst>
                    <a:gd name="textAreaLeft" fmla="*/ 0 w 838080"/>
                    <a:gd name="textAreaRight" fmla="*/ 838440 w 838080"/>
                    <a:gd name="textAreaTop" fmla="*/ 0 h 218160"/>
                    <a:gd name="textAreaBottom" fmla="*/ 218520 h 21816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3"/>
                <p:cNvSpPr/>
                <p:nvPr/>
              </p:nvSpPr>
              <p:spPr>
                <a:xfrm>
                  <a:off x="8799840" y="5923440"/>
                  <a:ext cx="33480" cy="6624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4"/>
                <p:cNvSpPr/>
                <p:nvPr/>
              </p:nvSpPr>
              <p:spPr>
                <a:xfrm>
                  <a:off x="8855280" y="5979960"/>
                  <a:ext cx="34920" cy="662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66240"/>
                    <a:gd name="textAreaBottom" fmla="*/ 66240 h 6624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5"/>
                <p:cNvSpPr/>
                <p:nvPr/>
              </p:nvSpPr>
              <p:spPr>
                <a:xfrm>
                  <a:off x="8901360" y="6015240"/>
                  <a:ext cx="66240" cy="6228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6"/>
                <p:cNvSpPr/>
                <p:nvPr/>
              </p:nvSpPr>
              <p:spPr>
                <a:xfrm>
                  <a:off x="8981640" y="6034680"/>
                  <a:ext cx="39240" cy="428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7"/>
                <p:cNvSpPr/>
                <p:nvPr/>
              </p:nvSpPr>
              <p:spPr>
                <a:xfrm>
                  <a:off x="8866440" y="5931360"/>
                  <a:ext cx="46080" cy="604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8"/>
                <p:cNvSpPr/>
                <p:nvPr/>
              </p:nvSpPr>
              <p:spPr>
                <a:xfrm>
                  <a:off x="8937360" y="5986080"/>
                  <a:ext cx="49320" cy="388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9"/>
                <p:cNvSpPr/>
                <p:nvPr/>
              </p:nvSpPr>
              <p:spPr>
                <a:xfrm>
                  <a:off x="9054720" y="6051960"/>
                  <a:ext cx="64440" cy="370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37080"/>
                    <a:gd name="textAreaBottom" fmla="*/ 37080 h 3708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0"/>
                <p:cNvSpPr/>
                <p:nvPr/>
              </p:nvSpPr>
              <p:spPr>
                <a:xfrm>
                  <a:off x="8705160" y="5927400"/>
                  <a:ext cx="83520" cy="41040"/>
                </a:xfrm>
                <a:custGeom>
                  <a:avLst/>
                  <a:gdLst>
                    <a:gd name="textAreaLeft" fmla="*/ 0 w 83520"/>
                    <a:gd name="textAreaRight" fmla="*/ 83880 w 83520"/>
                    <a:gd name="textAreaTop" fmla="*/ 0 h 41040"/>
                    <a:gd name="textAreaBottom" fmla="*/ 41040 h 4104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1"/>
                <p:cNvSpPr/>
                <p:nvPr/>
              </p:nvSpPr>
              <p:spPr>
                <a:xfrm>
                  <a:off x="8802360" y="6024960"/>
                  <a:ext cx="24480" cy="331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2"/>
                <p:cNvSpPr/>
                <p:nvPr/>
              </p:nvSpPr>
              <p:spPr>
                <a:xfrm>
                  <a:off x="8622720" y="5958720"/>
                  <a:ext cx="47520" cy="954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3"/>
                <p:cNvSpPr/>
                <p:nvPr/>
              </p:nvSpPr>
              <p:spPr>
                <a:xfrm>
                  <a:off x="8668080" y="5950800"/>
                  <a:ext cx="73080" cy="3888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4"/>
                <p:cNvSpPr/>
                <p:nvPr/>
              </p:nvSpPr>
              <p:spPr>
                <a:xfrm>
                  <a:off x="8685720" y="6011280"/>
                  <a:ext cx="92520" cy="4680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5"/>
                <p:cNvSpPr/>
                <p:nvPr/>
              </p:nvSpPr>
              <p:spPr>
                <a:xfrm>
                  <a:off x="8550360" y="5983920"/>
                  <a:ext cx="30240" cy="507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6"/>
                <p:cNvSpPr/>
                <p:nvPr/>
              </p:nvSpPr>
              <p:spPr>
                <a:xfrm>
                  <a:off x="8567280" y="6018840"/>
                  <a:ext cx="32400" cy="4284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27"/>
                <p:cNvSpPr/>
                <p:nvPr/>
              </p:nvSpPr>
              <p:spPr>
                <a:xfrm>
                  <a:off x="8460360" y="5983920"/>
                  <a:ext cx="64440" cy="5652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28"/>
                <p:cNvSpPr/>
                <p:nvPr/>
              </p:nvSpPr>
              <p:spPr>
                <a:xfrm>
                  <a:off x="8403840" y="6067800"/>
                  <a:ext cx="27000" cy="388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Freeform 29"/>
              <p:cNvSpPr/>
              <p:nvPr/>
            </p:nvSpPr>
            <p:spPr>
              <a:xfrm>
                <a:off x="8988120" y="5763600"/>
                <a:ext cx="27000" cy="42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30"/>
              <p:cNvSpPr/>
              <p:nvPr/>
            </p:nvSpPr>
            <p:spPr>
              <a:xfrm>
                <a:off x="8963280" y="5726520"/>
                <a:ext cx="28080" cy="41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Group 31"/>
              <p:cNvGrpSpPr/>
              <p:nvPr/>
            </p:nvGrpSpPr>
            <p:grpSpPr>
              <a:xfrm>
                <a:off x="8419680" y="5435280"/>
                <a:ext cx="522000" cy="312120"/>
                <a:chOff x="8419680" y="5435280"/>
                <a:chExt cx="522000" cy="312120"/>
              </a:xfrm>
            </p:grpSpPr>
            <p:sp>
              <p:nvSpPr>
                <p:cNvPr id="268" name="Freeform 32"/>
                <p:cNvSpPr/>
                <p:nvPr/>
              </p:nvSpPr>
              <p:spPr>
                <a:xfrm>
                  <a:off x="8419680" y="5435280"/>
                  <a:ext cx="522000" cy="312120"/>
                </a:xfrm>
                <a:custGeom>
                  <a:avLst/>
                  <a:gdLst>
                    <a:gd name="textAreaLeft" fmla="*/ 0 w 522000"/>
                    <a:gd name="textAreaRight" fmla="*/ 522360 w 52200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3"/>
                <p:cNvSpPr/>
                <p:nvPr/>
              </p:nvSpPr>
              <p:spPr>
                <a:xfrm>
                  <a:off x="8838000" y="5445000"/>
                  <a:ext cx="21240" cy="8388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4"/>
                <p:cNvSpPr/>
                <p:nvPr/>
              </p:nvSpPr>
              <p:spPr>
                <a:xfrm>
                  <a:off x="8890920" y="5454720"/>
                  <a:ext cx="27000" cy="583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8320"/>
                    <a:gd name="textAreaBottom" fmla="*/ 58320 h 583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5"/>
                <p:cNvSpPr/>
                <p:nvPr/>
              </p:nvSpPr>
              <p:spPr>
                <a:xfrm>
                  <a:off x="8870760" y="5538600"/>
                  <a:ext cx="30240" cy="309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6"/>
                <p:cNvSpPr/>
                <p:nvPr/>
              </p:nvSpPr>
              <p:spPr>
                <a:xfrm>
                  <a:off x="8854920" y="5466600"/>
                  <a:ext cx="29160" cy="680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37"/>
                <p:cNvSpPr/>
                <p:nvPr/>
              </p:nvSpPr>
              <p:spPr>
                <a:xfrm>
                  <a:off x="8786160" y="5460480"/>
                  <a:ext cx="31320" cy="50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38"/>
                <p:cNvSpPr/>
                <p:nvPr/>
              </p:nvSpPr>
              <p:spPr>
                <a:xfrm>
                  <a:off x="8795160" y="5497560"/>
                  <a:ext cx="32400" cy="3708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39"/>
                <p:cNvSpPr/>
                <p:nvPr/>
              </p:nvSpPr>
              <p:spPr>
                <a:xfrm>
                  <a:off x="8731800" y="5509440"/>
                  <a:ext cx="48600" cy="3888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0"/>
                <p:cNvSpPr/>
                <p:nvPr/>
              </p:nvSpPr>
              <p:spPr>
                <a:xfrm>
                  <a:off x="8750160" y="5555880"/>
                  <a:ext cx="46080" cy="45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5000"/>
                    <a:gd name="textAreaBottom" fmla="*/ 45360 h 4500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1"/>
                <p:cNvSpPr/>
                <p:nvPr/>
              </p:nvSpPr>
              <p:spPr>
                <a:xfrm>
                  <a:off x="8642880" y="5631840"/>
                  <a:ext cx="48240" cy="85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2"/>
                <p:cNvSpPr/>
                <p:nvPr/>
              </p:nvSpPr>
              <p:spPr>
                <a:xfrm>
                  <a:off x="8611200" y="5631840"/>
                  <a:ext cx="25920" cy="507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3"/>
                <p:cNvSpPr/>
                <p:nvPr/>
              </p:nvSpPr>
              <p:spPr>
                <a:xfrm>
                  <a:off x="8530920" y="5598720"/>
                  <a:ext cx="60840" cy="565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4"/>
                <p:cNvSpPr/>
                <p:nvPr/>
              </p:nvSpPr>
              <p:spPr>
                <a:xfrm>
                  <a:off x="8462160" y="5614920"/>
                  <a:ext cx="27000" cy="73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5"/>
                <p:cNvSpPr/>
                <p:nvPr/>
              </p:nvSpPr>
              <p:spPr>
                <a:xfrm>
                  <a:off x="8518680" y="5645880"/>
                  <a:ext cx="39240" cy="525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46"/>
              <p:cNvGrpSpPr/>
              <p:nvPr/>
            </p:nvGrpSpPr>
            <p:grpSpPr>
              <a:xfrm>
                <a:off x="8424000" y="5331600"/>
                <a:ext cx="316800" cy="194760"/>
                <a:chOff x="8424000" y="5331600"/>
                <a:chExt cx="316800" cy="194760"/>
              </a:xfrm>
            </p:grpSpPr>
            <p:sp>
              <p:nvSpPr>
                <p:cNvPr id="283" name="Freeform 47"/>
                <p:cNvSpPr/>
                <p:nvPr/>
              </p:nvSpPr>
              <p:spPr>
                <a:xfrm>
                  <a:off x="8424000" y="5331600"/>
                  <a:ext cx="316800" cy="19476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48"/>
                <p:cNvSpPr/>
                <p:nvPr/>
              </p:nvSpPr>
              <p:spPr>
                <a:xfrm>
                  <a:off x="8588520" y="5401800"/>
                  <a:ext cx="81000" cy="2160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49"/>
                <p:cNvSpPr/>
                <p:nvPr/>
              </p:nvSpPr>
              <p:spPr>
                <a:xfrm>
                  <a:off x="8687880" y="5429160"/>
                  <a:ext cx="40320" cy="486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0"/>
                <p:cNvSpPr/>
                <p:nvPr/>
              </p:nvSpPr>
              <p:spPr>
                <a:xfrm>
                  <a:off x="8665200" y="5460120"/>
                  <a:ext cx="22320" cy="4680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1"/>
                <p:cNvSpPr/>
                <p:nvPr/>
              </p:nvSpPr>
              <p:spPr>
                <a:xfrm>
                  <a:off x="8532360" y="5353200"/>
                  <a:ext cx="50400" cy="331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33120"/>
                    <a:gd name="textAreaBottom" fmla="*/ 33120 h 3312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2"/>
                <p:cNvSpPr/>
                <p:nvPr/>
              </p:nvSpPr>
              <p:spPr>
                <a:xfrm>
                  <a:off x="8537760" y="5405760"/>
                  <a:ext cx="37080" cy="3060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3"/>
                <p:cNvSpPr/>
                <p:nvPr/>
              </p:nvSpPr>
              <p:spPr>
                <a:xfrm>
                  <a:off x="8667720" y="5419440"/>
                  <a:ext cx="14400" cy="3492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4"/>
                <p:cNvSpPr/>
                <p:nvPr/>
              </p:nvSpPr>
              <p:spPr>
                <a:xfrm>
                  <a:off x="8467920" y="5337000"/>
                  <a:ext cx="51840" cy="352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55"/>
              <p:cNvGrpSpPr/>
              <p:nvPr/>
            </p:nvGrpSpPr>
            <p:grpSpPr>
              <a:xfrm>
                <a:off x="8522280" y="5214600"/>
                <a:ext cx="114840" cy="134280"/>
                <a:chOff x="8522280" y="5214600"/>
                <a:chExt cx="114840" cy="134280"/>
              </a:xfrm>
            </p:grpSpPr>
            <p:sp>
              <p:nvSpPr>
                <p:cNvPr id="292" name="Freeform 56"/>
                <p:cNvSpPr/>
                <p:nvPr/>
              </p:nvSpPr>
              <p:spPr>
                <a:xfrm>
                  <a:off x="8522280" y="5214600"/>
                  <a:ext cx="114840" cy="1342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57"/>
                <p:cNvSpPr/>
                <p:nvPr/>
              </p:nvSpPr>
              <p:spPr>
                <a:xfrm>
                  <a:off x="8572680" y="5241600"/>
                  <a:ext cx="50760" cy="547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4720"/>
                    <a:gd name="textAreaBottom" fmla="*/ 54720 h 5472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58"/>
                <p:cNvSpPr/>
                <p:nvPr/>
              </p:nvSpPr>
              <p:spPr>
                <a:xfrm>
                  <a:off x="8563680" y="5302080"/>
                  <a:ext cx="50760" cy="33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3120"/>
                    <a:gd name="textAreaBottom" fmla="*/ 33120 h 3312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59"/>
                <p:cNvSpPr/>
                <p:nvPr/>
              </p:nvSpPr>
              <p:spPr>
                <a:xfrm>
                  <a:off x="8546760" y="5253480"/>
                  <a:ext cx="24480" cy="507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0"/>
              <p:cNvGrpSpPr/>
              <p:nvPr/>
            </p:nvGrpSpPr>
            <p:grpSpPr>
              <a:xfrm>
                <a:off x="8660160" y="5257800"/>
                <a:ext cx="170280" cy="163440"/>
                <a:chOff x="8660160" y="5257800"/>
                <a:chExt cx="170280" cy="163440"/>
              </a:xfrm>
            </p:grpSpPr>
            <p:sp>
              <p:nvSpPr>
                <p:cNvPr id="297" name="Freeform 61"/>
                <p:cNvSpPr/>
                <p:nvPr/>
              </p:nvSpPr>
              <p:spPr>
                <a:xfrm>
                  <a:off x="8660160" y="5257800"/>
                  <a:ext cx="170280" cy="16344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62"/>
                <p:cNvSpPr/>
                <p:nvPr/>
              </p:nvSpPr>
              <p:spPr>
                <a:xfrm>
                  <a:off x="8735400" y="5290920"/>
                  <a:ext cx="76680" cy="6624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63"/>
                <p:cNvSpPr/>
                <p:nvPr/>
              </p:nvSpPr>
              <p:spPr>
                <a:xfrm>
                  <a:off x="8722080" y="5364720"/>
                  <a:ext cx="76320" cy="3888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64"/>
                <p:cNvSpPr/>
                <p:nvPr/>
              </p:nvSpPr>
              <p:spPr>
                <a:xfrm>
                  <a:off x="8697240" y="5304600"/>
                  <a:ext cx="37080" cy="62280"/>
                </a:xfrm>
                <a:custGeom>
                  <a:avLst/>
                  <a:gdLst>
                    <a:gd name="textAreaLeft" fmla="*/ 0 w 37080"/>
                    <a:gd name="textAreaRight" fmla="*/ 37440 w 3708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Group 65"/>
              <p:cNvGrpSpPr/>
              <p:nvPr/>
            </p:nvGrpSpPr>
            <p:grpSpPr>
              <a:xfrm>
                <a:off x="8619480" y="5105520"/>
                <a:ext cx="117360" cy="171360"/>
                <a:chOff x="8619480" y="5105520"/>
                <a:chExt cx="117360" cy="171360"/>
              </a:xfrm>
            </p:grpSpPr>
            <p:sp>
              <p:nvSpPr>
                <p:cNvPr id="302" name="Freeform 66"/>
                <p:cNvSpPr/>
                <p:nvPr/>
              </p:nvSpPr>
              <p:spPr>
                <a:xfrm>
                  <a:off x="8619480" y="5105520"/>
                  <a:ext cx="117360" cy="17136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67"/>
                <p:cNvSpPr/>
                <p:nvPr/>
              </p:nvSpPr>
              <p:spPr>
                <a:xfrm>
                  <a:off x="8665560" y="5181480"/>
                  <a:ext cx="47160" cy="7596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68"/>
                <p:cNvSpPr/>
                <p:nvPr/>
              </p:nvSpPr>
              <p:spPr>
                <a:xfrm>
                  <a:off x="8631720" y="5167800"/>
                  <a:ext cx="28080" cy="759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69"/>
                <p:cNvSpPr/>
                <p:nvPr/>
              </p:nvSpPr>
              <p:spPr>
                <a:xfrm>
                  <a:off x="8659080" y="5144400"/>
                  <a:ext cx="45000" cy="3492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70"/>
              <p:cNvGrpSpPr/>
              <p:nvPr/>
            </p:nvGrpSpPr>
            <p:grpSpPr>
              <a:xfrm>
                <a:off x="8340840" y="5611320"/>
                <a:ext cx="700200" cy="319320"/>
                <a:chOff x="8340840" y="5611320"/>
                <a:chExt cx="700200" cy="319320"/>
              </a:xfrm>
            </p:grpSpPr>
            <p:grpSp>
              <p:nvGrpSpPr>
                <p:cNvPr id="307" name="Group 71"/>
                <p:cNvGrpSpPr/>
                <p:nvPr/>
              </p:nvGrpSpPr>
              <p:grpSpPr>
                <a:xfrm>
                  <a:off x="8340840" y="5611320"/>
                  <a:ext cx="700200" cy="319320"/>
                  <a:chOff x="8340840" y="5611320"/>
                  <a:chExt cx="700200" cy="319320"/>
                </a:xfrm>
              </p:grpSpPr>
              <p:sp>
                <p:nvSpPr>
                  <p:cNvPr id="308" name="Freeform 72"/>
                  <p:cNvSpPr/>
                  <p:nvPr/>
                </p:nvSpPr>
                <p:spPr>
                  <a:xfrm>
                    <a:off x="8340840" y="5611320"/>
                    <a:ext cx="700200" cy="319320"/>
                  </a:xfrm>
                  <a:custGeom>
                    <a:avLst/>
                    <a:gdLst>
                      <a:gd name="textAreaLeft" fmla="*/ 0 w 700200"/>
                      <a:gd name="textAreaRight" fmla="*/ 700560 w 700200"/>
                      <a:gd name="textAreaTop" fmla="*/ 0 h 319320"/>
                      <a:gd name="textAreaBottom" fmla="*/ 319680 h 31932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73"/>
                  <p:cNvSpPr/>
                  <p:nvPr/>
                </p:nvSpPr>
                <p:spPr>
                  <a:xfrm>
                    <a:off x="8879760" y="5803920"/>
                    <a:ext cx="24480" cy="468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74"/>
                  <p:cNvSpPr/>
                  <p:nvPr/>
                </p:nvSpPr>
                <p:spPr>
                  <a:xfrm>
                    <a:off x="8848080" y="5800320"/>
                    <a:ext cx="20160" cy="6228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75"/>
                  <p:cNvSpPr/>
                  <p:nvPr/>
                </p:nvSpPr>
                <p:spPr>
                  <a:xfrm>
                    <a:off x="8899920" y="5706720"/>
                    <a:ext cx="25920" cy="3708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76"/>
                  <p:cNvSpPr/>
                  <p:nvPr/>
                </p:nvSpPr>
                <p:spPr>
                  <a:xfrm>
                    <a:off x="8856000" y="5625000"/>
                    <a:ext cx="36000" cy="1126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77"/>
                  <p:cNvSpPr/>
                  <p:nvPr/>
                </p:nvSpPr>
                <p:spPr>
                  <a:xfrm>
                    <a:off x="8804160" y="5685120"/>
                    <a:ext cx="42840" cy="954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78"/>
                  <p:cNvSpPr/>
                  <p:nvPr/>
                </p:nvSpPr>
                <p:spPr>
                  <a:xfrm>
                    <a:off x="8701560" y="5770800"/>
                    <a:ext cx="46080" cy="273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79"/>
                  <p:cNvSpPr/>
                  <p:nvPr/>
                </p:nvSpPr>
                <p:spPr>
                  <a:xfrm>
                    <a:off x="8627040" y="5778720"/>
                    <a:ext cx="75600" cy="62280"/>
                  </a:xfrm>
                  <a:custGeom>
                    <a:avLst/>
                    <a:gdLst>
                      <a:gd name="textAreaLeft" fmla="*/ 0 w 75600"/>
                      <a:gd name="textAreaRight" fmla="*/ 75960 w 7560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Freeform 80"/>
                  <p:cNvSpPr/>
                  <p:nvPr/>
                </p:nvSpPr>
                <p:spPr>
                  <a:xfrm>
                    <a:off x="8678160" y="5806080"/>
                    <a:ext cx="41400" cy="5436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54360"/>
                      <a:gd name="textAreaBottom" fmla="*/ 54720 h 5436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Freeform 81"/>
                  <p:cNvSpPr/>
                  <p:nvPr/>
                </p:nvSpPr>
                <p:spPr>
                  <a:xfrm>
                    <a:off x="8847000" y="5669640"/>
                    <a:ext cx="7920" cy="216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Freeform 82"/>
                  <p:cNvSpPr/>
                  <p:nvPr/>
                </p:nvSpPr>
                <p:spPr>
                  <a:xfrm>
                    <a:off x="8649720" y="5864400"/>
                    <a:ext cx="21240" cy="34920"/>
                  </a:xfrm>
                  <a:custGeom>
                    <a:avLst/>
                    <a:gdLst>
                      <a:gd name="textAreaLeft" fmla="*/ 0 w 21240"/>
                      <a:gd name="textAreaRight" fmla="*/ 21600 w 2124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Freeform 83"/>
                  <p:cNvSpPr/>
                  <p:nvPr/>
                </p:nvSpPr>
                <p:spPr>
                  <a:xfrm>
                    <a:off x="8571960" y="5792400"/>
                    <a:ext cx="42840" cy="6228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Freeform 84"/>
                  <p:cNvSpPr/>
                  <p:nvPr/>
                </p:nvSpPr>
                <p:spPr>
                  <a:xfrm>
                    <a:off x="8542440" y="5852880"/>
                    <a:ext cx="34920" cy="1944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85"/>
                  <p:cNvSpPr/>
                  <p:nvPr/>
                </p:nvSpPr>
                <p:spPr>
                  <a:xfrm>
                    <a:off x="8483760" y="5778720"/>
                    <a:ext cx="40320" cy="58320"/>
                  </a:xfrm>
                  <a:custGeom>
                    <a:avLst/>
                    <a:gdLst>
                      <a:gd name="textAreaLeft" fmla="*/ 0 w 40320"/>
                      <a:gd name="textAreaRight" fmla="*/ 40680 w 40320"/>
                      <a:gd name="textAreaTop" fmla="*/ 0 h 58320"/>
                      <a:gd name="textAreaBottom" fmla="*/ 58680 h 583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86"/>
                  <p:cNvSpPr/>
                  <p:nvPr/>
                </p:nvSpPr>
                <p:spPr>
                  <a:xfrm>
                    <a:off x="8475840" y="5854680"/>
                    <a:ext cx="32400" cy="3492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87"/>
                  <p:cNvSpPr/>
                  <p:nvPr/>
                </p:nvSpPr>
                <p:spPr>
                  <a:xfrm>
                    <a:off x="8512200" y="5815800"/>
                    <a:ext cx="22680" cy="37080"/>
                  </a:xfrm>
                  <a:custGeom>
                    <a:avLst/>
                    <a:gdLst>
                      <a:gd name="textAreaLeft" fmla="*/ 0 w 22680"/>
                      <a:gd name="textAreaRight" fmla="*/ 23040 w 226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88"/>
                  <p:cNvSpPr/>
                  <p:nvPr/>
                </p:nvSpPr>
                <p:spPr>
                  <a:xfrm>
                    <a:off x="8388000" y="5759280"/>
                    <a:ext cx="42840" cy="5652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56520"/>
                      <a:gd name="textAreaBottom" fmla="*/ 56880 h 5652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Freeform 89"/>
                <p:cNvSpPr/>
                <p:nvPr/>
              </p:nvSpPr>
              <p:spPr>
                <a:xfrm>
                  <a:off x="8951040" y="5730120"/>
                  <a:ext cx="56160" cy="72000"/>
                </a:xfrm>
                <a:custGeom>
                  <a:avLst/>
                  <a:gdLst>
                    <a:gd name="textAreaLeft" fmla="*/ 0 w 56160"/>
                    <a:gd name="textAreaRight" fmla="*/ 56520 w 561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90"/>
                <p:cNvSpPr/>
                <p:nvPr/>
              </p:nvSpPr>
              <p:spPr>
                <a:xfrm>
                  <a:off x="8929440" y="5755320"/>
                  <a:ext cx="29160" cy="27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Group 399"/>
          <p:cNvGrpSpPr/>
          <p:nvPr/>
        </p:nvGrpSpPr>
        <p:grpSpPr>
          <a:xfrm>
            <a:off x="1676520" y="5334120"/>
            <a:ext cx="755640" cy="1214280"/>
            <a:chOff x="1676520" y="5334120"/>
            <a:chExt cx="755640" cy="1214280"/>
          </a:xfrm>
        </p:grpSpPr>
        <p:sp>
          <p:nvSpPr>
            <p:cNvPr id="328" name="Freeform 92"/>
            <p:cNvSpPr/>
            <p:nvPr/>
          </p:nvSpPr>
          <p:spPr>
            <a:xfrm>
              <a:off x="1905120" y="6477120"/>
              <a:ext cx="357120" cy="712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750" y="78"/>
                  </a:moveTo>
                  <a:lnTo>
                    <a:pt x="788" y="74"/>
                  </a:lnTo>
                  <a:lnTo>
                    <a:pt x="750" y="71"/>
                  </a:lnTo>
                  <a:lnTo>
                    <a:pt x="763" y="68"/>
                  </a:lnTo>
                  <a:lnTo>
                    <a:pt x="729" y="65"/>
                  </a:lnTo>
                  <a:lnTo>
                    <a:pt x="742" y="62"/>
                  </a:lnTo>
                  <a:lnTo>
                    <a:pt x="705" y="61"/>
                  </a:lnTo>
                  <a:lnTo>
                    <a:pt x="722" y="57"/>
                  </a:lnTo>
                  <a:lnTo>
                    <a:pt x="663" y="50"/>
                  </a:lnTo>
                  <a:lnTo>
                    <a:pt x="684" y="49"/>
                  </a:lnTo>
                  <a:lnTo>
                    <a:pt x="675" y="44"/>
                  </a:lnTo>
                  <a:lnTo>
                    <a:pt x="675" y="41"/>
                  </a:lnTo>
                  <a:lnTo>
                    <a:pt x="643" y="37"/>
                  </a:lnTo>
                  <a:lnTo>
                    <a:pt x="654" y="34"/>
                  </a:lnTo>
                  <a:lnTo>
                    <a:pt x="617" y="31"/>
                  </a:lnTo>
                  <a:lnTo>
                    <a:pt x="654" y="30"/>
                  </a:lnTo>
                  <a:lnTo>
                    <a:pt x="613" y="27"/>
                  </a:lnTo>
                  <a:lnTo>
                    <a:pt x="634" y="24"/>
                  </a:lnTo>
                  <a:lnTo>
                    <a:pt x="596" y="20"/>
                  </a:lnTo>
                  <a:lnTo>
                    <a:pt x="596" y="19"/>
                  </a:lnTo>
                  <a:lnTo>
                    <a:pt x="555" y="19"/>
                  </a:lnTo>
                  <a:lnTo>
                    <a:pt x="566" y="14"/>
                  </a:lnTo>
                  <a:lnTo>
                    <a:pt x="525" y="13"/>
                  </a:lnTo>
                  <a:lnTo>
                    <a:pt x="529" y="9"/>
                  </a:lnTo>
                  <a:lnTo>
                    <a:pt x="508" y="4"/>
                  </a:lnTo>
                  <a:lnTo>
                    <a:pt x="500" y="1"/>
                  </a:lnTo>
                  <a:lnTo>
                    <a:pt x="480" y="1"/>
                  </a:lnTo>
                  <a:lnTo>
                    <a:pt x="459" y="0"/>
                  </a:lnTo>
                  <a:lnTo>
                    <a:pt x="420" y="1"/>
                  </a:lnTo>
                  <a:lnTo>
                    <a:pt x="379" y="0"/>
                  </a:lnTo>
                  <a:lnTo>
                    <a:pt x="379" y="2"/>
                  </a:lnTo>
                  <a:lnTo>
                    <a:pt x="334" y="4"/>
                  </a:lnTo>
                  <a:lnTo>
                    <a:pt x="334" y="9"/>
                  </a:lnTo>
                  <a:lnTo>
                    <a:pt x="313" y="9"/>
                  </a:lnTo>
                  <a:lnTo>
                    <a:pt x="266" y="13"/>
                  </a:lnTo>
                  <a:lnTo>
                    <a:pt x="291" y="15"/>
                  </a:lnTo>
                  <a:lnTo>
                    <a:pt x="266" y="16"/>
                  </a:lnTo>
                  <a:lnTo>
                    <a:pt x="266" y="20"/>
                  </a:lnTo>
                  <a:lnTo>
                    <a:pt x="262" y="22"/>
                  </a:lnTo>
                  <a:lnTo>
                    <a:pt x="204" y="22"/>
                  </a:lnTo>
                  <a:lnTo>
                    <a:pt x="195" y="24"/>
                  </a:lnTo>
                  <a:lnTo>
                    <a:pt x="204" y="26"/>
                  </a:lnTo>
                  <a:lnTo>
                    <a:pt x="178" y="29"/>
                  </a:lnTo>
                  <a:lnTo>
                    <a:pt x="195" y="31"/>
                  </a:lnTo>
                  <a:lnTo>
                    <a:pt x="137" y="40"/>
                  </a:lnTo>
                  <a:lnTo>
                    <a:pt x="158" y="42"/>
                  </a:lnTo>
                  <a:lnTo>
                    <a:pt x="137" y="45"/>
                  </a:lnTo>
                  <a:lnTo>
                    <a:pt x="137" y="51"/>
                  </a:lnTo>
                  <a:lnTo>
                    <a:pt x="174" y="53"/>
                  </a:lnTo>
                  <a:lnTo>
                    <a:pt x="158" y="58"/>
                  </a:lnTo>
                  <a:lnTo>
                    <a:pt x="129" y="62"/>
                  </a:lnTo>
                  <a:lnTo>
                    <a:pt x="129" y="65"/>
                  </a:lnTo>
                  <a:lnTo>
                    <a:pt x="158" y="72"/>
                  </a:lnTo>
                  <a:lnTo>
                    <a:pt x="137" y="75"/>
                  </a:lnTo>
                  <a:lnTo>
                    <a:pt x="107" y="75"/>
                  </a:lnTo>
                  <a:lnTo>
                    <a:pt x="107" y="77"/>
                  </a:lnTo>
                  <a:lnTo>
                    <a:pt x="116" y="79"/>
                  </a:lnTo>
                  <a:lnTo>
                    <a:pt x="137" y="82"/>
                  </a:lnTo>
                  <a:lnTo>
                    <a:pt x="116" y="84"/>
                  </a:lnTo>
                  <a:lnTo>
                    <a:pt x="107" y="88"/>
                  </a:lnTo>
                  <a:lnTo>
                    <a:pt x="107" y="92"/>
                  </a:lnTo>
                  <a:lnTo>
                    <a:pt x="86" y="95"/>
                  </a:lnTo>
                  <a:lnTo>
                    <a:pt x="28" y="98"/>
                  </a:lnTo>
                  <a:lnTo>
                    <a:pt x="28" y="103"/>
                  </a:lnTo>
                  <a:lnTo>
                    <a:pt x="49" y="104"/>
                  </a:lnTo>
                  <a:lnTo>
                    <a:pt x="49" y="110"/>
                  </a:lnTo>
                  <a:lnTo>
                    <a:pt x="28" y="110"/>
                  </a:lnTo>
                  <a:lnTo>
                    <a:pt x="20" y="119"/>
                  </a:lnTo>
                  <a:lnTo>
                    <a:pt x="20" y="124"/>
                  </a:lnTo>
                  <a:lnTo>
                    <a:pt x="41" y="126"/>
                  </a:lnTo>
                  <a:lnTo>
                    <a:pt x="20" y="131"/>
                  </a:lnTo>
                  <a:lnTo>
                    <a:pt x="0" y="136"/>
                  </a:lnTo>
                  <a:lnTo>
                    <a:pt x="20" y="143"/>
                  </a:lnTo>
                  <a:lnTo>
                    <a:pt x="41" y="144"/>
                  </a:lnTo>
                  <a:lnTo>
                    <a:pt x="20" y="149"/>
                  </a:lnTo>
                  <a:lnTo>
                    <a:pt x="0" y="157"/>
                  </a:lnTo>
                  <a:lnTo>
                    <a:pt x="4" y="164"/>
                  </a:lnTo>
                  <a:lnTo>
                    <a:pt x="49" y="166"/>
                  </a:lnTo>
                  <a:lnTo>
                    <a:pt x="129" y="174"/>
                  </a:lnTo>
                  <a:lnTo>
                    <a:pt x="137" y="184"/>
                  </a:lnTo>
                  <a:lnTo>
                    <a:pt x="174" y="185"/>
                  </a:lnTo>
                  <a:lnTo>
                    <a:pt x="174" y="191"/>
                  </a:lnTo>
                  <a:lnTo>
                    <a:pt x="216" y="194"/>
                  </a:lnTo>
                  <a:lnTo>
                    <a:pt x="216" y="200"/>
                  </a:lnTo>
                  <a:lnTo>
                    <a:pt x="237" y="204"/>
                  </a:lnTo>
                  <a:lnTo>
                    <a:pt x="246" y="209"/>
                  </a:lnTo>
                  <a:lnTo>
                    <a:pt x="291" y="213"/>
                  </a:lnTo>
                  <a:lnTo>
                    <a:pt x="304" y="218"/>
                  </a:lnTo>
                  <a:lnTo>
                    <a:pt x="350" y="221"/>
                  </a:lnTo>
                  <a:lnTo>
                    <a:pt x="354" y="225"/>
                  </a:lnTo>
                  <a:lnTo>
                    <a:pt x="437" y="225"/>
                  </a:lnTo>
                  <a:lnTo>
                    <a:pt x="442" y="220"/>
                  </a:lnTo>
                  <a:lnTo>
                    <a:pt x="488" y="220"/>
                  </a:lnTo>
                  <a:lnTo>
                    <a:pt x="488" y="214"/>
                  </a:lnTo>
                  <a:lnTo>
                    <a:pt x="546" y="212"/>
                  </a:lnTo>
                  <a:lnTo>
                    <a:pt x="555" y="208"/>
                  </a:lnTo>
                  <a:lnTo>
                    <a:pt x="555" y="206"/>
                  </a:lnTo>
                  <a:lnTo>
                    <a:pt x="613" y="206"/>
                  </a:lnTo>
                  <a:lnTo>
                    <a:pt x="617" y="201"/>
                  </a:lnTo>
                  <a:lnTo>
                    <a:pt x="634" y="199"/>
                  </a:lnTo>
                  <a:lnTo>
                    <a:pt x="684" y="195"/>
                  </a:lnTo>
                  <a:lnTo>
                    <a:pt x="701" y="193"/>
                  </a:lnTo>
                  <a:lnTo>
                    <a:pt x="750" y="192"/>
                  </a:lnTo>
                  <a:lnTo>
                    <a:pt x="750" y="190"/>
                  </a:lnTo>
                  <a:lnTo>
                    <a:pt x="763" y="187"/>
                  </a:lnTo>
                  <a:lnTo>
                    <a:pt x="763" y="185"/>
                  </a:lnTo>
                  <a:lnTo>
                    <a:pt x="793" y="184"/>
                  </a:lnTo>
                  <a:lnTo>
                    <a:pt x="793" y="179"/>
                  </a:lnTo>
                  <a:lnTo>
                    <a:pt x="817" y="178"/>
                  </a:lnTo>
                  <a:lnTo>
                    <a:pt x="810" y="173"/>
                  </a:lnTo>
                  <a:lnTo>
                    <a:pt x="830" y="171"/>
                  </a:lnTo>
                  <a:lnTo>
                    <a:pt x="817" y="168"/>
                  </a:lnTo>
                  <a:lnTo>
                    <a:pt x="902" y="161"/>
                  </a:lnTo>
                  <a:lnTo>
                    <a:pt x="742" y="85"/>
                  </a:lnTo>
                  <a:lnTo>
                    <a:pt x="750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4"/>
            <p:cNvGrpSpPr/>
            <p:nvPr/>
          </p:nvGrpSpPr>
          <p:grpSpPr>
            <a:xfrm>
              <a:off x="1676520" y="5334120"/>
              <a:ext cx="755640" cy="1201680"/>
              <a:chOff x="1676520" y="5334120"/>
              <a:chExt cx="755640" cy="1201680"/>
            </a:xfrm>
          </p:grpSpPr>
          <p:grpSp>
            <p:nvGrpSpPr>
              <p:cNvPr id="330" name="Group 95"/>
              <p:cNvGrpSpPr/>
              <p:nvPr/>
            </p:nvGrpSpPr>
            <p:grpSpPr>
              <a:xfrm>
                <a:off x="1749600" y="5370480"/>
                <a:ext cx="649440" cy="1165320"/>
                <a:chOff x="1749600" y="5370480"/>
                <a:chExt cx="649440" cy="1165320"/>
              </a:xfrm>
            </p:grpSpPr>
            <p:sp>
              <p:nvSpPr>
                <p:cNvPr id="331" name="Freeform 96"/>
                <p:cNvSpPr/>
                <p:nvPr/>
              </p:nvSpPr>
              <p:spPr>
                <a:xfrm>
                  <a:off x="1749600" y="5370480"/>
                  <a:ext cx="649440" cy="116532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165320"/>
                    <a:gd name="textAreaBottom" fmla="*/ 1165680 h 1165320"/>
                  </a:gdLst>
                  <a:ahLst/>
                  <a:rect l="textAreaLeft" t="textAreaTop" r="textAreaRight" b="textAreaBottom"/>
                  <a:pathLst>
                    <a:path w="1635" h="3666">
                      <a:moveTo>
                        <a:pt x="700" y="2803"/>
                      </a:moveTo>
                      <a:lnTo>
                        <a:pt x="691" y="2681"/>
                      </a:lnTo>
                      <a:lnTo>
                        <a:pt x="689" y="2539"/>
                      </a:lnTo>
                      <a:lnTo>
                        <a:pt x="696" y="2407"/>
                      </a:lnTo>
                      <a:lnTo>
                        <a:pt x="704" y="2310"/>
                      </a:lnTo>
                      <a:lnTo>
                        <a:pt x="708" y="2185"/>
                      </a:lnTo>
                      <a:lnTo>
                        <a:pt x="708" y="2114"/>
                      </a:lnTo>
                      <a:lnTo>
                        <a:pt x="708" y="2057"/>
                      </a:lnTo>
                      <a:lnTo>
                        <a:pt x="720" y="1973"/>
                      </a:lnTo>
                      <a:lnTo>
                        <a:pt x="663" y="1933"/>
                      </a:lnTo>
                      <a:lnTo>
                        <a:pt x="586" y="1883"/>
                      </a:lnTo>
                      <a:lnTo>
                        <a:pt x="505" y="1827"/>
                      </a:lnTo>
                      <a:lnTo>
                        <a:pt x="444" y="1773"/>
                      </a:lnTo>
                      <a:lnTo>
                        <a:pt x="364" y="1719"/>
                      </a:lnTo>
                      <a:lnTo>
                        <a:pt x="295" y="1661"/>
                      </a:lnTo>
                      <a:lnTo>
                        <a:pt x="235" y="1607"/>
                      </a:lnTo>
                      <a:lnTo>
                        <a:pt x="152" y="1532"/>
                      </a:lnTo>
                      <a:lnTo>
                        <a:pt x="0" y="1341"/>
                      </a:lnTo>
                      <a:lnTo>
                        <a:pt x="209" y="1546"/>
                      </a:lnTo>
                      <a:lnTo>
                        <a:pt x="197" y="1235"/>
                      </a:lnTo>
                      <a:lnTo>
                        <a:pt x="240" y="1567"/>
                      </a:lnTo>
                      <a:lnTo>
                        <a:pt x="326" y="1639"/>
                      </a:lnTo>
                      <a:lnTo>
                        <a:pt x="399" y="1698"/>
                      </a:lnTo>
                      <a:lnTo>
                        <a:pt x="478" y="1752"/>
                      </a:lnTo>
                      <a:lnTo>
                        <a:pt x="563" y="1822"/>
                      </a:lnTo>
                      <a:lnTo>
                        <a:pt x="629" y="1873"/>
                      </a:lnTo>
                      <a:lnTo>
                        <a:pt x="712" y="1911"/>
                      </a:lnTo>
                      <a:lnTo>
                        <a:pt x="704" y="1773"/>
                      </a:lnTo>
                      <a:lnTo>
                        <a:pt x="708" y="1724"/>
                      </a:lnTo>
                      <a:lnTo>
                        <a:pt x="696" y="1628"/>
                      </a:lnTo>
                      <a:lnTo>
                        <a:pt x="689" y="1540"/>
                      </a:lnTo>
                      <a:lnTo>
                        <a:pt x="647" y="1500"/>
                      </a:lnTo>
                      <a:lnTo>
                        <a:pt x="590" y="1462"/>
                      </a:lnTo>
                      <a:lnTo>
                        <a:pt x="508" y="1387"/>
                      </a:lnTo>
                      <a:lnTo>
                        <a:pt x="452" y="1333"/>
                      </a:lnTo>
                      <a:lnTo>
                        <a:pt x="379" y="1259"/>
                      </a:lnTo>
                      <a:lnTo>
                        <a:pt x="322" y="1213"/>
                      </a:lnTo>
                      <a:lnTo>
                        <a:pt x="197" y="1058"/>
                      </a:lnTo>
                      <a:lnTo>
                        <a:pt x="346" y="1199"/>
                      </a:lnTo>
                      <a:lnTo>
                        <a:pt x="376" y="975"/>
                      </a:lnTo>
                      <a:lnTo>
                        <a:pt x="372" y="1206"/>
                      </a:lnTo>
                      <a:lnTo>
                        <a:pt x="454" y="1287"/>
                      </a:lnTo>
                      <a:lnTo>
                        <a:pt x="537" y="1366"/>
                      </a:lnTo>
                      <a:lnTo>
                        <a:pt x="606" y="1425"/>
                      </a:lnTo>
                      <a:lnTo>
                        <a:pt x="689" y="1478"/>
                      </a:lnTo>
                      <a:lnTo>
                        <a:pt x="696" y="1408"/>
                      </a:lnTo>
                      <a:lnTo>
                        <a:pt x="693" y="1340"/>
                      </a:lnTo>
                      <a:lnTo>
                        <a:pt x="693" y="1252"/>
                      </a:lnTo>
                      <a:lnTo>
                        <a:pt x="693" y="1174"/>
                      </a:lnTo>
                      <a:lnTo>
                        <a:pt x="689" y="1086"/>
                      </a:lnTo>
                      <a:lnTo>
                        <a:pt x="696" y="944"/>
                      </a:lnTo>
                      <a:lnTo>
                        <a:pt x="643" y="901"/>
                      </a:lnTo>
                      <a:lnTo>
                        <a:pt x="571" y="842"/>
                      </a:lnTo>
                      <a:lnTo>
                        <a:pt x="489" y="756"/>
                      </a:lnTo>
                      <a:lnTo>
                        <a:pt x="413" y="678"/>
                      </a:lnTo>
                      <a:lnTo>
                        <a:pt x="280" y="491"/>
                      </a:lnTo>
                      <a:lnTo>
                        <a:pt x="452" y="681"/>
                      </a:lnTo>
                      <a:lnTo>
                        <a:pt x="470" y="437"/>
                      </a:lnTo>
                      <a:lnTo>
                        <a:pt x="478" y="713"/>
                      </a:lnTo>
                      <a:lnTo>
                        <a:pt x="568" y="791"/>
                      </a:lnTo>
                      <a:lnTo>
                        <a:pt x="632" y="849"/>
                      </a:lnTo>
                      <a:lnTo>
                        <a:pt x="704" y="908"/>
                      </a:lnTo>
                      <a:lnTo>
                        <a:pt x="720" y="795"/>
                      </a:lnTo>
                      <a:lnTo>
                        <a:pt x="738" y="703"/>
                      </a:lnTo>
                      <a:lnTo>
                        <a:pt x="749" y="624"/>
                      </a:lnTo>
                      <a:lnTo>
                        <a:pt x="757" y="526"/>
                      </a:lnTo>
                      <a:lnTo>
                        <a:pt x="708" y="493"/>
                      </a:lnTo>
                      <a:lnTo>
                        <a:pt x="663" y="451"/>
                      </a:lnTo>
                      <a:lnTo>
                        <a:pt x="610" y="404"/>
                      </a:lnTo>
                      <a:lnTo>
                        <a:pt x="541" y="352"/>
                      </a:lnTo>
                      <a:lnTo>
                        <a:pt x="470" y="257"/>
                      </a:lnTo>
                      <a:lnTo>
                        <a:pt x="598" y="376"/>
                      </a:lnTo>
                      <a:lnTo>
                        <a:pt x="590" y="217"/>
                      </a:lnTo>
                      <a:lnTo>
                        <a:pt x="614" y="381"/>
                      </a:lnTo>
                      <a:lnTo>
                        <a:pt x="655" y="416"/>
                      </a:lnTo>
                      <a:lnTo>
                        <a:pt x="696" y="455"/>
                      </a:lnTo>
                      <a:lnTo>
                        <a:pt x="753" y="491"/>
                      </a:lnTo>
                      <a:lnTo>
                        <a:pt x="749" y="369"/>
                      </a:lnTo>
                      <a:lnTo>
                        <a:pt x="749" y="292"/>
                      </a:lnTo>
                      <a:lnTo>
                        <a:pt x="781" y="0"/>
                      </a:lnTo>
                      <a:lnTo>
                        <a:pt x="810" y="220"/>
                      </a:lnTo>
                      <a:lnTo>
                        <a:pt x="818" y="306"/>
                      </a:lnTo>
                      <a:lnTo>
                        <a:pt x="834" y="376"/>
                      </a:lnTo>
                      <a:lnTo>
                        <a:pt x="844" y="472"/>
                      </a:lnTo>
                      <a:lnTo>
                        <a:pt x="848" y="575"/>
                      </a:lnTo>
                      <a:lnTo>
                        <a:pt x="848" y="650"/>
                      </a:lnTo>
                      <a:lnTo>
                        <a:pt x="848" y="727"/>
                      </a:lnTo>
                      <a:lnTo>
                        <a:pt x="919" y="678"/>
                      </a:lnTo>
                      <a:lnTo>
                        <a:pt x="972" y="622"/>
                      </a:lnTo>
                      <a:lnTo>
                        <a:pt x="1033" y="563"/>
                      </a:lnTo>
                      <a:lnTo>
                        <a:pt x="1011" y="491"/>
                      </a:lnTo>
                      <a:lnTo>
                        <a:pt x="1003" y="315"/>
                      </a:lnTo>
                      <a:lnTo>
                        <a:pt x="1025" y="476"/>
                      </a:lnTo>
                      <a:lnTo>
                        <a:pt x="1052" y="547"/>
                      </a:lnTo>
                      <a:lnTo>
                        <a:pt x="1109" y="507"/>
                      </a:lnTo>
                      <a:lnTo>
                        <a:pt x="1227" y="397"/>
                      </a:lnTo>
                      <a:lnTo>
                        <a:pt x="1139" y="512"/>
                      </a:lnTo>
                      <a:lnTo>
                        <a:pt x="1086" y="556"/>
                      </a:lnTo>
                      <a:lnTo>
                        <a:pt x="1023" y="617"/>
                      </a:lnTo>
                      <a:lnTo>
                        <a:pt x="969" y="667"/>
                      </a:lnTo>
                      <a:lnTo>
                        <a:pt x="901" y="720"/>
                      </a:lnTo>
                      <a:lnTo>
                        <a:pt x="856" y="767"/>
                      </a:lnTo>
                      <a:lnTo>
                        <a:pt x="836" y="886"/>
                      </a:lnTo>
                      <a:lnTo>
                        <a:pt x="828" y="979"/>
                      </a:lnTo>
                      <a:lnTo>
                        <a:pt x="826" y="1065"/>
                      </a:lnTo>
                      <a:lnTo>
                        <a:pt x="828" y="1117"/>
                      </a:lnTo>
                      <a:lnTo>
                        <a:pt x="828" y="1174"/>
                      </a:lnTo>
                      <a:lnTo>
                        <a:pt x="844" y="1244"/>
                      </a:lnTo>
                      <a:lnTo>
                        <a:pt x="916" y="1216"/>
                      </a:lnTo>
                      <a:lnTo>
                        <a:pt x="995" y="1160"/>
                      </a:lnTo>
                      <a:lnTo>
                        <a:pt x="1091" y="1085"/>
                      </a:lnTo>
                      <a:lnTo>
                        <a:pt x="1158" y="1018"/>
                      </a:lnTo>
                      <a:lnTo>
                        <a:pt x="1227" y="964"/>
                      </a:lnTo>
                      <a:lnTo>
                        <a:pt x="1261" y="635"/>
                      </a:lnTo>
                      <a:lnTo>
                        <a:pt x="1249" y="953"/>
                      </a:lnTo>
                      <a:lnTo>
                        <a:pt x="1446" y="774"/>
                      </a:lnTo>
                      <a:lnTo>
                        <a:pt x="1318" y="918"/>
                      </a:lnTo>
                      <a:lnTo>
                        <a:pt x="1253" y="986"/>
                      </a:lnTo>
                      <a:lnTo>
                        <a:pt x="1192" y="1035"/>
                      </a:lnTo>
                      <a:lnTo>
                        <a:pt x="1129" y="1082"/>
                      </a:lnTo>
                      <a:lnTo>
                        <a:pt x="1064" y="1146"/>
                      </a:lnTo>
                      <a:lnTo>
                        <a:pt x="1033" y="1170"/>
                      </a:lnTo>
                      <a:lnTo>
                        <a:pt x="995" y="1202"/>
                      </a:lnTo>
                      <a:lnTo>
                        <a:pt x="909" y="1259"/>
                      </a:lnTo>
                      <a:lnTo>
                        <a:pt x="848" y="1292"/>
                      </a:lnTo>
                      <a:lnTo>
                        <a:pt x="852" y="1401"/>
                      </a:lnTo>
                      <a:lnTo>
                        <a:pt x="859" y="1525"/>
                      </a:lnTo>
                      <a:lnTo>
                        <a:pt x="871" y="1633"/>
                      </a:lnTo>
                      <a:lnTo>
                        <a:pt x="946" y="1595"/>
                      </a:lnTo>
                      <a:lnTo>
                        <a:pt x="1030" y="1553"/>
                      </a:lnTo>
                      <a:lnTo>
                        <a:pt x="1117" y="1504"/>
                      </a:lnTo>
                      <a:lnTo>
                        <a:pt x="1189" y="1455"/>
                      </a:lnTo>
                      <a:lnTo>
                        <a:pt x="1253" y="1418"/>
                      </a:lnTo>
                      <a:lnTo>
                        <a:pt x="1302" y="1387"/>
                      </a:lnTo>
                      <a:lnTo>
                        <a:pt x="1318" y="1347"/>
                      </a:lnTo>
                      <a:lnTo>
                        <a:pt x="1341" y="1291"/>
                      </a:lnTo>
                      <a:lnTo>
                        <a:pt x="1367" y="1216"/>
                      </a:lnTo>
                      <a:lnTo>
                        <a:pt x="1381" y="1139"/>
                      </a:lnTo>
                      <a:lnTo>
                        <a:pt x="1393" y="1023"/>
                      </a:lnTo>
                      <a:lnTo>
                        <a:pt x="1396" y="1156"/>
                      </a:lnTo>
                      <a:lnTo>
                        <a:pt x="1389" y="1223"/>
                      </a:lnTo>
                      <a:lnTo>
                        <a:pt x="1355" y="1294"/>
                      </a:lnTo>
                      <a:lnTo>
                        <a:pt x="1333" y="1369"/>
                      </a:lnTo>
                      <a:lnTo>
                        <a:pt x="1374" y="1347"/>
                      </a:lnTo>
                      <a:lnTo>
                        <a:pt x="1465" y="1305"/>
                      </a:lnTo>
                      <a:lnTo>
                        <a:pt x="1635" y="1171"/>
                      </a:lnTo>
                      <a:lnTo>
                        <a:pt x="1526" y="1284"/>
                      </a:lnTo>
                      <a:lnTo>
                        <a:pt x="1457" y="1345"/>
                      </a:lnTo>
                      <a:lnTo>
                        <a:pt x="1369" y="1394"/>
                      </a:lnTo>
                      <a:lnTo>
                        <a:pt x="1275" y="1455"/>
                      </a:lnTo>
                      <a:lnTo>
                        <a:pt x="1182" y="1514"/>
                      </a:lnTo>
                      <a:lnTo>
                        <a:pt x="1098" y="1567"/>
                      </a:lnTo>
                      <a:lnTo>
                        <a:pt x="1023" y="1617"/>
                      </a:lnTo>
                      <a:lnTo>
                        <a:pt x="966" y="1656"/>
                      </a:lnTo>
                      <a:lnTo>
                        <a:pt x="887" y="1697"/>
                      </a:lnTo>
                      <a:lnTo>
                        <a:pt x="893" y="1778"/>
                      </a:lnTo>
                      <a:lnTo>
                        <a:pt x="905" y="1834"/>
                      </a:lnTo>
                      <a:lnTo>
                        <a:pt x="909" y="1924"/>
                      </a:lnTo>
                      <a:lnTo>
                        <a:pt x="909" y="2000"/>
                      </a:lnTo>
                      <a:lnTo>
                        <a:pt x="913" y="2132"/>
                      </a:lnTo>
                      <a:lnTo>
                        <a:pt x="924" y="2243"/>
                      </a:lnTo>
                      <a:lnTo>
                        <a:pt x="924" y="2401"/>
                      </a:lnTo>
                      <a:lnTo>
                        <a:pt x="916" y="2526"/>
                      </a:lnTo>
                      <a:lnTo>
                        <a:pt x="916" y="2656"/>
                      </a:lnTo>
                      <a:lnTo>
                        <a:pt x="935" y="2753"/>
                      </a:lnTo>
                      <a:lnTo>
                        <a:pt x="942" y="2931"/>
                      </a:lnTo>
                      <a:lnTo>
                        <a:pt x="933" y="3149"/>
                      </a:lnTo>
                      <a:lnTo>
                        <a:pt x="942" y="3375"/>
                      </a:lnTo>
                      <a:lnTo>
                        <a:pt x="942" y="3618"/>
                      </a:lnTo>
                      <a:lnTo>
                        <a:pt x="968" y="3642"/>
                      </a:lnTo>
                      <a:lnTo>
                        <a:pt x="1011" y="3666"/>
                      </a:lnTo>
                      <a:lnTo>
                        <a:pt x="916" y="3654"/>
                      </a:lnTo>
                      <a:lnTo>
                        <a:pt x="835" y="3642"/>
                      </a:lnTo>
                      <a:lnTo>
                        <a:pt x="790" y="3666"/>
                      </a:lnTo>
                      <a:lnTo>
                        <a:pt x="748" y="3645"/>
                      </a:lnTo>
                      <a:lnTo>
                        <a:pt x="615" y="3663"/>
                      </a:lnTo>
                      <a:lnTo>
                        <a:pt x="676" y="3608"/>
                      </a:lnTo>
                      <a:lnTo>
                        <a:pt x="682" y="3578"/>
                      </a:lnTo>
                      <a:lnTo>
                        <a:pt x="700" y="3311"/>
                      </a:lnTo>
                      <a:lnTo>
                        <a:pt x="700" y="3125"/>
                      </a:lnTo>
                      <a:lnTo>
                        <a:pt x="700" y="2956"/>
                      </a:lnTo>
                      <a:lnTo>
                        <a:pt x="700" y="28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97"/>
                <p:cNvSpPr/>
                <p:nvPr/>
              </p:nvSpPr>
              <p:spPr>
                <a:xfrm>
                  <a:off x="2046600" y="5397480"/>
                  <a:ext cx="284040" cy="1133640"/>
                </a:xfrm>
                <a:custGeom>
                  <a:avLst/>
                  <a:gdLst>
                    <a:gd name="textAreaLeft" fmla="*/ 0 w 284040"/>
                    <a:gd name="textAreaRight" fmla="*/ 284040 w 284040"/>
                    <a:gd name="textAreaTop" fmla="*/ 0 h 1133640"/>
                    <a:gd name="textAreaBottom" fmla="*/ 1134000 h 1133640"/>
                  </a:gdLst>
                  <a:ahLst/>
                  <a:rect l="textAreaLeft" t="textAreaTop" r="textAreaRight" b="textAreaBottom"/>
                  <a:pathLst>
                    <a:path w="715" h="3570">
                      <a:moveTo>
                        <a:pt x="156" y="2588"/>
                      </a:moveTo>
                      <a:lnTo>
                        <a:pt x="163" y="2534"/>
                      </a:lnTo>
                      <a:lnTo>
                        <a:pt x="162" y="2503"/>
                      </a:lnTo>
                      <a:lnTo>
                        <a:pt x="166" y="2468"/>
                      </a:lnTo>
                      <a:lnTo>
                        <a:pt x="166" y="2433"/>
                      </a:lnTo>
                      <a:lnTo>
                        <a:pt x="167" y="2397"/>
                      </a:lnTo>
                      <a:lnTo>
                        <a:pt x="169" y="2365"/>
                      </a:lnTo>
                      <a:lnTo>
                        <a:pt x="172" y="2337"/>
                      </a:lnTo>
                      <a:lnTo>
                        <a:pt x="173" y="2309"/>
                      </a:lnTo>
                      <a:lnTo>
                        <a:pt x="176" y="2259"/>
                      </a:lnTo>
                      <a:lnTo>
                        <a:pt x="173" y="2214"/>
                      </a:lnTo>
                      <a:lnTo>
                        <a:pt x="175" y="2165"/>
                      </a:lnTo>
                      <a:lnTo>
                        <a:pt x="169" y="2113"/>
                      </a:lnTo>
                      <a:lnTo>
                        <a:pt x="166" y="2067"/>
                      </a:lnTo>
                      <a:lnTo>
                        <a:pt x="162" y="2020"/>
                      </a:lnTo>
                      <a:lnTo>
                        <a:pt x="160" y="1955"/>
                      </a:lnTo>
                      <a:lnTo>
                        <a:pt x="159" y="1899"/>
                      </a:lnTo>
                      <a:lnTo>
                        <a:pt x="159" y="1852"/>
                      </a:lnTo>
                      <a:lnTo>
                        <a:pt x="158" y="1805"/>
                      </a:lnTo>
                      <a:lnTo>
                        <a:pt x="158" y="1759"/>
                      </a:lnTo>
                      <a:lnTo>
                        <a:pt x="144" y="1687"/>
                      </a:lnTo>
                      <a:lnTo>
                        <a:pt x="136" y="1634"/>
                      </a:lnTo>
                      <a:lnTo>
                        <a:pt x="133" y="1609"/>
                      </a:lnTo>
                      <a:lnTo>
                        <a:pt x="151" y="1576"/>
                      </a:lnTo>
                      <a:lnTo>
                        <a:pt x="185" y="1549"/>
                      </a:lnTo>
                      <a:lnTo>
                        <a:pt x="207" y="1535"/>
                      </a:lnTo>
                      <a:lnTo>
                        <a:pt x="252" y="1517"/>
                      </a:lnTo>
                      <a:lnTo>
                        <a:pt x="304" y="1488"/>
                      </a:lnTo>
                      <a:lnTo>
                        <a:pt x="367" y="1451"/>
                      </a:lnTo>
                      <a:lnTo>
                        <a:pt x="426" y="1419"/>
                      </a:lnTo>
                      <a:lnTo>
                        <a:pt x="462" y="1391"/>
                      </a:lnTo>
                      <a:lnTo>
                        <a:pt x="523" y="1357"/>
                      </a:lnTo>
                      <a:lnTo>
                        <a:pt x="599" y="1310"/>
                      </a:lnTo>
                      <a:lnTo>
                        <a:pt x="715" y="1241"/>
                      </a:lnTo>
                      <a:lnTo>
                        <a:pt x="671" y="1256"/>
                      </a:lnTo>
                      <a:lnTo>
                        <a:pt x="625" y="1277"/>
                      </a:lnTo>
                      <a:lnTo>
                        <a:pt x="572" y="1306"/>
                      </a:lnTo>
                      <a:lnTo>
                        <a:pt x="437" y="1379"/>
                      </a:lnTo>
                      <a:lnTo>
                        <a:pt x="375" y="1422"/>
                      </a:lnTo>
                      <a:lnTo>
                        <a:pt x="325" y="1452"/>
                      </a:lnTo>
                      <a:lnTo>
                        <a:pt x="287" y="1474"/>
                      </a:lnTo>
                      <a:lnTo>
                        <a:pt x="221" y="1507"/>
                      </a:lnTo>
                      <a:lnTo>
                        <a:pt x="181" y="1528"/>
                      </a:lnTo>
                      <a:lnTo>
                        <a:pt x="149" y="1541"/>
                      </a:lnTo>
                      <a:lnTo>
                        <a:pt x="134" y="1549"/>
                      </a:lnTo>
                      <a:lnTo>
                        <a:pt x="122" y="1555"/>
                      </a:lnTo>
                      <a:lnTo>
                        <a:pt x="119" y="1524"/>
                      </a:lnTo>
                      <a:lnTo>
                        <a:pt x="114" y="1495"/>
                      </a:lnTo>
                      <a:lnTo>
                        <a:pt x="107" y="1445"/>
                      </a:lnTo>
                      <a:lnTo>
                        <a:pt x="106" y="1400"/>
                      </a:lnTo>
                      <a:lnTo>
                        <a:pt x="105" y="1332"/>
                      </a:lnTo>
                      <a:lnTo>
                        <a:pt x="100" y="1287"/>
                      </a:lnTo>
                      <a:lnTo>
                        <a:pt x="98" y="1250"/>
                      </a:lnTo>
                      <a:lnTo>
                        <a:pt x="100" y="1201"/>
                      </a:lnTo>
                      <a:lnTo>
                        <a:pt x="109" y="1181"/>
                      </a:lnTo>
                      <a:lnTo>
                        <a:pt x="138" y="1166"/>
                      </a:lnTo>
                      <a:lnTo>
                        <a:pt x="173" y="1145"/>
                      </a:lnTo>
                      <a:lnTo>
                        <a:pt x="206" y="1123"/>
                      </a:lnTo>
                      <a:lnTo>
                        <a:pt x="237" y="1100"/>
                      </a:lnTo>
                      <a:lnTo>
                        <a:pt x="264" y="1086"/>
                      </a:lnTo>
                      <a:lnTo>
                        <a:pt x="292" y="1057"/>
                      </a:lnTo>
                      <a:lnTo>
                        <a:pt x="329" y="1029"/>
                      </a:lnTo>
                      <a:lnTo>
                        <a:pt x="360" y="1005"/>
                      </a:lnTo>
                      <a:lnTo>
                        <a:pt x="397" y="972"/>
                      </a:lnTo>
                      <a:lnTo>
                        <a:pt x="426" y="947"/>
                      </a:lnTo>
                      <a:lnTo>
                        <a:pt x="450" y="921"/>
                      </a:lnTo>
                      <a:lnTo>
                        <a:pt x="417" y="938"/>
                      </a:lnTo>
                      <a:lnTo>
                        <a:pt x="376" y="975"/>
                      </a:lnTo>
                      <a:lnTo>
                        <a:pt x="344" y="1005"/>
                      </a:lnTo>
                      <a:lnTo>
                        <a:pt x="274" y="1059"/>
                      </a:lnTo>
                      <a:lnTo>
                        <a:pt x="247" y="1083"/>
                      </a:lnTo>
                      <a:lnTo>
                        <a:pt x="213" y="1105"/>
                      </a:lnTo>
                      <a:lnTo>
                        <a:pt x="172" y="1133"/>
                      </a:lnTo>
                      <a:lnTo>
                        <a:pt x="129" y="1151"/>
                      </a:lnTo>
                      <a:lnTo>
                        <a:pt x="97" y="1166"/>
                      </a:lnTo>
                      <a:lnTo>
                        <a:pt x="88" y="1138"/>
                      </a:lnTo>
                      <a:lnTo>
                        <a:pt x="83" y="1105"/>
                      </a:lnTo>
                      <a:lnTo>
                        <a:pt x="79" y="1092"/>
                      </a:lnTo>
                      <a:lnTo>
                        <a:pt x="81" y="1050"/>
                      </a:lnTo>
                      <a:lnTo>
                        <a:pt x="78" y="1020"/>
                      </a:lnTo>
                      <a:lnTo>
                        <a:pt x="76" y="991"/>
                      </a:lnTo>
                      <a:lnTo>
                        <a:pt x="76" y="963"/>
                      </a:lnTo>
                      <a:lnTo>
                        <a:pt x="80" y="918"/>
                      </a:lnTo>
                      <a:lnTo>
                        <a:pt x="80" y="872"/>
                      </a:lnTo>
                      <a:lnTo>
                        <a:pt x="84" y="830"/>
                      </a:lnTo>
                      <a:lnTo>
                        <a:pt x="89" y="794"/>
                      </a:lnTo>
                      <a:lnTo>
                        <a:pt x="100" y="729"/>
                      </a:lnTo>
                      <a:lnTo>
                        <a:pt x="106" y="683"/>
                      </a:lnTo>
                      <a:lnTo>
                        <a:pt x="109" y="662"/>
                      </a:lnTo>
                      <a:lnTo>
                        <a:pt x="141" y="640"/>
                      </a:lnTo>
                      <a:lnTo>
                        <a:pt x="166" y="618"/>
                      </a:lnTo>
                      <a:lnTo>
                        <a:pt x="189" y="596"/>
                      </a:lnTo>
                      <a:lnTo>
                        <a:pt x="212" y="577"/>
                      </a:lnTo>
                      <a:lnTo>
                        <a:pt x="230" y="553"/>
                      </a:lnTo>
                      <a:lnTo>
                        <a:pt x="260" y="531"/>
                      </a:lnTo>
                      <a:lnTo>
                        <a:pt x="298" y="497"/>
                      </a:lnTo>
                      <a:lnTo>
                        <a:pt x="325" y="471"/>
                      </a:lnTo>
                      <a:lnTo>
                        <a:pt x="357" y="445"/>
                      </a:lnTo>
                      <a:lnTo>
                        <a:pt x="387" y="415"/>
                      </a:lnTo>
                      <a:lnTo>
                        <a:pt x="319" y="464"/>
                      </a:lnTo>
                      <a:lnTo>
                        <a:pt x="303" y="478"/>
                      </a:lnTo>
                      <a:lnTo>
                        <a:pt x="279" y="496"/>
                      </a:lnTo>
                      <a:lnTo>
                        <a:pt x="264" y="508"/>
                      </a:lnTo>
                      <a:lnTo>
                        <a:pt x="206" y="566"/>
                      </a:lnTo>
                      <a:lnTo>
                        <a:pt x="177" y="596"/>
                      </a:lnTo>
                      <a:lnTo>
                        <a:pt x="131" y="631"/>
                      </a:lnTo>
                      <a:lnTo>
                        <a:pt x="101" y="649"/>
                      </a:lnTo>
                      <a:lnTo>
                        <a:pt x="97" y="642"/>
                      </a:lnTo>
                      <a:lnTo>
                        <a:pt x="100" y="593"/>
                      </a:lnTo>
                      <a:lnTo>
                        <a:pt x="100" y="543"/>
                      </a:lnTo>
                      <a:lnTo>
                        <a:pt x="97" y="495"/>
                      </a:lnTo>
                      <a:lnTo>
                        <a:pt x="96" y="449"/>
                      </a:lnTo>
                      <a:lnTo>
                        <a:pt x="93" y="389"/>
                      </a:lnTo>
                      <a:lnTo>
                        <a:pt x="80" y="289"/>
                      </a:lnTo>
                      <a:lnTo>
                        <a:pt x="67" y="223"/>
                      </a:lnTo>
                      <a:lnTo>
                        <a:pt x="61" y="120"/>
                      </a:lnTo>
                      <a:lnTo>
                        <a:pt x="41" y="0"/>
                      </a:lnTo>
                      <a:lnTo>
                        <a:pt x="52" y="186"/>
                      </a:lnTo>
                      <a:lnTo>
                        <a:pt x="58" y="277"/>
                      </a:lnTo>
                      <a:lnTo>
                        <a:pt x="62" y="333"/>
                      </a:lnTo>
                      <a:lnTo>
                        <a:pt x="62" y="385"/>
                      </a:lnTo>
                      <a:lnTo>
                        <a:pt x="57" y="449"/>
                      </a:lnTo>
                      <a:lnTo>
                        <a:pt x="58" y="504"/>
                      </a:lnTo>
                      <a:lnTo>
                        <a:pt x="59" y="559"/>
                      </a:lnTo>
                      <a:lnTo>
                        <a:pt x="54" y="618"/>
                      </a:lnTo>
                      <a:lnTo>
                        <a:pt x="45" y="688"/>
                      </a:lnTo>
                      <a:lnTo>
                        <a:pt x="32" y="758"/>
                      </a:lnTo>
                      <a:lnTo>
                        <a:pt x="21" y="791"/>
                      </a:lnTo>
                      <a:lnTo>
                        <a:pt x="21" y="836"/>
                      </a:lnTo>
                      <a:lnTo>
                        <a:pt x="9" y="879"/>
                      </a:lnTo>
                      <a:lnTo>
                        <a:pt x="9" y="940"/>
                      </a:lnTo>
                      <a:lnTo>
                        <a:pt x="0" y="997"/>
                      </a:lnTo>
                      <a:lnTo>
                        <a:pt x="6" y="1035"/>
                      </a:lnTo>
                      <a:lnTo>
                        <a:pt x="8" y="1076"/>
                      </a:lnTo>
                      <a:lnTo>
                        <a:pt x="17" y="1123"/>
                      </a:lnTo>
                      <a:lnTo>
                        <a:pt x="15" y="1174"/>
                      </a:lnTo>
                      <a:lnTo>
                        <a:pt x="27" y="1221"/>
                      </a:lnTo>
                      <a:lnTo>
                        <a:pt x="24" y="1269"/>
                      </a:lnTo>
                      <a:lnTo>
                        <a:pt x="28" y="1302"/>
                      </a:lnTo>
                      <a:lnTo>
                        <a:pt x="31" y="1363"/>
                      </a:lnTo>
                      <a:lnTo>
                        <a:pt x="32" y="1454"/>
                      </a:lnTo>
                      <a:lnTo>
                        <a:pt x="36" y="1524"/>
                      </a:lnTo>
                      <a:lnTo>
                        <a:pt x="48" y="1583"/>
                      </a:lnTo>
                      <a:lnTo>
                        <a:pt x="48" y="1632"/>
                      </a:lnTo>
                      <a:lnTo>
                        <a:pt x="54" y="1703"/>
                      </a:lnTo>
                      <a:lnTo>
                        <a:pt x="54" y="1781"/>
                      </a:lnTo>
                      <a:lnTo>
                        <a:pt x="54" y="1818"/>
                      </a:lnTo>
                      <a:lnTo>
                        <a:pt x="62" y="1866"/>
                      </a:lnTo>
                      <a:lnTo>
                        <a:pt x="61" y="1908"/>
                      </a:lnTo>
                      <a:lnTo>
                        <a:pt x="70" y="1952"/>
                      </a:lnTo>
                      <a:lnTo>
                        <a:pt x="67" y="2016"/>
                      </a:lnTo>
                      <a:lnTo>
                        <a:pt x="61" y="2055"/>
                      </a:lnTo>
                      <a:lnTo>
                        <a:pt x="67" y="2109"/>
                      </a:lnTo>
                      <a:lnTo>
                        <a:pt x="62" y="2159"/>
                      </a:lnTo>
                      <a:lnTo>
                        <a:pt x="67" y="2207"/>
                      </a:lnTo>
                      <a:lnTo>
                        <a:pt x="62" y="2249"/>
                      </a:lnTo>
                      <a:lnTo>
                        <a:pt x="67" y="2316"/>
                      </a:lnTo>
                      <a:lnTo>
                        <a:pt x="62" y="2346"/>
                      </a:lnTo>
                      <a:lnTo>
                        <a:pt x="67" y="2378"/>
                      </a:lnTo>
                      <a:lnTo>
                        <a:pt x="67" y="2423"/>
                      </a:lnTo>
                      <a:lnTo>
                        <a:pt x="62" y="2459"/>
                      </a:lnTo>
                      <a:lnTo>
                        <a:pt x="61" y="2494"/>
                      </a:lnTo>
                      <a:lnTo>
                        <a:pt x="59" y="2544"/>
                      </a:lnTo>
                      <a:lnTo>
                        <a:pt x="58" y="2581"/>
                      </a:lnTo>
                      <a:lnTo>
                        <a:pt x="61" y="2598"/>
                      </a:lnTo>
                      <a:lnTo>
                        <a:pt x="54" y="2642"/>
                      </a:lnTo>
                      <a:lnTo>
                        <a:pt x="68" y="2757"/>
                      </a:lnTo>
                      <a:lnTo>
                        <a:pt x="66" y="2828"/>
                      </a:lnTo>
                      <a:lnTo>
                        <a:pt x="68" y="2937"/>
                      </a:lnTo>
                      <a:lnTo>
                        <a:pt x="75" y="3109"/>
                      </a:lnTo>
                      <a:lnTo>
                        <a:pt x="62" y="3263"/>
                      </a:lnTo>
                      <a:lnTo>
                        <a:pt x="79" y="3378"/>
                      </a:lnTo>
                      <a:lnTo>
                        <a:pt x="85" y="3466"/>
                      </a:lnTo>
                      <a:lnTo>
                        <a:pt x="68" y="3530"/>
                      </a:lnTo>
                      <a:lnTo>
                        <a:pt x="45" y="3570"/>
                      </a:lnTo>
                      <a:lnTo>
                        <a:pt x="90" y="3550"/>
                      </a:lnTo>
                      <a:lnTo>
                        <a:pt x="111" y="3535"/>
                      </a:lnTo>
                      <a:lnTo>
                        <a:pt x="136" y="3549"/>
                      </a:lnTo>
                      <a:lnTo>
                        <a:pt x="175" y="3558"/>
                      </a:lnTo>
                      <a:lnTo>
                        <a:pt x="226" y="3568"/>
                      </a:lnTo>
                      <a:lnTo>
                        <a:pt x="189" y="3543"/>
                      </a:lnTo>
                      <a:lnTo>
                        <a:pt x="185" y="3519"/>
                      </a:lnTo>
                      <a:lnTo>
                        <a:pt x="182" y="3443"/>
                      </a:lnTo>
                      <a:lnTo>
                        <a:pt x="180" y="3363"/>
                      </a:lnTo>
                      <a:lnTo>
                        <a:pt x="180" y="3267"/>
                      </a:lnTo>
                      <a:lnTo>
                        <a:pt x="176" y="3154"/>
                      </a:lnTo>
                      <a:lnTo>
                        <a:pt x="166" y="3024"/>
                      </a:lnTo>
                      <a:lnTo>
                        <a:pt x="180" y="2887"/>
                      </a:lnTo>
                      <a:lnTo>
                        <a:pt x="180" y="2788"/>
                      </a:lnTo>
                      <a:lnTo>
                        <a:pt x="169" y="2660"/>
                      </a:lnTo>
                      <a:lnTo>
                        <a:pt x="156" y="25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98"/>
              <p:cNvGrpSpPr/>
              <p:nvPr/>
            </p:nvGrpSpPr>
            <p:grpSpPr>
              <a:xfrm>
                <a:off x="1676520" y="5334120"/>
                <a:ext cx="755640" cy="758880"/>
                <a:chOff x="1676520" y="5334120"/>
                <a:chExt cx="755640" cy="758880"/>
              </a:xfrm>
            </p:grpSpPr>
            <p:grpSp>
              <p:nvGrpSpPr>
                <p:cNvPr id="334" name="Group 99"/>
                <p:cNvGrpSpPr/>
                <p:nvPr/>
              </p:nvGrpSpPr>
              <p:grpSpPr>
                <a:xfrm>
                  <a:off x="1676520" y="5904000"/>
                  <a:ext cx="752760" cy="189000"/>
                  <a:chOff x="1676520" y="5904000"/>
                  <a:chExt cx="752760" cy="189000"/>
                </a:xfrm>
              </p:grpSpPr>
              <p:sp>
                <p:nvSpPr>
                  <p:cNvPr id="335" name="Freeform 100"/>
                  <p:cNvSpPr/>
                  <p:nvPr/>
                </p:nvSpPr>
                <p:spPr>
                  <a:xfrm>
                    <a:off x="1676520" y="5904000"/>
                    <a:ext cx="752760" cy="189000"/>
                  </a:xfrm>
                  <a:custGeom>
                    <a:avLst/>
                    <a:gdLst>
                      <a:gd name="textAreaLeft" fmla="*/ 0 w 752760"/>
                      <a:gd name="textAreaRight" fmla="*/ 753120 w 752760"/>
                      <a:gd name="textAreaTop" fmla="*/ 0 h 189000"/>
                      <a:gd name="textAreaBottom" fmla="*/ 189360 h 189000"/>
                    </a:gdLst>
                    <a:ahLst/>
                    <a:rect l="textAreaLeft" t="textAreaTop" r="textAreaRight" b="textAreaBottom"/>
                    <a:pathLst>
                      <a:path w="1895" h="595">
                        <a:moveTo>
                          <a:pt x="830" y="0"/>
                        </a:moveTo>
                        <a:lnTo>
                          <a:pt x="856" y="20"/>
                        </a:lnTo>
                        <a:lnTo>
                          <a:pt x="885" y="11"/>
                        </a:lnTo>
                        <a:lnTo>
                          <a:pt x="905" y="46"/>
                        </a:lnTo>
                        <a:lnTo>
                          <a:pt x="943" y="33"/>
                        </a:lnTo>
                        <a:lnTo>
                          <a:pt x="969" y="63"/>
                        </a:lnTo>
                        <a:lnTo>
                          <a:pt x="1004" y="50"/>
                        </a:lnTo>
                        <a:lnTo>
                          <a:pt x="1023" y="86"/>
                        </a:lnTo>
                        <a:lnTo>
                          <a:pt x="1046" y="73"/>
                        </a:lnTo>
                        <a:lnTo>
                          <a:pt x="1072" y="103"/>
                        </a:lnTo>
                        <a:lnTo>
                          <a:pt x="1102" y="90"/>
                        </a:lnTo>
                        <a:lnTo>
                          <a:pt x="1119" y="138"/>
                        </a:lnTo>
                        <a:lnTo>
                          <a:pt x="1154" y="130"/>
                        </a:lnTo>
                        <a:lnTo>
                          <a:pt x="1159" y="164"/>
                        </a:lnTo>
                        <a:lnTo>
                          <a:pt x="1189" y="172"/>
                        </a:lnTo>
                        <a:lnTo>
                          <a:pt x="1194" y="230"/>
                        </a:lnTo>
                        <a:lnTo>
                          <a:pt x="1217" y="245"/>
                        </a:lnTo>
                        <a:lnTo>
                          <a:pt x="1248" y="204"/>
                        </a:lnTo>
                        <a:lnTo>
                          <a:pt x="1286" y="218"/>
                        </a:lnTo>
                        <a:lnTo>
                          <a:pt x="1303" y="184"/>
                        </a:lnTo>
                        <a:lnTo>
                          <a:pt x="1344" y="169"/>
                        </a:lnTo>
                        <a:lnTo>
                          <a:pt x="1366" y="208"/>
                        </a:lnTo>
                        <a:lnTo>
                          <a:pt x="1401" y="194"/>
                        </a:lnTo>
                        <a:lnTo>
                          <a:pt x="1433" y="204"/>
                        </a:lnTo>
                        <a:lnTo>
                          <a:pt x="1462" y="190"/>
                        </a:lnTo>
                        <a:lnTo>
                          <a:pt x="1473" y="221"/>
                        </a:lnTo>
                        <a:lnTo>
                          <a:pt x="1499" y="201"/>
                        </a:lnTo>
                        <a:lnTo>
                          <a:pt x="1525" y="212"/>
                        </a:lnTo>
                        <a:lnTo>
                          <a:pt x="1537" y="269"/>
                        </a:lnTo>
                        <a:lnTo>
                          <a:pt x="1557" y="279"/>
                        </a:lnTo>
                        <a:lnTo>
                          <a:pt x="1574" y="317"/>
                        </a:lnTo>
                        <a:lnTo>
                          <a:pt x="1609" y="331"/>
                        </a:lnTo>
                        <a:lnTo>
                          <a:pt x="1647" y="326"/>
                        </a:lnTo>
                        <a:lnTo>
                          <a:pt x="1670" y="353"/>
                        </a:lnTo>
                        <a:lnTo>
                          <a:pt x="1701" y="340"/>
                        </a:lnTo>
                        <a:lnTo>
                          <a:pt x="1719" y="365"/>
                        </a:lnTo>
                        <a:lnTo>
                          <a:pt x="1742" y="357"/>
                        </a:lnTo>
                        <a:lnTo>
                          <a:pt x="1768" y="391"/>
                        </a:lnTo>
                        <a:lnTo>
                          <a:pt x="1794" y="392"/>
                        </a:lnTo>
                        <a:lnTo>
                          <a:pt x="1794" y="423"/>
                        </a:lnTo>
                        <a:lnTo>
                          <a:pt x="1811" y="436"/>
                        </a:lnTo>
                        <a:lnTo>
                          <a:pt x="1806" y="487"/>
                        </a:lnTo>
                        <a:lnTo>
                          <a:pt x="1823" y="516"/>
                        </a:lnTo>
                        <a:lnTo>
                          <a:pt x="1855" y="524"/>
                        </a:lnTo>
                        <a:lnTo>
                          <a:pt x="1881" y="516"/>
                        </a:lnTo>
                        <a:lnTo>
                          <a:pt x="1895" y="562"/>
                        </a:lnTo>
                        <a:lnTo>
                          <a:pt x="1874" y="567"/>
                        </a:lnTo>
                        <a:lnTo>
                          <a:pt x="1855" y="588"/>
                        </a:lnTo>
                        <a:lnTo>
                          <a:pt x="1832" y="567"/>
                        </a:lnTo>
                        <a:lnTo>
                          <a:pt x="1811" y="570"/>
                        </a:lnTo>
                        <a:lnTo>
                          <a:pt x="1780" y="549"/>
                        </a:lnTo>
                        <a:lnTo>
                          <a:pt x="1753" y="562"/>
                        </a:lnTo>
                        <a:lnTo>
                          <a:pt x="1728" y="554"/>
                        </a:lnTo>
                        <a:lnTo>
                          <a:pt x="1713" y="580"/>
                        </a:lnTo>
                        <a:lnTo>
                          <a:pt x="1689" y="567"/>
                        </a:lnTo>
                        <a:lnTo>
                          <a:pt x="1673" y="588"/>
                        </a:lnTo>
                        <a:lnTo>
                          <a:pt x="1638" y="595"/>
                        </a:lnTo>
                        <a:lnTo>
                          <a:pt x="1623" y="554"/>
                        </a:lnTo>
                        <a:lnTo>
                          <a:pt x="1591" y="562"/>
                        </a:lnTo>
                        <a:lnTo>
                          <a:pt x="1569" y="541"/>
                        </a:lnTo>
                        <a:lnTo>
                          <a:pt x="1539" y="554"/>
                        </a:lnTo>
                        <a:lnTo>
                          <a:pt x="1520" y="519"/>
                        </a:lnTo>
                        <a:lnTo>
                          <a:pt x="1491" y="532"/>
                        </a:lnTo>
                        <a:lnTo>
                          <a:pt x="1453" y="507"/>
                        </a:lnTo>
                        <a:lnTo>
                          <a:pt x="1428" y="509"/>
                        </a:lnTo>
                        <a:lnTo>
                          <a:pt x="1396" y="484"/>
                        </a:lnTo>
                        <a:lnTo>
                          <a:pt x="1354" y="492"/>
                        </a:lnTo>
                        <a:lnTo>
                          <a:pt x="1326" y="472"/>
                        </a:lnTo>
                        <a:lnTo>
                          <a:pt x="1295" y="492"/>
                        </a:lnTo>
                        <a:lnTo>
                          <a:pt x="1271" y="449"/>
                        </a:lnTo>
                        <a:lnTo>
                          <a:pt x="1248" y="470"/>
                        </a:lnTo>
                        <a:lnTo>
                          <a:pt x="1220" y="440"/>
                        </a:lnTo>
                        <a:lnTo>
                          <a:pt x="1196" y="452"/>
                        </a:lnTo>
                        <a:lnTo>
                          <a:pt x="1165" y="436"/>
                        </a:lnTo>
                        <a:lnTo>
                          <a:pt x="1130" y="427"/>
                        </a:lnTo>
                        <a:lnTo>
                          <a:pt x="1107" y="461"/>
                        </a:lnTo>
                        <a:lnTo>
                          <a:pt x="1075" y="440"/>
                        </a:lnTo>
                        <a:lnTo>
                          <a:pt x="1050" y="470"/>
                        </a:lnTo>
                        <a:lnTo>
                          <a:pt x="1009" y="464"/>
                        </a:lnTo>
                        <a:lnTo>
                          <a:pt x="997" y="498"/>
                        </a:lnTo>
                        <a:lnTo>
                          <a:pt x="976" y="476"/>
                        </a:lnTo>
                        <a:lnTo>
                          <a:pt x="940" y="501"/>
                        </a:lnTo>
                        <a:lnTo>
                          <a:pt x="920" y="487"/>
                        </a:lnTo>
                        <a:lnTo>
                          <a:pt x="888" y="492"/>
                        </a:lnTo>
                        <a:lnTo>
                          <a:pt x="861" y="470"/>
                        </a:lnTo>
                        <a:lnTo>
                          <a:pt x="819" y="481"/>
                        </a:lnTo>
                        <a:lnTo>
                          <a:pt x="790" y="446"/>
                        </a:lnTo>
                        <a:lnTo>
                          <a:pt x="758" y="440"/>
                        </a:lnTo>
                        <a:lnTo>
                          <a:pt x="744" y="499"/>
                        </a:lnTo>
                        <a:lnTo>
                          <a:pt x="728" y="452"/>
                        </a:lnTo>
                        <a:lnTo>
                          <a:pt x="703" y="446"/>
                        </a:lnTo>
                        <a:lnTo>
                          <a:pt x="665" y="470"/>
                        </a:lnTo>
                        <a:lnTo>
                          <a:pt x="631" y="449"/>
                        </a:lnTo>
                        <a:lnTo>
                          <a:pt x="610" y="487"/>
                        </a:lnTo>
                        <a:lnTo>
                          <a:pt x="570" y="499"/>
                        </a:lnTo>
                        <a:lnTo>
                          <a:pt x="544" y="519"/>
                        </a:lnTo>
                        <a:lnTo>
                          <a:pt x="516" y="506"/>
                        </a:lnTo>
                        <a:lnTo>
                          <a:pt x="481" y="536"/>
                        </a:lnTo>
                        <a:lnTo>
                          <a:pt x="458" y="519"/>
                        </a:lnTo>
                        <a:lnTo>
                          <a:pt x="441" y="549"/>
                        </a:lnTo>
                        <a:lnTo>
                          <a:pt x="420" y="532"/>
                        </a:lnTo>
                        <a:lnTo>
                          <a:pt x="397" y="560"/>
                        </a:lnTo>
                        <a:lnTo>
                          <a:pt x="377" y="519"/>
                        </a:lnTo>
                        <a:lnTo>
                          <a:pt x="350" y="524"/>
                        </a:lnTo>
                        <a:lnTo>
                          <a:pt x="337" y="492"/>
                        </a:lnTo>
                        <a:lnTo>
                          <a:pt x="310" y="507"/>
                        </a:lnTo>
                        <a:lnTo>
                          <a:pt x="291" y="498"/>
                        </a:lnTo>
                        <a:lnTo>
                          <a:pt x="275" y="519"/>
                        </a:lnTo>
                        <a:lnTo>
                          <a:pt x="251" y="506"/>
                        </a:lnTo>
                        <a:lnTo>
                          <a:pt x="227" y="527"/>
                        </a:lnTo>
                        <a:lnTo>
                          <a:pt x="195" y="519"/>
                        </a:lnTo>
                        <a:lnTo>
                          <a:pt x="172" y="549"/>
                        </a:lnTo>
                        <a:lnTo>
                          <a:pt x="152" y="545"/>
                        </a:lnTo>
                        <a:lnTo>
                          <a:pt x="129" y="567"/>
                        </a:lnTo>
                        <a:lnTo>
                          <a:pt x="100" y="554"/>
                        </a:lnTo>
                        <a:lnTo>
                          <a:pt x="85" y="570"/>
                        </a:lnTo>
                        <a:lnTo>
                          <a:pt x="59" y="559"/>
                        </a:lnTo>
                        <a:lnTo>
                          <a:pt x="42" y="584"/>
                        </a:lnTo>
                        <a:lnTo>
                          <a:pt x="0" y="586"/>
                        </a:lnTo>
                        <a:lnTo>
                          <a:pt x="31" y="541"/>
                        </a:lnTo>
                        <a:lnTo>
                          <a:pt x="28" y="501"/>
                        </a:lnTo>
                        <a:lnTo>
                          <a:pt x="50" y="470"/>
                        </a:lnTo>
                        <a:lnTo>
                          <a:pt x="45" y="427"/>
                        </a:lnTo>
                        <a:lnTo>
                          <a:pt x="77" y="413"/>
                        </a:lnTo>
                        <a:lnTo>
                          <a:pt x="103" y="388"/>
                        </a:lnTo>
                        <a:lnTo>
                          <a:pt x="129" y="401"/>
                        </a:lnTo>
                        <a:lnTo>
                          <a:pt x="148" y="370"/>
                        </a:lnTo>
                        <a:lnTo>
                          <a:pt x="176" y="397"/>
                        </a:lnTo>
                        <a:lnTo>
                          <a:pt x="209" y="388"/>
                        </a:lnTo>
                        <a:lnTo>
                          <a:pt x="218" y="349"/>
                        </a:lnTo>
                        <a:lnTo>
                          <a:pt x="253" y="343"/>
                        </a:lnTo>
                        <a:lnTo>
                          <a:pt x="267" y="296"/>
                        </a:lnTo>
                        <a:lnTo>
                          <a:pt x="302" y="290"/>
                        </a:lnTo>
                        <a:lnTo>
                          <a:pt x="308" y="244"/>
                        </a:lnTo>
                        <a:lnTo>
                          <a:pt x="333" y="247"/>
                        </a:lnTo>
                        <a:lnTo>
                          <a:pt x="340" y="219"/>
                        </a:lnTo>
                        <a:lnTo>
                          <a:pt x="359" y="226"/>
                        </a:lnTo>
                        <a:lnTo>
                          <a:pt x="392" y="194"/>
                        </a:lnTo>
                        <a:lnTo>
                          <a:pt x="432" y="204"/>
                        </a:lnTo>
                        <a:lnTo>
                          <a:pt x="467" y="190"/>
                        </a:lnTo>
                        <a:lnTo>
                          <a:pt x="483" y="156"/>
                        </a:lnTo>
                        <a:lnTo>
                          <a:pt x="521" y="125"/>
                        </a:lnTo>
                        <a:lnTo>
                          <a:pt x="530" y="87"/>
                        </a:lnTo>
                        <a:lnTo>
                          <a:pt x="593" y="82"/>
                        </a:lnTo>
                        <a:lnTo>
                          <a:pt x="628" y="50"/>
                        </a:lnTo>
                        <a:lnTo>
                          <a:pt x="662" y="69"/>
                        </a:lnTo>
                        <a:lnTo>
                          <a:pt x="697" y="36"/>
                        </a:lnTo>
                        <a:lnTo>
                          <a:pt x="727" y="54"/>
                        </a:lnTo>
                        <a:lnTo>
                          <a:pt x="749" y="25"/>
                        </a:lnTo>
                        <a:lnTo>
                          <a:pt x="798" y="28"/>
                        </a:lnTo>
                        <a:lnTo>
                          <a:pt x="83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Freeform 101"/>
                  <p:cNvSpPr/>
                  <p:nvPr/>
                </p:nvSpPr>
                <p:spPr>
                  <a:xfrm>
                    <a:off x="1954440" y="5923080"/>
                    <a:ext cx="31680" cy="58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79" h="184">
                        <a:moveTo>
                          <a:pt x="72" y="0"/>
                        </a:moveTo>
                        <a:lnTo>
                          <a:pt x="79" y="53"/>
                        </a:lnTo>
                        <a:lnTo>
                          <a:pt x="35" y="75"/>
                        </a:lnTo>
                        <a:lnTo>
                          <a:pt x="46" y="131"/>
                        </a:lnTo>
                        <a:lnTo>
                          <a:pt x="20" y="141"/>
                        </a:lnTo>
                        <a:lnTo>
                          <a:pt x="28" y="184"/>
                        </a:lnTo>
                        <a:lnTo>
                          <a:pt x="0" y="149"/>
                        </a:lnTo>
                        <a:lnTo>
                          <a:pt x="15" y="101"/>
                        </a:lnTo>
                        <a:lnTo>
                          <a:pt x="9" y="83"/>
                        </a:lnTo>
                        <a:lnTo>
                          <a:pt x="11" y="53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02"/>
                  <p:cNvSpPr/>
                  <p:nvPr/>
                </p:nvSpPr>
                <p:spPr>
                  <a:xfrm>
                    <a:off x="1905120" y="5972040"/>
                    <a:ext cx="30240" cy="59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59040"/>
                      <a:gd name="textAreaBottom" fmla="*/ 59400 h 59040"/>
                    </a:gdLst>
                    <a:ahLst/>
                    <a:rect l="textAreaLeft" t="textAreaTop" r="textAreaRight" b="textAreaBottom"/>
                    <a:pathLst>
                      <a:path w="78" h="183">
                        <a:moveTo>
                          <a:pt x="71" y="0"/>
                        </a:moveTo>
                        <a:lnTo>
                          <a:pt x="78" y="51"/>
                        </a:lnTo>
                        <a:lnTo>
                          <a:pt x="34" y="72"/>
                        </a:lnTo>
                        <a:lnTo>
                          <a:pt x="45" y="130"/>
                        </a:lnTo>
                        <a:lnTo>
                          <a:pt x="19" y="139"/>
                        </a:lnTo>
                        <a:lnTo>
                          <a:pt x="29" y="183"/>
                        </a:lnTo>
                        <a:lnTo>
                          <a:pt x="0" y="147"/>
                        </a:lnTo>
                        <a:lnTo>
                          <a:pt x="13" y="99"/>
                        </a:lnTo>
                        <a:lnTo>
                          <a:pt x="8" y="82"/>
                        </a:lnTo>
                        <a:lnTo>
                          <a:pt x="12" y="5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Freeform 103"/>
                  <p:cNvSpPr/>
                  <p:nvPr/>
                </p:nvSpPr>
                <p:spPr>
                  <a:xfrm>
                    <a:off x="1835280" y="6002280"/>
                    <a:ext cx="58680" cy="5580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149" h="173">
                        <a:moveTo>
                          <a:pt x="139" y="0"/>
                        </a:moveTo>
                        <a:lnTo>
                          <a:pt x="149" y="50"/>
                        </a:lnTo>
                        <a:lnTo>
                          <a:pt x="66" y="70"/>
                        </a:lnTo>
                        <a:lnTo>
                          <a:pt x="89" y="124"/>
                        </a:lnTo>
                        <a:lnTo>
                          <a:pt x="39" y="133"/>
                        </a:lnTo>
                        <a:lnTo>
                          <a:pt x="56" y="173"/>
                        </a:lnTo>
                        <a:lnTo>
                          <a:pt x="0" y="143"/>
                        </a:lnTo>
                        <a:lnTo>
                          <a:pt x="27" y="95"/>
                        </a:lnTo>
                        <a:lnTo>
                          <a:pt x="17" y="78"/>
                        </a:lnTo>
                        <a:lnTo>
                          <a:pt x="22" y="50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Freeform 104"/>
                  <p:cNvSpPr/>
                  <p:nvPr/>
                </p:nvSpPr>
                <p:spPr>
                  <a:xfrm>
                    <a:off x="1787760" y="601992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90" h="118">
                        <a:moveTo>
                          <a:pt x="83" y="0"/>
                        </a:moveTo>
                        <a:lnTo>
                          <a:pt x="90" y="34"/>
                        </a:lnTo>
                        <a:lnTo>
                          <a:pt x="41" y="47"/>
                        </a:lnTo>
                        <a:lnTo>
                          <a:pt x="55" y="84"/>
                        </a:lnTo>
                        <a:lnTo>
                          <a:pt x="24" y="91"/>
                        </a:lnTo>
                        <a:lnTo>
                          <a:pt x="34" y="118"/>
                        </a:lnTo>
                        <a:lnTo>
                          <a:pt x="0" y="95"/>
                        </a:lnTo>
                        <a:lnTo>
                          <a:pt x="17" y="65"/>
                        </a:lnTo>
                        <a:lnTo>
                          <a:pt x="11" y="53"/>
                        </a:lnTo>
                        <a:lnTo>
                          <a:pt x="13" y="34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Freeform 105"/>
                  <p:cNvSpPr/>
                  <p:nvPr/>
                </p:nvSpPr>
                <p:spPr>
                  <a:xfrm>
                    <a:off x="1884600" y="5931000"/>
                    <a:ext cx="42840" cy="5076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06" h="163">
                        <a:moveTo>
                          <a:pt x="99" y="0"/>
                        </a:moveTo>
                        <a:lnTo>
                          <a:pt x="106" y="46"/>
                        </a:lnTo>
                        <a:lnTo>
                          <a:pt x="47" y="66"/>
                        </a:lnTo>
                        <a:lnTo>
                          <a:pt x="64" y="118"/>
                        </a:lnTo>
                        <a:lnTo>
                          <a:pt x="26" y="125"/>
                        </a:lnTo>
                        <a:lnTo>
                          <a:pt x="40" y="163"/>
                        </a:lnTo>
                        <a:lnTo>
                          <a:pt x="0" y="134"/>
                        </a:lnTo>
                        <a:lnTo>
                          <a:pt x="20" y="90"/>
                        </a:lnTo>
                        <a:lnTo>
                          <a:pt x="12" y="74"/>
                        </a:lnTo>
                        <a:lnTo>
                          <a:pt x="16" y="46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Freeform 106"/>
                  <p:cNvSpPr/>
                  <p:nvPr/>
                </p:nvSpPr>
                <p:spPr>
                  <a:xfrm>
                    <a:off x="1818000" y="5977080"/>
                    <a:ext cx="44280" cy="34920"/>
                  </a:xfrm>
                  <a:custGeom>
                    <a:avLst/>
                    <a:gdLst>
                      <a:gd name="textAreaLeft" fmla="*/ 0 w 44280"/>
                      <a:gd name="textAreaRight" fmla="*/ 44640 w 4428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14" h="109">
                        <a:moveTo>
                          <a:pt x="106" y="0"/>
                        </a:moveTo>
                        <a:lnTo>
                          <a:pt x="114" y="31"/>
                        </a:lnTo>
                        <a:lnTo>
                          <a:pt x="50" y="45"/>
                        </a:lnTo>
                        <a:lnTo>
                          <a:pt x="67" y="79"/>
                        </a:lnTo>
                        <a:lnTo>
                          <a:pt x="30" y="83"/>
                        </a:lnTo>
                        <a:lnTo>
                          <a:pt x="43" y="109"/>
                        </a:lnTo>
                        <a:lnTo>
                          <a:pt x="0" y="89"/>
                        </a:lnTo>
                        <a:lnTo>
                          <a:pt x="21" y="60"/>
                        </a:lnTo>
                        <a:lnTo>
                          <a:pt x="13" y="49"/>
                        </a:lnTo>
                        <a:lnTo>
                          <a:pt x="15" y="31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Freeform 107"/>
                  <p:cNvSpPr/>
                  <p:nvPr/>
                </p:nvSpPr>
                <p:spPr>
                  <a:xfrm>
                    <a:off x="1700640" y="6035760"/>
                    <a:ext cx="56880" cy="3168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44" h="97">
                        <a:moveTo>
                          <a:pt x="144" y="13"/>
                        </a:moveTo>
                        <a:lnTo>
                          <a:pt x="136" y="52"/>
                        </a:lnTo>
                        <a:lnTo>
                          <a:pt x="113" y="43"/>
                        </a:lnTo>
                        <a:lnTo>
                          <a:pt x="101" y="66"/>
                        </a:lnTo>
                        <a:lnTo>
                          <a:pt x="78" y="69"/>
                        </a:lnTo>
                        <a:lnTo>
                          <a:pt x="56" y="91"/>
                        </a:lnTo>
                        <a:lnTo>
                          <a:pt x="29" y="83"/>
                        </a:lnTo>
                        <a:lnTo>
                          <a:pt x="0" y="97"/>
                        </a:lnTo>
                        <a:lnTo>
                          <a:pt x="33" y="58"/>
                        </a:lnTo>
                        <a:lnTo>
                          <a:pt x="29" y="31"/>
                        </a:lnTo>
                        <a:lnTo>
                          <a:pt x="44" y="5"/>
                        </a:lnTo>
                        <a:lnTo>
                          <a:pt x="56" y="40"/>
                        </a:lnTo>
                        <a:lnTo>
                          <a:pt x="73" y="5"/>
                        </a:lnTo>
                        <a:lnTo>
                          <a:pt x="96" y="22"/>
                        </a:lnTo>
                        <a:lnTo>
                          <a:pt x="110" y="0"/>
                        </a:lnTo>
                        <a:lnTo>
                          <a:pt x="144" y="1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Freeform 108"/>
                  <p:cNvSpPr/>
                  <p:nvPr/>
                </p:nvSpPr>
                <p:spPr>
                  <a:xfrm>
                    <a:off x="1995840" y="5925960"/>
                    <a:ext cx="75960" cy="36720"/>
                  </a:xfrm>
                  <a:custGeom>
                    <a:avLst/>
                    <a:gdLst>
                      <a:gd name="textAreaLeft" fmla="*/ 0 w 75960"/>
                      <a:gd name="textAreaRight" fmla="*/ 75960 w 7596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190" h="116">
                        <a:moveTo>
                          <a:pt x="190" y="15"/>
                        </a:moveTo>
                        <a:lnTo>
                          <a:pt x="180" y="63"/>
                        </a:lnTo>
                        <a:lnTo>
                          <a:pt x="149" y="52"/>
                        </a:lnTo>
                        <a:lnTo>
                          <a:pt x="133" y="79"/>
                        </a:lnTo>
                        <a:lnTo>
                          <a:pt x="102" y="83"/>
                        </a:lnTo>
                        <a:lnTo>
                          <a:pt x="72" y="112"/>
                        </a:lnTo>
                        <a:lnTo>
                          <a:pt x="39" y="99"/>
                        </a:lnTo>
                        <a:lnTo>
                          <a:pt x="0" y="116"/>
                        </a:lnTo>
                        <a:lnTo>
                          <a:pt x="41" y="69"/>
                        </a:lnTo>
                        <a:lnTo>
                          <a:pt x="39" y="36"/>
                        </a:lnTo>
                        <a:lnTo>
                          <a:pt x="57" y="3"/>
                        </a:lnTo>
                        <a:lnTo>
                          <a:pt x="72" y="48"/>
                        </a:lnTo>
                        <a:lnTo>
                          <a:pt x="96" y="3"/>
                        </a:lnTo>
                        <a:lnTo>
                          <a:pt x="125" y="27"/>
                        </a:lnTo>
                        <a:lnTo>
                          <a:pt x="145" y="0"/>
                        </a:lnTo>
                        <a:lnTo>
                          <a:pt x="190" y="1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Freeform 109"/>
                  <p:cNvSpPr/>
                  <p:nvPr/>
                </p:nvSpPr>
                <p:spPr>
                  <a:xfrm>
                    <a:off x="1962360" y="6012000"/>
                    <a:ext cx="22320" cy="284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54" h="88">
                        <a:moveTo>
                          <a:pt x="54" y="10"/>
                        </a:moveTo>
                        <a:lnTo>
                          <a:pt x="37" y="31"/>
                        </a:lnTo>
                        <a:lnTo>
                          <a:pt x="26" y="88"/>
                        </a:lnTo>
                        <a:lnTo>
                          <a:pt x="10" y="66"/>
                        </a:lnTo>
                        <a:lnTo>
                          <a:pt x="14" y="36"/>
                        </a:lnTo>
                        <a:lnTo>
                          <a:pt x="0" y="0"/>
                        </a:lnTo>
                        <a:lnTo>
                          <a:pt x="54" y="1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Freeform 110"/>
                  <p:cNvSpPr/>
                  <p:nvPr/>
                </p:nvSpPr>
                <p:spPr>
                  <a:xfrm>
                    <a:off x="2102040" y="5954760"/>
                    <a:ext cx="42840" cy="8244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82440"/>
                      <a:gd name="textAreaBottom" fmla="*/ 82800 h 82440"/>
                    </a:gdLst>
                    <a:ahLst/>
                    <a:rect l="textAreaLeft" t="textAreaTop" r="textAreaRight" b="textAreaBottom"/>
                    <a:pathLst>
                      <a:path w="107" h="263">
                        <a:moveTo>
                          <a:pt x="35" y="0"/>
                        </a:moveTo>
                        <a:lnTo>
                          <a:pt x="77" y="18"/>
                        </a:lnTo>
                        <a:lnTo>
                          <a:pt x="84" y="44"/>
                        </a:lnTo>
                        <a:lnTo>
                          <a:pt x="103" y="61"/>
                        </a:lnTo>
                        <a:lnTo>
                          <a:pt x="107" y="101"/>
                        </a:lnTo>
                        <a:lnTo>
                          <a:pt x="80" y="113"/>
                        </a:lnTo>
                        <a:lnTo>
                          <a:pt x="55" y="145"/>
                        </a:lnTo>
                        <a:lnTo>
                          <a:pt x="75" y="162"/>
                        </a:lnTo>
                        <a:lnTo>
                          <a:pt x="35" y="183"/>
                        </a:lnTo>
                        <a:lnTo>
                          <a:pt x="49" y="202"/>
                        </a:lnTo>
                        <a:lnTo>
                          <a:pt x="40" y="231"/>
                        </a:lnTo>
                        <a:lnTo>
                          <a:pt x="37" y="263"/>
                        </a:lnTo>
                        <a:lnTo>
                          <a:pt x="0" y="253"/>
                        </a:lnTo>
                        <a:lnTo>
                          <a:pt x="20" y="210"/>
                        </a:lnTo>
                        <a:lnTo>
                          <a:pt x="2" y="174"/>
                        </a:lnTo>
                        <a:lnTo>
                          <a:pt x="20" y="157"/>
                        </a:lnTo>
                        <a:lnTo>
                          <a:pt x="37" y="153"/>
                        </a:lnTo>
                        <a:lnTo>
                          <a:pt x="32" y="122"/>
                        </a:lnTo>
                        <a:lnTo>
                          <a:pt x="35" y="109"/>
                        </a:lnTo>
                        <a:lnTo>
                          <a:pt x="55" y="92"/>
                        </a:lnTo>
                        <a:lnTo>
                          <a:pt x="84" y="84"/>
                        </a:lnTo>
                        <a:lnTo>
                          <a:pt x="63" y="61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Freeform 111"/>
                  <p:cNvSpPr/>
                  <p:nvPr/>
                </p:nvSpPr>
                <p:spPr>
                  <a:xfrm>
                    <a:off x="2038680" y="5946840"/>
                    <a:ext cx="65160" cy="3312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165" h="106">
                        <a:moveTo>
                          <a:pt x="134" y="0"/>
                        </a:moveTo>
                        <a:lnTo>
                          <a:pt x="160" y="31"/>
                        </a:lnTo>
                        <a:lnTo>
                          <a:pt x="165" y="66"/>
                        </a:lnTo>
                        <a:lnTo>
                          <a:pt x="120" y="74"/>
                        </a:lnTo>
                        <a:lnTo>
                          <a:pt x="90" y="56"/>
                        </a:lnTo>
                        <a:lnTo>
                          <a:pt x="47" y="74"/>
                        </a:lnTo>
                        <a:lnTo>
                          <a:pt x="47" y="106"/>
                        </a:lnTo>
                        <a:lnTo>
                          <a:pt x="0" y="96"/>
                        </a:lnTo>
                        <a:lnTo>
                          <a:pt x="30" y="74"/>
                        </a:lnTo>
                        <a:lnTo>
                          <a:pt x="47" y="44"/>
                        </a:lnTo>
                        <a:lnTo>
                          <a:pt x="70" y="44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112"/>
                  <p:cNvSpPr/>
                  <p:nvPr/>
                </p:nvSpPr>
                <p:spPr>
                  <a:xfrm>
                    <a:off x="2005200" y="6000840"/>
                    <a:ext cx="82440" cy="3960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09" h="126">
                        <a:moveTo>
                          <a:pt x="209" y="0"/>
                        </a:moveTo>
                        <a:lnTo>
                          <a:pt x="189" y="60"/>
                        </a:lnTo>
                        <a:lnTo>
                          <a:pt x="171" y="65"/>
                        </a:lnTo>
                        <a:lnTo>
                          <a:pt x="157" y="92"/>
                        </a:lnTo>
                        <a:lnTo>
                          <a:pt x="75" y="92"/>
                        </a:lnTo>
                        <a:lnTo>
                          <a:pt x="70" y="126"/>
                        </a:lnTo>
                        <a:lnTo>
                          <a:pt x="0" y="92"/>
                        </a:lnTo>
                        <a:lnTo>
                          <a:pt x="44" y="86"/>
                        </a:lnTo>
                        <a:lnTo>
                          <a:pt x="56" y="78"/>
                        </a:lnTo>
                        <a:lnTo>
                          <a:pt x="131" y="60"/>
                        </a:lnTo>
                        <a:lnTo>
                          <a:pt x="149" y="29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Freeform 113"/>
                  <p:cNvSpPr/>
                  <p:nvPr/>
                </p:nvSpPr>
                <p:spPr>
                  <a:xfrm>
                    <a:off x="2181600" y="5977080"/>
                    <a:ext cx="28440" cy="4284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70" h="135">
                        <a:moveTo>
                          <a:pt x="0" y="0"/>
                        </a:moveTo>
                        <a:lnTo>
                          <a:pt x="55" y="43"/>
                        </a:lnTo>
                        <a:lnTo>
                          <a:pt x="38" y="78"/>
                        </a:lnTo>
                        <a:lnTo>
                          <a:pt x="70" y="104"/>
                        </a:lnTo>
                        <a:lnTo>
                          <a:pt x="70" y="135"/>
                        </a:lnTo>
                        <a:lnTo>
                          <a:pt x="26" y="104"/>
                        </a:lnTo>
                        <a:lnTo>
                          <a:pt x="17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Freeform 114"/>
                  <p:cNvSpPr/>
                  <p:nvPr/>
                </p:nvSpPr>
                <p:spPr>
                  <a:xfrm>
                    <a:off x="2165760" y="6006960"/>
                    <a:ext cx="28440" cy="367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4" h="114">
                        <a:moveTo>
                          <a:pt x="0" y="0"/>
                        </a:moveTo>
                        <a:lnTo>
                          <a:pt x="50" y="22"/>
                        </a:lnTo>
                        <a:lnTo>
                          <a:pt x="40" y="62"/>
                        </a:lnTo>
                        <a:lnTo>
                          <a:pt x="59" y="71"/>
                        </a:lnTo>
                        <a:lnTo>
                          <a:pt x="74" y="92"/>
                        </a:lnTo>
                        <a:lnTo>
                          <a:pt x="68" y="114"/>
                        </a:lnTo>
                        <a:lnTo>
                          <a:pt x="26" y="83"/>
                        </a:lnTo>
                        <a:lnTo>
                          <a:pt x="11" y="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Freeform 115"/>
                  <p:cNvSpPr/>
                  <p:nvPr/>
                </p:nvSpPr>
                <p:spPr>
                  <a:xfrm>
                    <a:off x="2232360" y="5977080"/>
                    <a:ext cx="58680" cy="475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8" h="153">
                        <a:moveTo>
                          <a:pt x="0" y="14"/>
                        </a:moveTo>
                        <a:lnTo>
                          <a:pt x="61" y="0"/>
                        </a:lnTo>
                        <a:lnTo>
                          <a:pt x="70" y="17"/>
                        </a:lnTo>
                        <a:lnTo>
                          <a:pt x="101" y="14"/>
                        </a:lnTo>
                        <a:lnTo>
                          <a:pt x="101" y="52"/>
                        </a:lnTo>
                        <a:lnTo>
                          <a:pt x="90" y="87"/>
                        </a:lnTo>
                        <a:lnTo>
                          <a:pt x="148" y="123"/>
                        </a:lnTo>
                        <a:lnTo>
                          <a:pt x="110" y="132"/>
                        </a:lnTo>
                        <a:lnTo>
                          <a:pt x="134" y="153"/>
                        </a:lnTo>
                        <a:lnTo>
                          <a:pt x="59" y="144"/>
                        </a:lnTo>
                        <a:lnTo>
                          <a:pt x="93" y="118"/>
                        </a:lnTo>
                        <a:lnTo>
                          <a:pt x="73" y="92"/>
                        </a:lnTo>
                        <a:lnTo>
                          <a:pt x="78" y="60"/>
                        </a:lnTo>
                        <a:lnTo>
                          <a:pt x="59" y="39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Freeform 116"/>
                  <p:cNvSpPr/>
                  <p:nvPr/>
                </p:nvSpPr>
                <p:spPr>
                  <a:xfrm>
                    <a:off x="2316240" y="6048360"/>
                    <a:ext cx="25560" cy="334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61" h="104">
                        <a:moveTo>
                          <a:pt x="32" y="0"/>
                        </a:moveTo>
                        <a:lnTo>
                          <a:pt x="61" y="12"/>
                        </a:lnTo>
                        <a:lnTo>
                          <a:pt x="46" y="29"/>
                        </a:lnTo>
                        <a:lnTo>
                          <a:pt x="55" y="51"/>
                        </a:lnTo>
                        <a:lnTo>
                          <a:pt x="37" y="78"/>
                        </a:lnTo>
                        <a:lnTo>
                          <a:pt x="32" y="104"/>
                        </a:lnTo>
                        <a:lnTo>
                          <a:pt x="0" y="69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Group 117"/>
                <p:cNvGrpSpPr/>
                <p:nvPr/>
              </p:nvGrpSpPr>
              <p:grpSpPr>
                <a:xfrm>
                  <a:off x="1773360" y="5564160"/>
                  <a:ext cx="615960" cy="217440"/>
                  <a:chOff x="1773360" y="5564160"/>
                  <a:chExt cx="615960" cy="217440"/>
                </a:xfrm>
              </p:grpSpPr>
              <p:sp>
                <p:nvSpPr>
                  <p:cNvPr id="353" name="Freeform 118"/>
                  <p:cNvSpPr/>
                  <p:nvPr/>
                </p:nvSpPr>
                <p:spPr>
                  <a:xfrm>
                    <a:off x="1773360" y="5564160"/>
                    <a:ext cx="615960" cy="217440"/>
                  </a:xfrm>
                  <a:custGeom>
                    <a:avLst/>
                    <a:gdLst>
                      <a:gd name="textAreaLeft" fmla="*/ 0 w 615960"/>
                      <a:gd name="textAreaRight" fmla="*/ 616320 w 6159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551" h="689">
                        <a:moveTo>
                          <a:pt x="8" y="504"/>
                        </a:moveTo>
                        <a:lnTo>
                          <a:pt x="23" y="561"/>
                        </a:lnTo>
                        <a:lnTo>
                          <a:pt x="0" y="612"/>
                        </a:lnTo>
                        <a:lnTo>
                          <a:pt x="39" y="632"/>
                        </a:lnTo>
                        <a:lnTo>
                          <a:pt x="84" y="603"/>
                        </a:lnTo>
                        <a:lnTo>
                          <a:pt x="129" y="610"/>
                        </a:lnTo>
                        <a:lnTo>
                          <a:pt x="159" y="582"/>
                        </a:lnTo>
                        <a:lnTo>
                          <a:pt x="212" y="589"/>
                        </a:lnTo>
                        <a:lnTo>
                          <a:pt x="228" y="562"/>
                        </a:lnTo>
                        <a:lnTo>
                          <a:pt x="265" y="589"/>
                        </a:lnTo>
                        <a:lnTo>
                          <a:pt x="318" y="585"/>
                        </a:lnTo>
                        <a:lnTo>
                          <a:pt x="356" y="603"/>
                        </a:lnTo>
                        <a:lnTo>
                          <a:pt x="402" y="629"/>
                        </a:lnTo>
                        <a:lnTo>
                          <a:pt x="448" y="605"/>
                        </a:lnTo>
                        <a:lnTo>
                          <a:pt x="455" y="632"/>
                        </a:lnTo>
                        <a:lnTo>
                          <a:pt x="495" y="636"/>
                        </a:lnTo>
                        <a:lnTo>
                          <a:pt x="503" y="667"/>
                        </a:lnTo>
                        <a:lnTo>
                          <a:pt x="541" y="657"/>
                        </a:lnTo>
                        <a:lnTo>
                          <a:pt x="567" y="689"/>
                        </a:lnTo>
                        <a:lnTo>
                          <a:pt x="594" y="660"/>
                        </a:lnTo>
                        <a:lnTo>
                          <a:pt x="639" y="664"/>
                        </a:lnTo>
                        <a:lnTo>
                          <a:pt x="658" y="632"/>
                        </a:lnTo>
                        <a:lnTo>
                          <a:pt x="696" y="653"/>
                        </a:lnTo>
                        <a:lnTo>
                          <a:pt x="731" y="636"/>
                        </a:lnTo>
                        <a:lnTo>
                          <a:pt x="765" y="619"/>
                        </a:lnTo>
                        <a:lnTo>
                          <a:pt x="787" y="589"/>
                        </a:lnTo>
                        <a:lnTo>
                          <a:pt x="790" y="543"/>
                        </a:lnTo>
                        <a:lnTo>
                          <a:pt x="824" y="520"/>
                        </a:lnTo>
                        <a:lnTo>
                          <a:pt x="832" y="479"/>
                        </a:lnTo>
                        <a:lnTo>
                          <a:pt x="877" y="455"/>
                        </a:lnTo>
                        <a:lnTo>
                          <a:pt x="928" y="461"/>
                        </a:lnTo>
                        <a:lnTo>
                          <a:pt x="965" y="426"/>
                        </a:lnTo>
                        <a:lnTo>
                          <a:pt x="995" y="429"/>
                        </a:lnTo>
                        <a:lnTo>
                          <a:pt x="1026" y="408"/>
                        </a:lnTo>
                        <a:lnTo>
                          <a:pt x="1074" y="399"/>
                        </a:lnTo>
                        <a:lnTo>
                          <a:pt x="1120" y="369"/>
                        </a:lnTo>
                        <a:lnTo>
                          <a:pt x="1132" y="312"/>
                        </a:lnTo>
                        <a:lnTo>
                          <a:pt x="1162" y="284"/>
                        </a:lnTo>
                        <a:lnTo>
                          <a:pt x="1173" y="249"/>
                        </a:lnTo>
                        <a:lnTo>
                          <a:pt x="1199" y="270"/>
                        </a:lnTo>
                        <a:lnTo>
                          <a:pt x="1246" y="251"/>
                        </a:lnTo>
                        <a:lnTo>
                          <a:pt x="1248" y="277"/>
                        </a:lnTo>
                        <a:lnTo>
                          <a:pt x="1278" y="277"/>
                        </a:lnTo>
                        <a:lnTo>
                          <a:pt x="1298" y="302"/>
                        </a:lnTo>
                        <a:lnTo>
                          <a:pt x="1331" y="295"/>
                        </a:lnTo>
                        <a:lnTo>
                          <a:pt x="1362" y="326"/>
                        </a:lnTo>
                        <a:lnTo>
                          <a:pt x="1400" y="335"/>
                        </a:lnTo>
                        <a:lnTo>
                          <a:pt x="1426" y="295"/>
                        </a:lnTo>
                        <a:lnTo>
                          <a:pt x="1461" y="258"/>
                        </a:lnTo>
                        <a:lnTo>
                          <a:pt x="1490" y="237"/>
                        </a:lnTo>
                        <a:lnTo>
                          <a:pt x="1509" y="230"/>
                        </a:lnTo>
                        <a:lnTo>
                          <a:pt x="1468" y="195"/>
                        </a:lnTo>
                        <a:lnTo>
                          <a:pt x="1487" y="155"/>
                        </a:lnTo>
                        <a:lnTo>
                          <a:pt x="1476" y="123"/>
                        </a:lnTo>
                        <a:lnTo>
                          <a:pt x="1498" y="106"/>
                        </a:lnTo>
                        <a:lnTo>
                          <a:pt x="1532" y="75"/>
                        </a:lnTo>
                        <a:lnTo>
                          <a:pt x="1551" y="29"/>
                        </a:lnTo>
                        <a:lnTo>
                          <a:pt x="1514" y="46"/>
                        </a:lnTo>
                        <a:lnTo>
                          <a:pt x="1471" y="31"/>
                        </a:lnTo>
                        <a:lnTo>
                          <a:pt x="1433" y="46"/>
                        </a:lnTo>
                        <a:lnTo>
                          <a:pt x="1384" y="58"/>
                        </a:lnTo>
                        <a:lnTo>
                          <a:pt x="1357" y="31"/>
                        </a:lnTo>
                        <a:lnTo>
                          <a:pt x="1320" y="29"/>
                        </a:lnTo>
                        <a:lnTo>
                          <a:pt x="1276" y="0"/>
                        </a:lnTo>
                        <a:lnTo>
                          <a:pt x="1219" y="8"/>
                        </a:lnTo>
                        <a:lnTo>
                          <a:pt x="1203" y="29"/>
                        </a:lnTo>
                        <a:lnTo>
                          <a:pt x="1135" y="58"/>
                        </a:lnTo>
                        <a:lnTo>
                          <a:pt x="1101" y="54"/>
                        </a:lnTo>
                        <a:lnTo>
                          <a:pt x="1087" y="96"/>
                        </a:lnTo>
                        <a:lnTo>
                          <a:pt x="1052" y="117"/>
                        </a:lnTo>
                        <a:lnTo>
                          <a:pt x="1044" y="158"/>
                        </a:lnTo>
                        <a:lnTo>
                          <a:pt x="999" y="160"/>
                        </a:lnTo>
                        <a:lnTo>
                          <a:pt x="969" y="148"/>
                        </a:lnTo>
                        <a:lnTo>
                          <a:pt x="942" y="167"/>
                        </a:lnTo>
                        <a:lnTo>
                          <a:pt x="916" y="158"/>
                        </a:lnTo>
                        <a:lnTo>
                          <a:pt x="904" y="202"/>
                        </a:lnTo>
                        <a:lnTo>
                          <a:pt x="900" y="244"/>
                        </a:lnTo>
                        <a:lnTo>
                          <a:pt x="875" y="270"/>
                        </a:lnTo>
                        <a:lnTo>
                          <a:pt x="875" y="298"/>
                        </a:lnTo>
                        <a:lnTo>
                          <a:pt x="855" y="335"/>
                        </a:lnTo>
                        <a:lnTo>
                          <a:pt x="837" y="358"/>
                        </a:lnTo>
                        <a:lnTo>
                          <a:pt x="810" y="369"/>
                        </a:lnTo>
                        <a:lnTo>
                          <a:pt x="810" y="401"/>
                        </a:lnTo>
                        <a:lnTo>
                          <a:pt x="779" y="405"/>
                        </a:lnTo>
                        <a:lnTo>
                          <a:pt x="757" y="448"/>
                        </a:lnTo>
                        <a:lnTo>
                          <a:pt x="700" y="447"/>
                        </a:lnTo>
                        <a:lnTo>
                          <a:pt x="658" y="406"/>
                        </a:lnTo>
                        <a:lnTo>
                          <a:pt x="598" y="401"/>
                        </a:lnTo>
                        <a:lnTo>
                          <a:pt x="567" y="394"/>
                        </a:lnTo>
                        <a:lnTo>
                          <a:pt x="541" y="415"/>
                        </a:lnTo>
                        <a:lnTo>
                          <a:pt x="545" y="458"/>
                        </a:lnTo>
                        <a:lnTo>
                          <a:pt x="556" y="515"/>
                        </a:lnTo>
                        <a:lnTo>
                          <a:pt x="537" y="561"/>
                        </a:lnTo>
                        <a:lnTo>
                          <a:pt x="511" y="603"/>
                        </a:lnTo>
                        <a:lnTo>
                          <a:pt x="499" y="568"/>
                        </a:lnTo>
                        <a:lnTo>
                          <a:pt x="507" y="536"/>
                        </a:lnTo>
                        <a:lnTo>
                          <a:pt x="526" y="518"/>
                        </a:lnTo>
                        <a:lnTo>
                          <a:pt x="545" y="461"/>
                        </a:lnTo>
                        <a:lnTo>
                          <a:pt x="541" y="415"/>
                        </a:lnTo>
                        <a:lnTo>
                          <a:pt x="499" y="436"/>
                        </a:lnTo>
                        <a:lnTo>
                          <a:pt x="462" y="433"/>
                        </a:lnTo>
                        <a:lnTo>
                          <a:pt x="440" y="415"/>
                        </a:lnTo>
                        <a:lnTo>
                          <a:pt x="440" y="376"/>
                        </a:lnTo>
                        <a:lnTo>
                          <a:pt x="405" y="373"/>
                        </a:lnTo>
                        <a:lnTo>
                          <a:pt x="402" y="335"/>
                        </a:lnTo>
                        <a:lnTo>
                          <a:pt x="352" y="344"/>
                        </a:lnTo>
                        <a:lnTo>
                          <a:pt x="310" y="333"/>
                        </a:lnTo>
                        <a:lnTo>
                          <a:pt x="273" y="364"/>
                        </a:lnTo>
                        <a:lnTo>
                          <a:pt x="224" y="362"/>
                        </a:lnTo>
                        <a:lnTo>
                          <a:pt x="190" y="383"/>
                        </a:lnTo>
                        <a:lnTo>
                          <a:pt x="151" y="373"/>
                        </a:lnTo>
                        <a:lnTo>
                          <a:pt x="114" y="399"/>
                        </a:lnTo>
                        <a:lnTo>
                          <a:pt x="68" y="394"/>
                        </a:lnTo>
                        <a:lnTo>
                          <a:pt x="53" y="426"/>
                        </a:lnTo>
                        <a:lnTo>
                          <a:pt x="8" y="420"/>
                        </a:lnTo>
                        <a:lnTo>
                          <a:pt x="23" y="454"/>
                        </a:lnTo>
                        <a:lnTo>
                          <a:pt x="8" y="5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Freeform 119"/>
                  <p:cNvSpPr/>
                  <p:nvPr/>
                </p:nvSpPr>
                <p:spPr>
                  <a:xfrm>
                    <a:off x="2265480" y="5570640"/>
                    <a:ext cx="27000" cy="586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64" h="185">
                        <a:moveTo>
                          <a:pt x="0" y="0"/>
                        </a:moveTo>
                        <a:lnTo>
                          <a:pt x="11" y="30"/>
                        </a:lnTo>
                        <a:lnTo>
                          <a:pt x="23" y="65"/>
                        </a:lnTo>
                        <a:lnTo>
                          <a:pt x="0" y="103"/>
                        </a:lnTo>
                        <a:lnTo>
                          <a:pt x="23" y="185"/>
                        </a:lnTo>
                        <a:lnTo>
                          <a:pt x="31" y="110"/>
                        </a:lnTo>
                        <a:lnTo>
                          <a:pt x="57" y="82"/>
                        </a:lnTo>
                        <a:lnTo>
                          <a:pt x="64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Freeform 120"/>
                  <p:cNvSpPr/>
                  <p:nvPr/>
                </p:nvSpPr>
                <p:spPr>
                  <a:xfrm>
                    <a:off x="2329200" y="5578560"/>
                    <a:ext cx="31680" cy="3960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79" h="128">
                        <a:moveTo>
                          <a:pt x="79" y="0"/>
                        </a:moveTo>
                        <a:lnTo>
                          <a:pt x="37" y="22"/>
                        </a:lnTo>
                        <a:lnTo>
                          <a:pt x="0" y="25"/>
                        </a:lnTo>
                        <a:lnTo>
                          <a:pt x="18" y="46"/>
                        </a:lnTo>
                        <a:lnTo>
                          <a:pt x="33" y="93"/>
                        </a:lnTo>
                        <a:lnTo>
                          <a:pt x="23" y="128"/>
                        </a:lnTo>
                        <a:lnTo>
                          <a:pt x="45" y="114"/>
                        </a:lnTo>
                        <a:lnTo>
                          <a:pt x="41" y="53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Freeform 121"/>
                  <p:cNvSpPr/>
                  <p:nvPr/>
                </p:nvSpPr>
                <p:spPr>
                  <a:xfrm>
                    <a:off x="2305440" y="5637240"/>
                    <a:ext cx="36360" cy="2052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91" h="68">
                        <a:moveTo>
                          <a:pt x="91" y="0"/>
                        </a:moveTo>
                        <a:lnTo>
                          <a:pt x="57" y="43"/>
                        </a:lnTo>
                        <a:lnTo>
                          <a:pt x="49" y="68"/>
                        </a:lnTo>
                        <a:lnTo>
                          <a:pt x="0" y="14"/>
                        </a:lnTo>
                        <a:lnTo>
                          <a:pt x="41" y="11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Freeform 122"/>
                  <p:cNvSpPr/>
                  <p:nvPr/>
                </p:nvSpPr>
                <p:spPr>
                  <a:xfrm>
                    <a:off x="2287800" y="5586480"/>
                    <a:ext cx="33480" cy="4752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86" h="149">
                        <a:moveTo>
                          <a:pt x="45" y="0"/>
                        </a:moveTo>
                        <a:lnTo>
                          <a:pt x="61" y="18"/>
                        </a:lnTo>
                        <a:lnTo>
                          <a:pt x="18" y="63"/>
                        </a:lnTo>
                        <a:lnTo>
                          <a:pt x="31" y="82"/>
                        </a:lnTo>
                        <a:lnTo>
                          <a:pt x="26" y="121"/>
                        </a:lnTo>
                        <a:lnTo>
                          <a:pt x="0" y="149"/>
                        </a:lnTo>
                        <a:lnTo>
                          <a:pt x="86" y="124"/>
                        </a:lnTo>
                        <a:lnTo>
                          <a:pt x="68" y="103"/>
                        </a:lnTo>
                        <a:lnTo>
                          <a:pt x="84" y="75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Freeform 123"/>
                  <p:cNvSpPr/>
                  <p:nvPr/>
                </p:nvSpPr>
                <p:spPr>
                  <a:xfrm>
                    <a:off x="2206800" y="558180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91" h="114">
                        <a:moveTo>
                          <a:pt x="91" y="0"/>
                        </a:moveTo>
                        <a:lnTo>
                          <a:pt x="61" y="11"/>
                        </a:lnTo>
                        <a:lnTo>
                          <a:pt x="27" y="14"/>
                        </a:lnTo>
                        <a:lnTo>
                          <a:pt x="35" y="53"/>
                        </a:lnTo>
                        <a:lnTo>
                          <a:pt x="27" y="84"/>
                        </a:lnTo>
                        <a:lnTo>
                          <a:pt x="0" y="114"/>
                        </a:lnTo>
                        <a:lnTo>
                          <a:pt x="46" y="7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Freeform 124"/>
                  <p:cNvSpPr/>
                  <p:nvPr/>
                </p:nvSpPr>
                <p:spPr>
                  <a:xfrm>
                    <a:off x="2216520" y="5608800"/>
                    <a:ext cx="38160" cy="252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95" h="82">
                        <a:moveTo>
                          <a:pt x="95" y="82"/>
                        </a:moveTo>
                        <a:lnTo>
                          <a:pt x="50" y="51"/>
                        </a:lnTo>
                        <a:lnTo>
                          <a:pt x="0" y="54"/>
                        </a:lnTo>
                        <a:lnTo>
                          <a:pt x="26" y="40"/>
                        </a:lnTo>
                        <a:lnTo>
                          <a:pt x="64" y="0"/>
                        </a:lnTo>
                        <a:lnTo>
                          <a:pt x="61" y="37"/>
                        </a:lnTo>
                        <a:lnTo>
                          <a:pt x="95" y="37"/>
                        </a:lnTo>
                        <a:lnTo>
                          <a:pt x="95" y="8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Freeform 125"/>
                  <p:cNvSpPr/>
                  <p:nvPr/>
                </p:nvSpPr>
                <p:spPr>
                  <a:xfrm>
                    <a:off x="2141640" y="5616720"/>
                    <a:ext cx="57240" cy="2700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43" h="84">
                        <a:moveTo>
                          <a:pt x="55" y="0"/>
                        </a:moveTo>
                        <a:lnTo>
                          <a:pt x="29" y="18"/>
                        </a:lnTo>
                        <a:lnTo>
                          <a:pt x="0" y="11"/>
                        </a:lnTo>
                        <a:lnTo>
                          <a:pt x="10" y="53"/>
                        </a:lnTo>
                        <a:lnTo>
                          <a:pt x="29" y="84"/>
                        </a:lnTo>
                        <a:lnTo>
                          <a:pt x="25" y="60"/>
                        </a:lnTo>
                        <a:lnTo>
                          <a:pt x="60" y="42"/>
                        </a:lnTo>
                        <a:lnTo>
                          <a:pt x="143" y="3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Freeform 126"/>
                  <p:cNvSpPr/>
                  <p:nvPr/>
                </p:nvSpPr>
                <p:spPr>
                  <a:xfrm>
                    <a:off x="2162520" y="5649840"/>
                    <a:ext cx="55440" cy="3024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139" h="99">
                        <a:moveTo>
                          <a:pt x="0" y="25"/>
                        </a:moveTo>
                        <a:lnTo>
                          <a:pt x="33" y="56"/>
                        </a:lnTo>
                        <a:lnTo>
                          <a:pt x="79" y="70"/>
                        </a:lnTo>
                        <a:lnTo>
                          <a:pt x="90" y="99"/>
                        </a:lnTo>
                        <a:lnTo>
                          <a:pt x="124" y="67"/>
                        </a:lnTo>
                        <a:lnTo>
                          <a:pt x="116" y="32"/>
                        </a:lnTo>
                        <a:lnTo>
                          <a:pt x="139" y="7"/>
                        </a:lnTo>
                        <a:lnTo>
                          <a:pt x="101" y="0"/>
                        </a:lnTo>
                        <a:lnTo>
                          <a:pt x="90" y="42"/>
                        </a:lnTo>
                        <a:lnTo>
                          <a:pt x="63" y="25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Freeform 127"/>
                  <p:cNvSpPr/>
                  <p:nvPr/>
                </p:nvSpPr>
                <p:spPr>
                  <a:xfrm>
                    <a:off x="2036880" y="5702400"/>
                    <a:ext cx="57240" cy="601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144" h="189">
                        <a:moveTo>
                          <a:pt x="0" y="0"/>
                        </a:moveTo>
                        <a:lnTo>
                          <a:pt x="34" y="25"/>
                        </a:lnTo>
                        <a:lnTo>
                          <a:pt x="87" y="36"/>
                        </a:lnTo>
                        <a:lnTo>
                          <a:pt x="136" y="32"/>
                        </a:lnTo>
                        <a:lnTo>
                          <a:pt x="144" y="61"/>
                        </a:lnTo>
                        <a:lnTo>
                          <a:pt x="114" y="72"/>
                        </a:lnTo>
                        <a:lnTo>
                          <a:pt x="109" y="100"/>
                        </a:lnTo>
                        <a:lnTo>
                          <a:pt x="106" y="132"/>
                        </a:lnTo>
                        <a:lnTo>
                          <a:pt x="79" y="160"/>
                        </a:lnTo>
                        <a:lnTo>
                          <a:pt x="30" y="189"/>
                        </a:lnTo>
                        <a:lnTo>
                          <a:pt x="38" y="160"/>
                        </a:lnTo>
                        <a:lnTo>
                          <a:pt x="79" y="125"/>
                        </a:lnTo>
                        <a:lnTo>
                          <a:pt x="61" y="64"/>
                        </a:lnTo>
                        <a:lnTo>
                          <a:pt x="30" y="4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Freeform 128"/>
                  <p:cNvSpPr/>
                  <p:nvPr/>
                </p:nvSpPr>
                <p:spPr>
                  <a:xfrm>
                    <a:off x="2000520" y="5702400"/>
                    <a:ext cx="30240" cy="363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75" h="114">
                        <a:moveTo>
                          <a:pt x="0" y="0"/>
                        </a:moveTo>
                        <a:lnTo>
                          <a:pt x="14" y="43"/>
                        </a:lnTo>
                        <a:lnTo>
                          <a:pt x="0" y="114"/>
                        </a:lnTo>
                        <a:lnTo>
                          <a:pt x="45" y="107"/>
                        </a:lnTo>
                        <a:lnTo>
                          <a:pt x="41" y="75"/>
                        </a:lnTo>
                        <a:lnTo>
                          <a:pt x="75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Freeform 129"/>
                  <p:cNvSpPr/>
                  <p:nvPr/>
                </p:nvSpPr>
                <p:spPr>
                  <a:xfrm>
                    <a:off x="1906920" y="5680080"/>
                    <a:ext cx="71280" cy="3960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80" h="125">
                        <a:moveTo>
                          <a:pt x="180" y="86"/>
                        </a:moveTo>
                        <a:lnTo>
                          <a:pt x="147" y="125"/>
                        </a:lnTo>
                        <a:lnTo>
                          <a:pt x="108" y="125"/>
                        </a:lnTo>
                        <a:lnTo>
                          <a:pt x="68" y="96"/>
                        </a:lnTo>
                        <a:lnTo>
                          <a:pt x="60" y="61"/>
                        </a:lnTo>
                        <a:lnTo>
                          <a:pt x="33" y="33"/>
                        </a:lnTo>
                        <a:lnTo>
                          <a:pt x="0" y="11"/>
                        </a:lnTo>
                        <a:lnTo>
                          <a:pt x="41" y="0"/>
                        </a:lnTo>
                        <a:lnTo>
                          <a:pt x="68" y="33"/>
                        </a:lnTo>
                        <a:lnTo>
                          <a:pt x="79" y="75"/>
                        </a:lnTo>
                        <a:lnTo>
                          <a:pt x="106" y="100"/>
                        </a:lnTo>
                        <a:lnTo>
                          <a:pt x="180" y="8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Freeform 130"/>
                  <p:cNvSpPr/>
                  <p:nvPr/>
                </p:nvSpPr>
                <p:spPr>
                  <a:xfrm>
                    <a:off x="1825920" y="5689440"/>
                    <a:ext cx="30240" cy="525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79" h="163">
                        <a:moveTo>
                          <a:pt x="22" y="0"/>
                        </a:moveTo>
                        <a:lnTo>
                          <a:pt x="0" y="21"/>
                        </a:lnTo>
                        <a:lnTo>
                          <a:pt x="26" y="42"/>
                        </a:lnTo>
                        <a:lnTo>
                          <a:pt x="30" y="88"/>
                        </a:lnTo>
                        <a:lnTo>
                          <a:pt x="8" y="124"/>
                        </a:lnTo>
                        <a:lnTo>
                          <a:pt x="49" y="145"/>
                        </a:lnTo>
                        <a:lnTo>
                          <a:pt x="69" y="163"/>
                        </a:lnTo>
                        <a:lnTo>
                          <a:pt x="79" y="117"/>
                        </a:lnTo>
                        <a:lnTo>
                          <a:pt x="49" y="117"/>
                        </a:lnTo>
                        <a:lnTo>
                          <a:pt x="64" y="63"/>
                        </a:lnTo>
                        <a:lnTo>
                          <a:pt x="46" y="49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Freeform 131"/>
                  <p:cNvSpPr/>
                  <p:nvPr/>
                </p:nvSpPr>
                <p:spPr>
                  <a:xfrm>
                    <a:off x="1891080" y="5711760"/>
                    <a:ext cx="46080" cy="381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17" h="117">
                        <a:moveTo>
                          <a:pt x="10" y="0"/>
                        </a:moveTo>
                        <a:lnTo>
                          <a:pt x="0" y="32"/>
                        </a:lnTo>
                        <a:lnTo>
                          <a:pt x="18" y="54"/>
                        </a:lnTo>
                        <a:lnTo>
                          <a:pt x="38" y="86"/>
                        </a:lnTo>
                        <a:lnTo>
                          <a:pt x="67" y="107"/>
                        </a:lnTo>
                        <a:lnTo>
                          <a:pt x="117" y="117"/>
                        </a:lnTo>
                        <a:lnTo>
                          <a:pt x="67" y="72"/>
                        </a:lnTo>
                        <a:lnTo>
                          <a:pt x="83" y="36"/>
                        </a:lnTo>
                        <a:lnTo>
                          <a:pt x="48" y="5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32"/>
                <p:cNvGrpSpPr/>
                <p:nvPr/>
              </p:nvGrpSpPr>
              <p:grpSpPr>
                <a:xfrm>
                  <a:off x="1827360" y="5491080"/>
                  <a:ext cx="325440" cy="185760"/>
                  <a:chOff x="1827360" y="5491080"/>
                  <a:chExt cx="325440" cy="185760"/>
                </a:xfrm>
              </p:grpSpPr>
              <p:sp>
                <p:nvSpPr>
                  <p:cNvPr id="368" name="Freeform 133"/>
                  <p:cNvSpPr/>
                  <p:nvPr/>
                </p:nvSpPr>
                <p:spPr>
                  <a:xfrm>
                    <a:off x="1827360" y="5491080"/>
                    <a:ext cx="325440" cy="18576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817" h="587">
                        <a:moveTo>
                          <a:pt x="138" y="0"/>
                        </a:moveTo>
                        <a:lnTo>
                          <a:pt x="108" y="43"/>
                        </a:lnTo>
                        <a:lnTo>
                          <a:pt x="72" y="71"/>
                        </a:lnTo>
                        <a:lnTo>
                          <a:pt x="62" y="134"/>
                        </a:lnTo>
                        <a:lnTo>
                          <a:pt x="29" y="168"/>
                        </a:lnTo>
                        <a:lnTo>
                          <a:pt x="0" y="188"/>
                        </a:lnTo>
                        <a:lnTo>
                          <a:pt x="33" y="225"/>
                        </a:lnTo>
                        <a:lnTo>
                          <a:pt x="46" y="279"/>
                        </a:lnTo>
                        <a:lnTo>
                          <a:pt x="75" y="303"/>
                        </a:lnTo>
                        <a:lnTo>
                          <a:pt x="108" y="318"/>
                        </a:lnTo>
                        <a:lnTo>
                          <a:pt x="145" y="298"/>
                        </a:lnTo>
                        <a:lnTo>
                          <a:pt x="191" y="318"/>
                        </a:lnTo>
                        <a:lnTo>
                          <a:pt x="247" y="293"/>
                        </a:lnTo>
                        <a:lnTo>
                          <a:pt x="310" y="331"/>
                        </a:lnTo>
                        <a:lnTo>
                          <a:pt x="353" y="327"/>
                        </a:lnTo>
                        <a:lnTo>
                          <a:pt x="392" y="360"/>
                        </a:lnTo>
                        <a:lnTo>
                          <a:pt x="428" y="379"/>
                        </a:lnTo>
                        <a:lnTo>
                          <a:pt x="464" y="360"/>
                        </a:lnTo>
                        <a:lnTo>
                          <a:pt x="477" y="399"/>
                        </a:lnTo>
                        <a:lnTo>
                          <a:pt x="511" y="394"/>
                        </a:lnTo>
                        <a:lnTo>
                          <a:pt x="504" y="448"/>
                        </a:lnTo>
                        <a:lnTo>
                          <a:pt x="551" y="470"/>
                        </a:lnTo>
                        <a:lnTo>
                          <a:pt x="607" y="499"/>
                        </a:lnTo>
                        <a:lnTo>
                          <a:pt x="619" y="538"/>
                        </a:lnTo>
                        <a:lnTo>
                          <a:pt x="656" y="547"/>
                        </a:lnTo>
                        <a:lnTo>
                          <a:pt x="683" y="587"/>
                        </a:lnTo>
                        <a:lnTo>
                          <a:pt x="715" y="566"/>
                        </a:lnTo>
                        <a:lnTo>
                          <a:pt x="745" y="563"/>
                        </a:lnTo>
                        <a:lnTo>
                          <a:pt x="764" y="505"/>
                        </a:lnTo>
                        <a:lnTo>
                          <a:pt x="817" y="481"/>
                        </a:lnTo>
                        <a:lnTo>
                          <a:pt x="790" y="417"/>
                        </a:lnTo>
                        <a:lnTo>
                          <a:pt x="805" y="360"/>
                        </a:lnTo>
                        <a:lnTo>
                          <a:pt x="784" y="293"/>
                        </a:lnTo>
                        <a:lnTo>
                          <a:pt x="794" y="258"/>
                        </a:lnTo>
                        <a:lnTo>
                          <a:pt x="758" y="258"/>
                        </a:lnTo>
                        <a:lnTo>
                          <a:pt x="739" y="225"/>
                        </a:lnTo>
                        <a:lnTo>
                          <a:pt x="702" y="249"/>
                        </a:lnTo>
                        <a:lnTo>
                          <a:pt x="669" y="230"/>
                        </a:lnTo>
                        <a:lnTo>
                          <a:pt x="643" y="201"/>
                        </a:lnTo>
                        <a:lnTo>
                          <a:pt x="586" y="197"/>
                        </a:lnTo>
                        <a:lnTo>
                          <a:pt x="572" y="307"/>
                        </a:lnTo>
                        <a:lnTo>
                          <a:pt x="596" y="312"/>
                        </a:lnTo>
                        <a:lnTo>
                          <a:pt x="596" y="366"/>
                        </a:lnTo>
                        <a:lnTo>
                          <a:pt x="579" y="408"/>
                        </a:lnTo>
                        <a:lnTo>
                          <a:pt x="565" y="361"/>
                        </a:lnTo>
                        <a:lnTo>
                          <a:pt x="563" y="337"/>
                        </a:lnTo>
                        <a:lnTo>
                          <a:pt x="572" y="307"/>
                        </a:lnTo>
                        <a:lnTo>
                          <a:pt x="586" y="198"/>
                        </a:lnTo>
                        <a:lnTo>
                          <a:pt x="543" y="197"/>
                        </a:lnTo>
                        <a:lnTo>
                          <a:pt x="507" y="211"/>
                        </a:lnTo>
                        <a:lnTo>
                          <a:pt x="475" y="191"/>
                        </a:lnTo>
                        <a:lnTo>
                          <a:pt x="460" y="130"/>
                        </a:lnTo>
                        <a:lnTo>
                          <a:pt x="425" y="115"/>
                        </a:lnTo>
                        <a:lnTo>
                          <a:pt x="409" y="81"/>
                        </a:lnTo>
                        <a:lnTo>
                          <a:pt x="363" y="67"/>
                        </a:lnTo>
                        <a:lnTo>
                          <a:pt x="336" y="38"/>
                        </a:lnTo>
                        <a:lnTo>
                          <a:pt x="310" y="52"/>
                        </a:lnTo>
                        <a:lnTo>
                          <a:pt x="279" y="38"/>
                        </a:lnTo>
                        <a:lnTo>
                          <a:pt x="257" y="71"/>
                        </a:lnTo>
                        <a:lnTo>
                          <a:pt x="231" y="67"/>
                        </a:lnTo>
                        <a:lnTo>
                          <a:pt x="221" y="24"/>
                        </a:lnTo>
                        <a:lnTo>
                          <a:pt x="187" y="10"/>
                        </a:lnTo>
                        <a:lnTo>
                          <a:pt x="13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Freeform 134"/>
                  <p:cNvSpPr/>
                  <p:nvPr/>
                </p:nvSpPr>
                <p:spPr>
                  <a:xfrm>
                    <a:off x="1997280" y="5557680"/>
                    <a:ext cx="82440" cy="2232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210" h="68">
                        <a:moveTo>
                          <a:pt x="138" y="10"/>
                        </a:moveTo>
                        <a:lnTo>
                          <a:pt x="161" y="0"/>
                        </a:lnTo>
                        <a:lnTo>
                          <a:pt x="174" y="12"/>
                        </a:lnTo>
                        <a:lnTo>
                          <a:pt x="207" y="21"/>
                        </a:lnTo>
                        <a:lnTo>
                          <a:pt x="210" y="54"/>
                        </a:lnTo>
                        <a:lnTo>
                          <a:pt x="174" y="34"/>
                        </a:lnTo>
                        <a:lnTo>
                          <a:pt x="147" y="68"/>
                        </a:lnTo>
                        <a:lnTo>
                          <a:pt x="78" y="68"/>
                        </a:lnTo>
                        <a:lnTo>
                          <a:pt x="0" y="17"/>
                        </a:lnTo>
                        <a:lnTo>
                          <a:pt x="112" y="47"/>
                        </a:lnTo>
                        <a:lnTo>
                          <a:pt x="138" y="1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135"/>
                  <p:cNvSpPr/>
                  <p:nvPr/>
                </p:nvSpPr>
                <p:spPr>
                  <a:xfrm>
                    <a:off x="2098800" y="5583240"/>
                    <a:ext cx="41400" cy="475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04" h="15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22" y="96"/>
                        </a:lnTo>
                        <a:lnTo>
                          <a:pt x="46" y="105"/>
                        </a:lnTo>
                        <a:lnTo>
                          <a:pt x="53" y="150"/>
                        </a:lnTo>
                        <a:lnTo>
                          <a:pt x="75" y="105"/>
                        </a:lnTo>
                        <a:lnTo>
                          <a:pt x="104" y="77"/>
                        </a:lnTo>
                        <a:lnTo>
                          <a:pt x="68" y="54"/>
                        </a:lnTo>
                        <a:lnTo>
                          <a:pt x="85" y="10"/>
                        </a:lnTo>
                        <a:lnTo>
                          <a:pt x="62" y="0"/>
                        </a:lnTo>
                        <a:lnTo>
                          <a:pt x="49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Freeform 136"/>
                  <p:cNvSpPr/>
                  <p:nvPr/>
                </p:nvSpPr>
                <p:spPr>
                  <a:xfrm>
                    <a:off x="2075040" y="56134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60" h="139">
                        <a:moveTo>
                          <a:pt x="19" y="0"/>
                        </a:moveTo>
                        <a:lnTo>
                          <a:pt x="0" y="34"/>
                        </a:lnTo>
                        <a:lnTo>
                          <a:pt x="16" y="63"/>
                        </a:lnTo>
                        <a:lnTo>
                          <a:pt x="9" y="126"/>
                        </a:lnTo>
                        <a:lnTo>
                          <a:pt x="56" y="139"/>
                        </a:lnTo>
                        <a:lnTo>
                          <a:pt x="40" y="77"/>
                        </a:lnTo>
                        <a:lnTo>
                          <a:pt x="60" y="2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Freeform 137"/>
                  <p:cNvSpPr/>
                  <p:nvPr/>
                </p:nvSpPr>
                <p:spPr>
                  <a:xfrm>
                    <a:off x="1938600" y="5511960"/>
                    <a:ext cx="52200" cy="3168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132" h="101">
                        <a:moveTo>
                          <a:pt x="0" y="19"/>
                        </a:moveTo>
                        <a:lnTo>
                          <a:pt x="9" y="0"/>
                        </a:lnTo>
                        <a:lnTo>
                          <a:pt x="33" y="13"/>
                        </a:lnTo>
                        <a:lnTo>
                          <a:pt x="49" y="4"/>
                        </a:lnTo>
                        <a:lnTo>
                          <a:pt x="60" y="19"/>
                        </a:lnTo>
                        <a:lnTo>
                          <a:pt x="82" y="33"/>
                        </a:lnTo>
                        <a:lnTo>
                          <a:pt x="101" y="61"/>
                        </a:lnTo>
                        <a:lnTo>
                          <a:pt x="126" y="70"/>
                        </a:lnTo>
                        <a:lnTo>
                          <a:pt x="132" y="101"/>
                        </a:lnTo>
                        <a:lnTo>
                          <a:pt x="109" y="90"/>
                        </a:lnTo>
                        <a:lnTo>
                          <a:pt x="56" y="57"/>
                        </a:lnTo>
                        <a:lnTo>
                          <a:pt x="20" y="86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138"/>
                  <p:cNvSpPr/>
                  <p:nvPr/>
                </p:nvSpPr>
                <p:spPr>
                  <a:xfrm>
                    <a:off x="1945080" y="5562720"/>
                    <a:ext cx="37800" cy="28440"/>
                  </a:xfrm>
                  <a:custGeom>
                    <a:avLst/>
                    <a:gdLst>
                      <a:gd name="textAreaLeft" fmla="*/ 0 w 37800"/>
                      <a:gd name="textAreaRight" fmla="*/ 37800 w 3780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95" h="90">
                        <a:moveTo>
                          <a:pt x="0" y="0"/>
                        </a:moveTo>
                        <a:lnTo>
                          <a:pt x="6" y="39"/>
                        </a:lnTo>
                        <a:lnTo>
                          <a:pt x="29" y="58"/>
                        </a:lnTo>
                        <a:lnTo>
                          <a:pt x="76" y="58"/>
                        </a:lnTo>
                        <a:lnTo>
                          <a:pt x="95" y="90"/>
                        </a:lnTo>
                        <a:lnTo>
                          <a:pt x="83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Freeform 139"/>
                  <p:cNvSpPr/>
                  <p:nvPr/>
                </p:nvSpPr>
                <p:spPr>
                  <a:xfrm>
                    <a:off x="2076840" y="5575320"/>
                    <a:ext cx="15840" cy="334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40" h="105">
                        <a:moveTo>
                          <a:pt x="33" y="0"/>
                        </a:moveTo>
                        <a:lnTo>
                          <a:pt x="12" y="33"/>
                        </a:lnTo>
                        <a:lnTo>
                          <a:pt x="15" y="67"/>
                        </a:lnTo>
                        <a:lnTo>
                          <a:pt x="0" y="91"/>
                        </a:lnTo>
                        <a:lnTo>
                          <a:pt x="40" y="105"/>
                        </a:lnTo>
                        <a:lnTo>
                          <a:pt x="25" y="8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Freeform 140"/>
                  <p:cNvSpPr/>
                  <p:nvPr/>
                </p:nvSpPr>
                <p:spPr>
                  <a:xfrm>
                    <a:off x="1873440" y="5497560"/>
                    <a:ext cx="52560" cy="3312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132" h="105">
                        <a:moveTo>
                          <a:pt x="0" y="48"/>
                        </a:moveTo>
                        <a:lnTo>
                          <a:pt x="27" y="10"/>
                        </a:lnTo>
                        <a:lnTo>
                          <a:pt x="40" y="0"/>
                        </a:lnTo>
                        <a:lnTo>
                          <a:pt x="59" y="15"/>
                        </a:lnTo>
                        <a:lnTo>
                          <a:pt x="76" y="19"/>
                        </a:lnTo>
                        <a:lnTo>
                          <a:pt x="86" y="35"/>
                        </a:lnTo>
                        <a:lnTo>
                          <a:pt x="86" y="63"/>
                        </a:lnTo>
                        <a:lnTo>
                          <a:pt x="106" y="86"/>
                        </a:lnTo>
                        <a:lnTo>
                          <a:pt x="132" y="105"/>
                        </a:lnTo>
                        <a:lnTo>
                          <a:pt x="89" y="101"/>
                        </a:lnTo>
                        <a:lnTo>
                          <a:pt x="66" y="57"/>
                        </a:lnTo>
                        <a:lnTo>
                          <a:pt x="40" y="72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Group 141"/>
                <p:cNvGrpSpPr/>
                <p:nvPr/>
              </p:nvGrpSpPr>
              <p:grpSpPr>
                <a:xfrm>
                  <a:off x="2057760" y="5440320"/>
                  <a:ext cx="199800" cy="114480"/>
                  <a:chOff x="2057760" y="5440320"/>
                  <a:chExt cx="199800" cy="114480"/>
                </a:xfrm>
              </p:grpSpPr>
              <p:sp>
                <p:nvSpPr>
                  <p:cNvPr id="377" name="Freeform 142"/>
                  <p:cNvSpPr/>
                  <p:nvPr/>
                </p:nvSpPr>
                <p:spPr>
                  <a:xfrm>
                    <a:off x="2057760" y="5440320"/>
                    <a:ext cx="199800" cy="11448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114480"/>
                      <a:gd name="textAreaBottom" fmla="*/ 114840 h 114480"/>
                    </a:gdLst>
                    <a:ahLst/>
                    <a:rect l="textAreaLeft" t="textAreaTop" r="textAreaRight" b="textAreaBottom"/>
                    <a:pathLst>
                      <a:path w="506" h="358">
                        <a:moveTo>
                          <a:pt x="269" y="0"/>
                        </a:moveTo>
                        <a:lnTo>
                          <a:pt x="220" y="16"/>
                        </a:lnTo>
                        <a:lnTo>
                          <a:pt x="180" y="12"/>
                        </a:lnTo>
                        <a:lnTo>
                          <a:pt x="175" y="25"/>
                        </a:lnTo>
                        <a:lnTo>
                          <a:pt x="117" y="46"/>
                        </a:lnTo>
                        <a:lnTo>
                          <a:pt x="135" y="73"/>
                        </a:lnTo>
                        <a:lnTo>
                          <a:pt x="62" y="102"/>
                        </a:lnTo>
                        <a:lnTo>
                          <a:pt x="73" y="115"/>
                        </a:lnTo>
                        <a:lnTo>
                          <a:pt x="39" y="149"/>
                        </a:lnTo>
                        <a:lnTo>
                          <a:pt x="56" y="183"/>
                        </a:lnTo>
                        <a:lnTo>
                          <a:pt x="0" y="212"/>
                        </a:lnTo>
                        <a:lnTo>
                          <a:pt x="27" y="239"/>
                        </a:lnTo>
                        <a:lnTo>
                          <a:pt x="22" y="260"/>
                        </a:lnTo>
                        <a:lnTo>
                          <a:pt x="39" y="273"/>
                        </a:lnTo>
                        <a:lnTo>
                          <a:pt x="66" y="300"/>
                        </a:lnTo>
                        <a:lnTo>
                          <a:pt x="106" y="290"/>
                        </a:lnTo>
                        <a:lnTo>
                          <a:pt x="123" y="315"/>
                        </a:lnTo>
                        <a:lnTo>
                          <a:pt x="146" y="334"/>
                        </a:lnTo>
                        <a:lnTo>
                          <a:pt x="175" y="329"/>
                        </a:lnTo>
                        <a:lnTo>
                          <a:pt x="254" y="350"/>
                        </a:lnTo>
                        <a:lnTo>
                          <a:pt x="308" y="358"/>
                        </a:lnTo>
                        <a:lnTo>
                          <a:pt x="338" y="342"/>
                        </a:lnTo>
                        <a:lnTo>
                          <a:pt x="388" y="334"/>
                        </a:lnTo>
                        <a:lnTo>
                          <a:pt x="445" y="321"/>
                        </a:lnTo>
                        <a:lnTo>
                          <a:pt x="434" y="286"/>
                        </a:lnTo>
                        <a:lnTo>
                          <a:pt x="467" y="265"/>
                        </a:lnTo>
                        <a:lnTo>
                          <a:pt x="439" y="231"/>
                        </a:lnTo>
                        <a:lnTo>
                          <a:pt x="472" y="212"/>
                        </a:lnTo>
                        <a:lnTo>
                          <a:pt x="501" y="176"/>
                        </a:lnTo>
                        <a:lnTo>
                          <a:pt x="506" y="149"/>
                        </a:lnTo>
                        <a:lnTo>
                          <a:pt x="496" y="119"/>
                        </a:lnTo>
                        <a:lnTo>
                          <a:pt x="506" y="98"/>
                        </a:lnTo>
                        <a:lnTo>
                          <a:pt x="467" y="86"/>
                        </a:lnTo>
                        <a:lnTo>
                          <a:pt x="405" y="86"/>
                        </a:lnTo>
                        <a:lnTo>
                          <a:pt x="382" y="33"/>
                        </a:lnTo>
                        <a:lnTo>
                          <a:pt x="331" y="33"/>
                        </a:lnTo>
                        <a:lnTo>
                          <a:pt x="26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143"/>
                  <p:cNvSpPr/>
                  <p:nvPr/>
                </p:nvSpPr>
                <p:spPr>
                  <a:xfrm>
                    <a:off x="2146680" y="5464080"/>
                    <a:ext cx="88920" cy="46080"/>
                  </a:xfrm>
                  <a:custGeom>
                    <a:avLst/>
                    <a:gdLst>
                      <a:gd name="textAreaLeft" fmla="*/ 0 w 88920"/>
                      <a:gd name="textAreaRight" fmla="*/ 88920 w 889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226" h="145">
                        <a:moveTo>
                          <a:pt x="0" y="0"/>
                        </a:moveTo>
                        <a:lnTo>
                          <a:pt x="57" y="15"/>
                        </a:lnTo>
                        <a:lnTo>
                          <a:pt x="80" y="46"/>
                        </a:lnTo>
                        <a:lnTo>
                          <a:pt x="74" y="84"/>
                        </a:lnTo>
                        <a:lnTo>
                          <a:pt x="119" y="110"/>
                        </a:lnTo>
                        <a:lnTo>
                          <a:pt x="125" y="145"/>
                        </a:lnTo>
                        <a:lnTo>
                          <a:pt x="188" y="116"/>
                        </a:lnTo>
                        <a:lnTo>
                          <a:pt x="226" y="63"/>
                        </a:lnTo>
                        <a:lnTo>
                          <a:pt x="169" y="42"/>
                        </a:lnTo>
                        <a:lnTo>
                          <a:pt x="136" y="8"/>
                        </a:lnTo>
                        <a:lnTo>
                          <a:pt x="90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144"/>
                  <p:cNvSpPr/>
                  <p:nvPr/>
                </p:nvSpPr>
                <p:spPr>
                  <a:xfrm>
                    <a:off x="2130840" y="5514840"/>
                    <a:ext cx="90360" cy="270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227" h="87">
                        <a:moveTo>
                          <a:pt x="0" y="73"/>
                        </a:moveTo>
                        <a:lnTo>
                          <a:pt x="57" y="87"/>
                        </a:lnTo>
                        <a:lnTo>
                          <a:pt x="113" y="87"/>
                        </a:lnTo>
                        <a:lnTo>
                          <a:pt x="158" y="66"/>
                        </a:lnTo>
                        <a:lnTo>
                          <a:pt x="192" y="68"/>
                        </a:lnTo>
                        <a:lnTo>
                          <a:pt x="192" y="31"/>
                        </a:lnTo>
                        <a:lnTo>
                          <a:pt x="227" y="0"/>
                        </a:lnTo>
                        <a:lnTo>
                          <a:pt x="164" y="18"/>
                        </a:lnTo>
                        <a:lnTo>
                          <a:pt x="142" y="34"/>
                        </a:lnTo>
                        <a:lnTo>
                          <a:pt x="80" y="66"/>
                        </a:lnTo>
                        <a:lnTo>
                          <a:pt x="0" y="7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145"/>
                  <p:cNvSpPr/>
                  <p:nvPr/>
                </p:nvSpPr>
                <p:spPr>
                  <a:xfrm>
                    <a:off x="2102040" y="5472000"/>
                    <a:ext cx="42840" cy="446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109" h="137">
                        <a:moveTo>
                          <a:pt x="24" y="0"/>
                        </a:moveTo>
                        <a:lnTo>
                          <a:pt x="0" y="21"/>
                        </a:lnTo>
                        <a:lnTo>
                          <a:pt x="29" y="47"/>
                        </a:lnTo>
                        <a:lnTo>
                          <a:pt x="24" y="76"/>
                        </a:lnTo>
                        <a:lnTo>
                          <a:pt x="46" y="87"/>
                        </a:lnTo>
                        <a:lnTo>
                          <a:pt x="24" y="137"/>
                        </a:lnTo>
                        <a:lnTo>
                          <a:pt x="109" y="89"/>
                        </a:lnTo>
                        <a:lnTo>
                          <a:pt x="103" y="65"/>
                        </a:lnTo>
                        <a:lnTo>
                          <a:pt x="74" y="47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Group 146"/>
                <p:cNvGrpSpPr/>
                <p:nvPr/>
              </p:nvGrpSpPr>
              <p:grpSpPr>
                <a:xfrm>
                  <a:off x="2009880" y="5334120"/>
                  <a:ext cx="138240" cy="118800"/>
                  <a:chOff x="2009880" y="5334120"/>
                  <a:chExt cx="138240" cy="118800"/>
                </a:xfrm>
              </p:grpSpPr>
              <p:sp>
                <p:nvSpPr>
                  <p:cNvPr id="382" name="Freeform 147"/>
                  <p:cNvSpPr/>
                  <p:nvPr/>
                </p:nvSpPr>
                <p:spPr>
                  <a:xfrm>
                    <a:off x="2009880" y="5334120"/>
                    <a:ext cx="138240" cy="118800"/>
                  </a:xfrm>
                  <a:custGeom>
                    <a:avLst/>
                    <a:gdLst>
                      <a:gd name="textAreaLeft" fmla="*/ 0 w 138240"/>
                      <a:gd name="textAreaRight" fmla="*/ 138240 w 138240"/>
                      <a:gd name="textAreaTop" fmla="*/ 0 h 118800"/>
                      <a:gd name="textAreaBottom" fmla="*/ 119160 h 118800"/>
                    </a:gdLst>
                    <a:ahLst/>
                    <a:rect l="textAreaLeft" t="textAreaTop" r="textAreaRight" b="textAreaBottom"/>
                    <a:pathLst>
                      <a:path w="348" h="375">
                        <a:moveTo>
                          <a:pt x="348" y="199"/>
                        </a:moveTo>
                        <a:lnTo>
                          <a:pt x="330" y="160"/>
                        </a:lnTo>
                        <a:lnTo>
                          <a:pt x="335" y="132"/>
                        </a:lnTo>
                        <a:lnTo>
                          <a:pt x="322" y="128"/>
                        </a:lnTo>
                        <a:lnTo>
                          <a:pt x="303" y="87"/>
                        </a:lnTo>
                        <a:lnTo>
                          <a:pt x="277" y="98"/>
                        </a:lnTo>
                        <a:lnTo>
                          <a:pt x="249" y="43"/>
                        </a:lnTo>
                        <a:lnTo>
                          <a:pt x="237" y="51"/>
                        </a:lnTo>
                        <a:lnTo>
                          <a:pt x="203" y="28"/>
                        </a:lnTo>
                        <a:lnTo>
                          <a:pt x="169" y="41"/>
                        </a:lnTo>
                        <a:lnTo>
                          <a:pt x="139" y="0"/>
                        </a:lnTo>
                        <a:lnTo>
                          <a:pt x="116" y="19"/>
                        </a:lnTo>
                        <a:lnTo>
                          <a:pt x="94" y="15"/>
                        </a:lnTo>
                        <a:lnTo>
                          <a:pt x="84" y="28"/>
                        </a:lnTo>
                        <a:lnTo>
                          <a:pt x="58" y="49"/>
                        </a:lnTo>
                        <a:lnTo>
                          <a:pt x="66" y="78"/>
                        </a:lnTo>
                        <a:lnTo>
                          <a:pt x="41" y="90"/>
                        </a:lnTo>
                        <a:lnTo>
                          <a:pt x="26" y="106"/>
                        </a:lnTo>
                        <a:lnTo>
                          <a:pt x="29" y="128"/>
                        </a:lnTo>
                        <a:lnTo>
                          <a:pt x="9" y="187"/>
                        </a:lnTo>
                        <a:lnTo>
                          <a:pt x="0" y="228"/>
                        </a:lnTo>
                        <a:lnTo>
                          <a:pt x="17" y="249"/>
                        </a:lnTo>
                        <a:lnTo>
                          <a:pt x="26" y="286"/>
                        </a:lnTo>
                        <a:lnTo>
                          <a:pt x="37" y="329"/>
                        </a:lnTo>
                        <a:lnTo>
                          <a:pt x="71" y="321"/>
                        </a:lnTo>
                        <a:lnTo>
                          <a:pt x="92" y="345"/>
                        </a:lnTo>
                        <a:lnTo>
                          <a:pt x="124" y="324"/>
                        </a:lnTo>
                        <a:lnTo>
                          <a:pt x="139" y="350"/>
                        </a:lnTo>
                        <a:lnTo>
                          <a:pt x="177" y="370"/>
                        </a:lnTo>
                        <a:lnTo>
                          <a:pt x="203" y="375"/>
                        </a:lnTo>
                        <a:lnTo>
                          <a:pt x="231" y="366"/>
                        </a:lnTo>
                        <a:lnTo>
                          <a:pt x="252" y="375"/>
                        </a:lnTo>
                        <a:lnTo>
                          <a:pt x="265" y="345"/>
                        </a:lnTo>
                        <a:lnTo>
                          <a:pt x="265" y="300"/>
                        </a:lnTo>
                        <a:lnTo>
                          <a:pt x="314" y="283"/>
                        </a:lnTo>
                        <a:lnTo>
                          <a:pt x="314" y="245"/>
                        </a:lnTo>
                        <a:lnTo>
                          <a:pt x="348" y="19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148"/>
                  <p:cNvSpPr/>
                  <p:nvPr/>
                </p:nvSpPr>
                <p:spPr>
                  <a:xfrm>
                    <a:off x="2063880" y="5386320"/>
                    <a:ext cx="55800" cy="5256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40" h="166">
                        <a:moveTo>
                          <a:pt x="140" y="0"/>
                        </a:moveTo>
                        <a:lnTo>
                          <a:pt x="124" y="41"/>
                        </a:lnTo>
                        <a:lnTo>
                          <a:pt x="94" y="58"/>
                        </a:lnTo>
                        <a:lnTo>
                          <a:pt x="57" y="54"/>
                        </a:lnTo>
                        <a:lnTo>
                          <a:pt x="32" y="87"/>
                        </a:lnTo>
                        <a:lnTo>
                          <a:pt x="0" y="92"/>
                        </a:lnTo>
                        <a:lnTo>
                          <a:pt x="28" y="138"/>
                        </a:lnTo>
                        <a:lnTo>
                          <a:pt x="79" y="166"/>
                        </a:lnTo>
                        <a:lnTo>
                          <a:pt x="100" y="126"/>
                        </a:lnTo>
                        <a:lnTo>
                          <a:pt x="132" y="100"/>
                        </a:lnTo>
                        <a:lnTo>
                          <a:pt x="132" y="67"/>
                        </a:lnTo>
                        <a:lnTo>
                          <a:pt x="14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Freeform 149"/>
                  <p:cNvSpPr/>
                  <p:nvPr/>
                </p:nvSpPr>
                <p:spPr>
                  <a:xfrm>
                    <a:off x="2024280" y="5376960"/>
                    <a:ext cx="33480" cy="540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3" h="168">
                        <a:moveTo>
                          <a:pt x="12" y="0"/>
                        </a:moveTo>
                        <a:lnTo>
                          <a:pt x="0" y="43"/>
                        </a:lnTo>
                        <a:lnTo>
                          <a:pt x="0" y="84"/>
                        </a:lnTo>
                        <a:lnTo>
                          <a:pt x="21" y="117"/>
                        </a:lnTo>
                        <a:lnTo>
                          <a:pt x="17" y="141"/>
                        </a:lnTo>
                        <a:lnTo>
                          <a:pt x="55" y="141"/>
                        </a:lnTo>
                        <a:lnTo>
                          <a:pt x="83" y="168"/>
                        </a:lnTo>
                        <a:lnTo>
                          <a:pt x="68" y="122"/>
                        </a:lnTo>
                        <a:lnTo>
                          <a:pt x="49" y="105"/>
                        </a:lnTo>
                        <a:lnTo>
                          <a:pt x="21" y="5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150"/>
                  <p:cNvSpPr/>
                  <p:nvPr/>
                </p:nvSpPr>
                <p:spPr>
                  <a:xfrm>
                    <a:off x="2055960" y="5359320"/>
                    <a:ext cx="52560" cy="2556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133" h="78">
                        <a:moveTo>
                          <a:pt x="133" y="16"/>
                        </a:moveTo>
                        <a:lnTo>
                          <a:pt x="111" y="0"/>
                        </a:lnTo>
                        <a:lnTo>
                          <a:pt x="87" y="21"/>
                        </a:lnTo>
                        <a:lnTo>
                          <a:pt x="58" y="16"/>
                        </a:lnTo>
                        <a:lnTo>
                          <a:pt x="49" y="34"/>
                        </a:lnTo>
                        <a:lnTo>
                          <a:pt x="0" y="16"/>
                        </a:lnTo>
                        <a:lnTo>
                          <a:pt x="45" y="78"/>
                        </a:lnTo>
                        <a:lnTo>
                          <a:pt x="70" y="76"/>
                        </a:lnTo>
                        <a:lnTo>
                          <a:pt x="87" y="54"/>
                        </a:lnTo>
                        <a:lnTo>
                          <a:pt x="133" y="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Group 151"/>
                <p:cNvGrpSpPr/>
                <p:nvPr/>
              </p:nvGrpSpPr>
              <p:grpSpPr>
                <a:xfrm>
                  <a:off x="1741680" y="5629320"/>
                  <a:ext cx="690480" cy="301680"/>
                  <a:chOff x="1741680" y="5629320"/>
                  <a:chExt cx="690480" cy="301680"/>
                </a:xfrm>
              </p:grpSpPr>
              <p:grpSp>
                <p:nvGrpSpPr>
                  <p:cNvPr id="387" name="Group 152"/>
                  <p:cNvGrpSpPr/>
                  <p:nvPr/>
                </p:nvGrpSpPr>
                <p:grpSpPr>
                  <a:xfrm>
                    <a:off x="1741680" y="5629320"/>
                    <a:ext cx="690480" cy="301680"/>
                    <a:chOff x="1741680" y="5629320"/>
                    <a:chExt cx="690480" cy="301680"/>
                  </a:xfrm>
                </p:grpSpPr>
                <p:sp>
                  <p:nvSpPr>
                    <p:cNvPr id="388" name="Freeform 153"/>
                    <p:cNvSpPr/>
                    <p:nvPr/>
                  </p:nvSpPr>
                  <p:spPr>
                    <a:xfrm>
                      <a:off x="1741680" y="5629320"/>
                      <a:ext cx="690480" cy="301680"/>
                    </a:xfrm>
                    <a:custGeom>
                      <a:avLst/>
                      <a:gdLst>
                        <a:gd name="textAreaLeft" fmla="*/ 0 w 690480"/>
                        <a:gd name="textAreaRight" fmla="*/ 690840 w 690480"/>
                        <a:gd name="textAreaTop" fmla="*/ 0 h 301680"/>
                        <a:gd name="textAreaBottom" fmla="*/ 302040 h 301680"/>
                      </a:gdLst>
                      <a:ahLst/>
                      <a:rect l="textAreaLeft" t="textAreaTop" r="textAreaRight" b="textAreaBottom"/>
                      <a:pathLst>
                        <a:path w="1739" h="948">
                          <a:moveTo>
                            <a:pt x="1730" y="750"/>
                          </a:moveTo>
                          <a:lnTo>
                            <a:pt x="1711" y="713"/>
                          </a:lnTo>
                          <a:lnTo>
                            <a:pt x="1711" y="668"/>
                          </a:lnTo>
                          <a:lnTo>
                            <a:pt x="1685" y="642"/>
                          </a:lnTo>
                          <a:lnTo>
                            <a:pt x="1682" y="573"/>
                          </a:lnTo>
                          <a:lnTo>
                            <a:pt x="1654" y="538"/>
                          </a:lnTo>
                          <a:lnTo>
                            <a:pt x="1660" y="483"/>
                          </a:lnTo>
                          <a:lnTo>
                            <a:pt x="1619" y="447"/>
                          </a:lnTo>
                          <a:lnTo>
                            <a:pt x="1609" y="399"/>
                          </a:lnTo>
                          <a:lnTo>
                            <a:pt x="1581" y="402"/>
                          </a:lnTo>
                          <a:lnTo>
                            <a:pt x="1556" y="367"/>
                          </a:lnTo>
                          <a:lnTo>
                            <a:pt x="1493" y="390"/>
                          </a:lnTo>
                          <a:lnTo>
                            <a:pt x="1462" y="373"/>
                          </a:lnTo>
                          <a:lnTo>
                            <a:pt x="1430" y="329"/>
                          </a:lnTo>
                          <a:lnTo>
                            <a:pt x="1418" y="357"/>
                          </a:lnTo>
                          <a:lnTo>
                            <a:pt x="1386" y="363"/>
                          </a:lnTo>
                          <a:lnTo>
                            <a:pt x="1377" y="397"/>
                          </a:lnTo>
                          <a:lnTo>
                            <a:pt x="1355" y="437"/>
                          </a:lnTo>
                          <a:lnTo>
                            <a:pt x="1315" y="447"/>
                          </a:lnTo>
                          <a:lnTo>
                            <a:pt x="1358" y="492"/>
                          </a:lnTo>
                          <a:lnTo>
                            <a:pt x="1396" y="487"/>
                          </a:lnTo>
                          <a:lnTo>
                            <a:pt x="1418" y="518"/>
                          </a:lnTo>
                          <a:lnTo>
                            <a:pt x="1418" y="573"/>
                          </a:lnTo>
                          <a:lnTo>
                            <a:pt x="1443" y="633"/>
                          </a:lnTo>
                          <a:lnTo>
                            <a:pt x="1447" y="677"/>
                          </a:lnTo>
                          <a:lnTo>
                            <a:pt x="1482" y="683"/>
                          </a:lnTo>
                          <a:lnTo>
                            <a:pt x="1504" y="717"/>
                          </a:lnTo>
                          <a:lnTo>
                            <a:pt x="1491" y="778"/>
                          </a:lnTo>
                          <a:lnTo>
                            <a:pt x="1504" y="822"/>
                          </a:lnTo>
                          <a:lnTo>
                            <a:pt x="1466" y="778"/>
                          </a:lnTo>
                          <a:lnTo>
                            <a:pt x="1440" y="706"/>
                          </a:lnTo>
                          <a:lnTo>
                            <a:pt x="1416" y="628"/>
                          </a:lnTo>
                          <a:lnTo>
                            <a:pt x="1386" y="611"/>
                          </a:lnTo>
                          <a:lnTo>
                            <a:pt x="1386" y="556"/>
                          </a:lnTo>
                          <a:lnTo>
                            <a:pt x="1358" y="547"/>
                          </a:lnTo>
                          <a:lnTo>
                            <a:pt x="1358" y="492"/>
                          </a:lnTo>
                          <a:lnTo>
                            <a:pt x="1315" y="449"/>
                          </a:lnTo>
                          <a:lnTo>
                            <a:pt x="1310" y="483"/>
                          </a:lnTo>
                          <a:lnTo>
                            <a:pt x="1271" y="501"/>
                          </a:lnTo>
                          <a:lnTo>
                            <a:pt x="1255" y="556"/>
                          </a:lnTo>
                          <a:lnTo>
                            <a:pt x="1214" y="579"/>
                          </a:lnTo>
                          <a:lnTo>
                            <a:pt x="1164" y="577"/>
                          </a:lnTo>
                          <a:lnTo>
                            <a:pt x="1138" y="538"/>
                          </a:lnTo>
                          <a:lnTo>
                            <a:pt x="1061" y="518"/>
                          </a:lnTo>
                          <a:lnTo>
                            <a:pt x="1046" y="592"/>
                          </a:lnTo>
                          <a:lnTo>
                            <a:pt x="1070" y="628"/>
                          </a:lnTo>
                          <a:lnTo>
                            <a:pt x="1077" y="688"/>
                          </a:lnTo>
                          <a:lnTo>
                            <a:pt x="1103" y="723"/>
                          </a:lnTo>
                          <a:lnTo>
                            <a:pt x="1083" y="752"/>
                          </a:lnTo>
                          <a:lnTo>
                            <a:pt x="1055" y="726"/>
                          </a:lnTo>
                          <a:lnTo>
                            <a:pt x="1023" y="758"/>
                          </a:lnTo>
                          <a:lnTo>
                            <a:pt x="1001" y="723"/>
                          </a:lnTo>
                          <a:lnTo>
                            <a:pt x="1023" y="671"/>
                          </a:lnTo>
                          <a:lnTo>
                            <a:pt x="1035" y="637"/>
                          </a:lnTo>
                          <a:lnTo>
                            <a:pt x="1048" y="577"/>
                          </a:lnTo>
                          <a:lnTo>
                            <a:pt x="1061" y="518"/>
                          </a:lnTo>
                          <a:lnTo>
                            <a:pt x="1023" y="528"/>
                          </a:lnTo>
                          <a:lnTo>
                            <a:pt x="1016" y="573"/>
                          </a:lnTo>
                          <a:lnTo>
                            <a:pt x="985" y="599"/>
                          </a:lnTo>
                          <a:lnTo>
                            <a:pt x="953" y="582"/>
                          </a:lnTo>
                          <a:lnTo>
                            <a:pt x="953" y="521"/>
                          </a:lnTo>
                          <a:lnTo>
                            <a:pt x="923" y="507"/>
                          </a:lnTo>
                          <a:lnTo>
                            <a:pt x="914" y="479"/>
                          </a:lnTo>
                          <a:lnTo>
                            <a:pt x="887" y="487"/>
                          </a:lnTo>
                          <a:lnTo>
                            <a:pt x="863" y="442"/>
                          </a:lnTo>
                          <a:lnTo>
                            <a:pt x="837" y="438"/>
                          </a:lnTo>
                          <a:lnTo>
                            <a:pt x="813" y="466"/>
                          </a:lnTo>
                          <a:lnTo>
                            <a:pt x="770" y="457"/>
                          </a:lnTo>
                          <a:lnTo>
                            <a:pt x="755" y="487"/>
                          </a:lnTo>
                          <a:lnTo>
                            <a:pt x="722" y="519"/>
                          </a:lnTo>
                          <a:lnTo>
                            <a:pt x="672" y="457"/>
                          </a:lnTo>
                          <a:lnTo>
                            <a:pt x="676" y="411"/>
                          </a:lnTo>
                          <a:lnTo>
                            <a:pt x="641" y="377"/>
                          </a:lnTo>
                          <a:lnTo>
                            <a:pt x="634" y="332"/>
                          </a:lnTo>
                          <a:lnTo>
                            <a:pt x="602" y="308"/>
                          </a:lnTo>
                          <a:lnTo>
                            <a:pt x="586" y="231"/>
                          </a:lnTo>
                          <a:lnTo>
                            <a:pt x="559" y="231"/>
                          </a:lnTo>
                          <a:lnTo>
                            <a:pt x="544" y="199"/>
                          </a:lnTo>
                          <a:lnTo>
                            <a:pt x="506" y="178"/>
                          </a:lnTo>
                          <a:lnTo>
                            <a:pt x="484" y="117"/>
                          </a:lnTo>
                          <a:lnTo>
                            <a:pt x="436" y="93"/>
                          </a:lnTo>
                          <a:lnTo>
                            <a:pt x="417" y="38"/>
                          </a:lnTo>
                          <a:lnTo>
                            <a:pt x="392" y="0"/>
                          </a:lnTo>
                          <a:lnTo>
                            <a:pt x="385" y="13"/>
                          </a:lnTo>
                          <a:lnTo>
                            <a:pt x="366" y="77"/>
                          </a:lnTo>
                          <a:lnTo>
                            <a:pt x="372" y="123"/>
                          </a:lnTo>
                          <a:lnTo>
                            <a:pt x="343" y="108"/>
                          </a:lnTo>
                          <a:lnTo>
                            <a:pt x="341" y="187"/>
                          </a:lnTo>
                          <a:lnTo>
                            <a:pt x="311" y="209"/>
                          </a:lnTo>
                          <a:lnTo>
                            <a:pt x="315" y="267"/>
                          </a:lnTo>
                          <a:lnTo>
                            <a:pt x="277" y="286"/>
                          </a:lnTo>
                          <a:lnTo>
                            <a:pt x="271" y="348"/>
                          </a:lnTo>
                          <a:lnTo>
                            <a:pt x="229" y="332"/>
                          </a:lnTo>
                          <a:lnTo>
                            <a:pt x="211" y="292"/>
                          </a:lnTo>
                          <a:lnTo>
                            <a:pt x="198" y="312"/>
                          </a:lnTo>
                          <a:lnTo>
                            <a:pt x="158" y="308"/>
                          </a:lnTo>
                          <a:lnTo>
                            <a:pt x="145" y="341"/>
                          </a:lnTo>
                          <a:lnTo>
                            <a:pt x="125" y="321"/>
                          </a:lnTo>
                          <a:lnTo>
                            <a:pt x="112" y="357"/>
                          </a:lnTo>
                          <a:lnTo>
                            <a:pt x="86" y="357"/>
                          </a:lnTo>
                          <a:lnTo>
                            <a:pt x="105" y="390"/>
                          </a:lnTo>
                          <a:lnTo>
                            <a:pt x="73" y="406"/>
                          </a:lnTo>
                          <a:lnTo>
                            <a:pt x="38" y="447"/>
                          </a:lnTo>
                          <a:lnTo>
                            <a:pt x="64" y="478"/>
                          </a:lnTo>
                          <a:lnTo>
                            <a:pt x="55" y="528"/>
                          </a:lnTo>
                          <a:lnTo>
                            <a:pt x="55" y="573"/>
                          </a:lnTo>
                          <a:lnTo>
                            <a:pt x="0" y="577"/>
                          </a:lnTo>
                          <a:lnTo>
                            <a:pt x="3" y="616"/>
                          </a:lnTo>
                          <a:lnTo>
                            <a:pt x="3" y="678"/>
                          </a:lnTo>
                          <a:lnTo>
                            <a:pt x="31" y="668"/>
                          </a:lnTo>
                          <a:lnTo>
                            <a:pt x="48" y="633"/>
                          </a:lnTo>
                          <a:lnTo>
                            <a:pt x="73" y="647"/>
                          </a:lnTo>
                          <a:lnTo>
                            <a:pt x="92" y="602"/>
                          </a:lnTo>
                          <a:lnTo>
                            <a:pt x="127" y="628"/>
                          </a:lnTo>
                          <a:lnTo>
                            <a:pt x="165" y="582"/>
                          </a:lnTo>
                          <a:lnTo>
                            <a:pt x="181" y="528"/>
                          </a:lnTo>
                          <a:lnTo>
                            <a:pt x="207" y="568"/>
                          </a:lnTo>
                          <a:lnTo>
                            <a:pt x="227" y="552"/>
                          </a:lnTo>
                          <a:lnTo>
                            <a:pt x="258" y="582"/>
                          </a:lnTo>
                          <a:lnTo>
                            <a:pt x="258" y="527"/>
                          </a:lnTo>
                          <a:lnTo>
                            <a:pt x="286" y="521"/>
                          </a:lnTo>
                          <a:lnTo>
                            <a:pt x="290" y="466"/>
                          </a:lnTo>
                          <a:lnTo>
                            <a:pt x="321" y="449"/>
                          </a:lnTo>
                          <a:lnTo>
                            <a:pt x="344" y="472"/>
                          </a:lnTo>
                          <a:lnTo>
                            <a:pt x="335" y="524"/>
                          </a:lnTo>
                          <a:lnTo>
                            <a:pt x="333" y="556"/>
                          </a:lnTo>
                          <a:lnTo>
                            <a:pt x="316" y="608"/>
                          </a:lnTo>
                          <a:lnTo>
                            <a:pt x="284" y="642"/>
                          </a:lnTo>
                          <a:lnTo>
                            <a:pt x="294" y="685"/>
                          </a:lnTo>
                          <a:lnTo>
                            <a:pt x="269" y="717"/>
                          </a:lnTo>
                          <a:lnTo>
                            <a:pt x="307" y="736"/>
                          </a:lnTo>
                          <a:lnTo>
                            <a:pt x="338" y="707"/>
                          </a:lnTo>
                          <a:lnTo>
                            <a:pt x="360" y="754"/>
                          </a:lnTo>
                          <a:lnTo>
                            <a:pt x="399" y="736"/>
                          </a:lnTo>
                          <a:lnTo>
                            <a:pt x="436" y="770"/>
                          </a:lnTo>
                          <a:lnTo>
                            <a:pt x="456" y="794"/>
                          </a:lnTo>
                          <a:lnTo>
                            <a:pt x="513" y="798"/>
                          </a:lnTo>
                          <a:lnTo>
                            <a:pt x="509" y="760"/>
                          </a:lnTo>
                          <a:lnTo>
                            <a:pt x="519" y="726"/>
                          </a:lnTo>
                          <a:lnTo>
                            <a:pt x="496" y="698"/>
                          </a:lnTo>
                          <a:lnTo>
                            <a:pt x="519" y="651"/>
                          </a:lnTo>
                          <a:lnTo>
                            <a:pt x="496" y="604"/>
                          </a:lnTo>
                          <a:lnTo>
                            <a:pt x="509" y="561"/>
                          </a:lnTo>
                          <a:lnTo>
                            <a:pt x="453" y="528"/>
                          </a:lnTo>
                          <a:lnTo>
                            <a:pt x="421" y="510"/>
                          </a:lnTo>
                          <a:lnTo>
                            <a:pt x="373" y="466"/>
                          </a:lnTo>
                          <a:lnTo>
                            <a:pt x="360" y="390"/>
                          </a:lnTo>
                          <a:lnTo>
                            <a:pt x="414" y="418"/>
                          </a:lnTo>
                          <a:lnTo>
                            <a:pt x="447" y="406"/>
                          </a:lnTo>
                          <a:lnTo>
                            <a:pt x="475" y="457"/>
                          </a:lnTo>
                          <a:lnTo>
                            <a:pt x="513" y="449"/>
                          </a:lnTo>
                          <a:lnTo>
                            <a:pt x="535" y="501"/>
                          </a:lnTo>
                          <a:lnTo>
                            <a:pt x="570" y="518"/>
                          </a:lnTo>
                          <a:lnTo>
                            <a:pt x="580" y="568"/>
                          </a:lnTo>
                          <a:lnTo>
                            <a:pt x="628" y="579"/>
                          </a:lnTo>
                          <a:lnTo>
                            <a:pt x="665" y="573"/>
                          </a:lnTo>
                          <a:lnTo>
                            <a:pt x="689" y="611"/>
                          </a:lnTo>
                          <a:lnTo>
                            <a:pt x="720" y="602"/>
                          </a:lnTo>
                          <a:lnTo>
                            <a:pt x="742" y="652"/>
                          </a:lnTo>
                          <a:lnTo>
                            <a:pt x="768" y="648"/>
                          </a:lnTo>
                          <a:lnTo>
                            <a:pt x="800" y="688"/>
                          </a:lnTo>
                          <a:lnTo>
                            <a:pt x="835" y="702"/>
                          </a:lnTo>
                          <a:lnTo>
                            <a:pt x="837" y="743"/>
                          </a:lnTo>
                          <a:lnTo>
                            <a:pt x="889" y="767"/>
                          </a:lnTo>
                          <a:lnTo>
                            <a:pt x="901" y="826"/>
                          </a:lnTo>
                          <a:lnTo>
                            <a:pt x="927" y="836"/>
                          </a:lnTo>
                          <a:lnTo>
                            <a:pt x="959" y="869"/>
                          </a:lnTo>
                          <a:lnTo>
                            <a:pt x="995" y="826"/>
                          </a:lnTo>
                          <a:lnTo>
                            <a:pt x="1033" y="846"/>
                          </a:lnTo>
                          <a:lnTo>
                            <a:pt x="1061" y="816"/>
                          </a:lnTo>
                          <a:lnTo>
                            <a:pt x="1103" y="833"/>
                          </a:lnTo>
                          <a:lnTo>
                            <a:pt x="1147" y="803"/>
                          </a:lnTo>
                          <a:lnTo>
                            <a:pt x="1188" y="822"/>
                          </a:lnTo>
                          <a:lnTo>
                            <a:pt x="1214" y="778"/>
                          </a:lnTo>
                          <a:lnTo>
                            <a:pt x="1246" y="798"/>
                          </a:lnTo>
                          <a:lnTo>
                            <a:pt x="1290" y="791"/>
                          </a:lnTo>
                          <a:lnTo>
                            <a:pt x="1328" y="840"/>
                          </a:lnTo>
                          <a:lnTo>
                            <a:pt x="1358" y="877"/>
                          </a:lnTo>
                          <a:lnTo>
                            <a:pt x="1403" y="862"/>
                          </a:lnTo>
                          <a:lnTo>
                            <a:pt x="1434" y="911"/>
                          </a:lnTo>
                          <a:lnTo>
                            <a:pt x="1475" y="942"/>
                          </a:lnTo>
                          <a:lnTo>
                            <a:pt x="1519" y="948"/>
                          </a:lnTo>
                          <a:lnTo>
                            <a:pt x="1532" y="902"/>
                          </a:lnTo>
                          <a:lnTo>
                            <a:pt x="1578" y="902"/>
                          </a:lnTo>
                          <a:lnTo>
                            <a:pt x="1615" y="851"/>
                          </a:lnTo>
                          <a:lnTo>
                            <a:pt x="1663" y="842"/>
                          </a:lnTo>
                          <a:lnTo>
                            <a:pt x="1708" y="822"/>
                          </a:lnTo>
                          <a:lnTo>
                            <a:pt x="1739" y="791"/>
                          </a:lnTo>
                          <a:lnTo>
                            <a:pt x="1730" y="75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54"/>
                    <p:cNvSpPr/>
                    <p:nvPr/>
                  </p:nvSpPr>
                  <p:spPr>
                    <a:xfrm>
                      <a:off x="1875240" y="5810400"/>
                      <a:ext cx="25200" cy="44280"/>
                    </a:xfrm>
                    <a:custGeom>
                      <a:avLst/>
                      <a:gdLst>
                        <a:gd name="textAreaLeft" fmla="*/ 0 w 25200"/>
                        <a:gd name="textAreaRight" fmla="*/ 25560 w 2520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65" h="137">
                          <a:moveTo>
                            <a:pt x="45" y="0"/>
                          </a:moveTo>
                          <a:lnTo>
                            <a:pt x="39" y="34"/>
                          </a:lnTo>
                          <a:lnTo>
                            <a:pt x="61" y="67"/>
                          </a:lnTo>
                          <a:lnTo>
                            <a:pt x="41" y="95"/>
                          </a:lnTo>
                          <a:lnTo>
                            <a:pt x="65" y="134"/>
                          </a:lnTo>
                          <a:lnTo>
                            <a:pt x="39" y="137"/>
                          </a:lnTo>
                          <a:lnTo>
                            <a:pt x="13" y="91"/>
                          </a:lnTo>
                          <a:lnTo>
                            <a:pt x="0" y="81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55"/>
                    <p:cNvSpPr/>
                    <p:nvPr/>
                  </p:nvSpPr>
                  <p:spPr>
                    <a:xfrm>
                      <a:off x="1911600" y="5807160"/>
                      <a:ext cx="20520" cy="57240"/>
                    </a:xfrm>
                    <a:custGeom>
                      <a:avLst/>
                      <a:gdLst>
                        <a:gd name="textAreaLeft" fmla="*/ 0 w 20520"/>
                        <a:gd name="textAreaRight" fmla="*/ 20520 w 205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50" h="180">
                          <a:moveTo>
                            <a:pt x="30" y="0"/>
                          </a:moveTo>
                          <a:lnTo>
                            <a:pt x="26" y="34"/>
                          </a:lnTo>
                          <a:lnTo>
                            <a:pt x="48" y="67"/>
                          </a:lnTo>
                          <a:lnTo>
                            <a:pt x="39" y="100"/>
                          </a:lnTo>
                          <a:lnTo>
                            <a:pt x="50" y="180"/>
                          </a:lnTo>
                          <a:lnTo>
                            <a:pt x="0" y="9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156"/>
                    <p:cNvSpPr/>
                    <p:nvPr/>
                  </p:nvSpPr>
                  <p:spPr>
                    <a:xfrm>
                      <a:off x="1856160" y="5719680"/>
                      <a:ext cx="23760" cy="3348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63" h="105">
                          <a:moveTo>
                            <a:pt x="63" y="0"/>
                          </a:moveTo>
                          <a:lnTo>
                            <a:pt x="50" y="19"/>
                          </a:lnTo>
                          <a:lnTo>
                            <a:pt x="50" y="105"/>
                          </a:lnTo>
                          <a:lnTo>
                            <a:pt x="0" y="90"/>
                          </a:lnTo>
                          <a:lnTo>
                            <a:pt x="22" y="58"/>
                          </a:lnTo>
                          <a:lnTo>
                            <a:pt x="2" y="24"/>
                          </a:lnTo>
                          <a:lnTo>
                            <a:pt x="6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Freeform 157"/>
                    <p:cNvSpPr/>
                    <p:nvPr/>
                  </p:nvSpPr>
                  <p:spPr>
                    <a:xfrm>
                      <a:off x="1887840" y="5643720"/>
                      <a:ext cx="36360" cy="104760"/>
                    </a:xfrm>
                    <a:custGeom>
                      <a:avLst/>
                      <a:gdLst>
                        <a:gd name="textAreaLeft" fmla="*/ 0 w 36360"/>
                        <a:gd name="textAreaRight" fmla="*/ 36720 w 3636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90" h="330">
                          <a:moveTo>
                            <a:pt x="29" y="0"/>
                          </a:moveTo>
                          <a:lnTo>
                            <a:pt x="47" y="71"/>
                          </a:lnTo>
                          <a:lnTo>
                            <a:pt x="35" y="141"/>
                          </a:lnTo>
                          <a:lnTo>
                            <a:pt x="47" y="189"/>
                          </a:lnTo>
                          <a:lnTo>
                            <a:pt x="33" y="221"/>
                          </a:lnTo>
                          <a:lnTo>
                            <a:pt x="57" y="289"/>
                          </a:lnTo>
                          <a:lnTo>
                            <a:pt x="90" y="311"/>
                          </a:lnTo>
                          <a:lnTo>
                            <a:pt x="60" y="321"/>
                          </a:lnTo>
                          <a:lnTo>
                            <a:pt x="47" y="330"/>
                          </a:lnTo>
                          <a:lnTo>
                            <a:pt x="16" y="302"/>
                          </a:lnTo>
                          <a:lnTo>
                            <a:pt x="0" y="212"/>
                          </a:lnTo>
                          <a:lnTo>
                            <a:pt x="26" y="189"/>
                          </a:lnTo>
                          <a:lnTo>
                            <a:pt x="13" y="146"/>
                          </a:lnTo>
                          <a:lnTo>
                            <a:pt x="33" y="93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158"/>
                    <p:cNvSpPr/>
                    <p:nvPr/>
                  </p:nvSpPr>
                  <p:spPr>
                    <a:xfrm>
                      <a:off x="1933920" y="5699160"/>
                      <a:ext cx="41040" cy="8892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88920"/>
                        <a:gd name="textAreaBottom" fmla="*/ 89280 h 88920"/>
                      </a:gdLst>
                      <a:ahLst/>
                      <a:rect l="textAreaLeft" t="textAreaTop" r="textAreaRight" b="textAreaBottom"/>
                      <a:pathLst>
                        <a:path w="105" h="280">
                          <a:moveTo>
                            <a:pt x="25" y="0"/>
                          </a:moveTo>
                          <a:lnTo>
                            <a:pt x="60" y="28"/>
                          </a:lnTo>
                          <a:lnTo>
                            <a:pt x="51" y="62"/>
                          </a:lnTo>
                          <a:lnTo>
                            <a:pt x="64" y="128"/>
                          </a:lnTo>
                          <a:lnTo>
                            <a:pt x="86" y="162"/>
                          </a:lnTo>
                          <a:lnTo>
                            <a:pt x="86" y="199"/>
                          </a:lnTo>
                          <a:lnTo>
                            <a:pt x="88" y="237"/>
                          </a:lnTo>
                          <a:lnTo>
                            <a:pt x="105" y="280"/>
                          </a:lnTo>
                          <a:lnTo>
                            <a:pt x="64" y="252"/>
                          </a:lnTo>
                          <a:lnTo>
                            <a:pt x="51" y="184"/>
                          </a:lnTo>
                          <a:lnTo>
                            <a:pt x="0" y="156"/>
                          </a:lnTo>
                          <a:lnTo>
                            <a:pt x="31" y="119"/>
                          </a:lnTo>
                          <a:lnTo>
                            <a:pt x="31" y="81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480" bIns="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159"/>
                    <p:cNvSpPr/>
                    <p:nvPr/>
                  </p:nvSpPr>
                  <p:spPr>
                    <a:xfrm>
                      <a:off x="2030760" y="5780160"/>
                      <a:ext cx="46080" cy="2520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25200"/>
                        <a:gd name="textAreaBottom" fmla="*/ 25560 h 25200"/>
                      </a:gdLst>
                      <a:ahLst/>
                      <a:rect l="textAreaLeft" t="textAreaTop" r="textAreaRight" b="textAreaBottom"/>
                      <a:pathLst>
                        <a:path w="116" h="84">
                          <a:moveTo>
                            <a:pt x="116" y="0"/>
                          </a:moveTo>
                          <a:lnTo>
                            <a:pt x="101" y="9"/>
                          </a:lnTo>
                          <a:lnTo>
                            <a:pt x="79" y="13"/>
                          </a:lnTo>
                          <a:lnTo>
                            <a:pt x="57" y="13"/>
                          </a:lnTo>
                          <a:lnTo>
                            <a:pt x="40" y="38"/>
                          </a:lnTo>
                          <a:lnTo>
                            <a:pt x="31" y="56"/>
                          </a:lnTo>
                          <a:lnTo>
                            <a:pt x="0" y="75"/>
                          </a:lnTo>
                          <a:lnTo>
                            <a:pt x="27" y="84"/>
                          </a:lnTo>
                          <a:lnTo>
                            <a:pt x="66" y="52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Freeform 160"/>
                    <p:cNvSpPr/>
                    <p:nvPr/>
                  </p:nvSpPr>
                  <p:spPr>
                    <a:xfrm>
                      <a:off x="2075040" y="5786280"/>
                      <a:ext cx="74520" cy="59040"/>
                    </a:xfrm>
                    <a:custGeom>
                      <a:avLst/>
                      <a:gdLst>
                        <a:gd name="textAreaLeft" fmla="*/ 0 w 74520"/>
                        <a:gd name="textAreaRight" fmla="*/ 74520 w 74520"/>
                        <a:gd name="textAreaTop" fmla="*/ 0 h 59040"/>
                        <a:gd name="textAreaBottom" fmla="*/ 59400 h 59040"/>
                      </a:gdLst>
                      <a:ahLst/>
                      <a:rect l="textAreaLeft" t="textAreaTop" r="textAreaRight" b="textAreaBottom"/>
                      <a:pathLst>
                        <a:path w="186" h="185">
                          <a:moveTo>
                            <a:pt x="0" y="0"/>
                          </a:moveTo>
                          <a:lnTo>
                            <a:pt x="35" y="48"/>
                          </a:lnTo>
                          <a:lnTo>
                            <a:pt x="44" y="90"/>
                          </a:lnTo>
                          <a:lnTo>
                            <a:pt x="66" y="139"/>
                          </a:lnTo>
                          <a:lnTo>
                            <a:pt x="85" y="185"/>
                          </a:lnTo>
                          <a:lnTo>
                            <a:pt x="123" y="153"/>
                          </a:lnTo>
                          <a:lnTo>
                            <a:pt x="183" y="120"/>
                          </a:lnTo>
                          <a:lnTo>
                            <a:pt x="186" y="90"/>
                          </a:lnTo>
                          <a:lnTo>
                            <a:pt x="148" y="129"/>
                          </a:lnTo>
                          <a:lnTo>
                            <a:pt x="110" y="134"/>
                          </a:lnTo>
                          <a:lnTo>
                            <a:pt x="70" y="110"/>
                          </a:lnTo>
                          <a:lnTo>
                            <a:pt x="79" y="58"/>
                          </a:lnTo>
                          <a:lnTo>
                            <a:pt x="53" y="2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61"/>
                    <p:cNvSpPr/>
                    <p:nvPr/>
                  </p:nvSpPr>
                  <p:spPr>
                    <a:xfrm>
                      <a:off x="2057760" y="5811840"/>
                      <a:ext cx="41040" cy="5076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50760"/>
                        <a:gd name="textAreaBottom" fmla="*/ 51120 h 50760"/>
                      </a:gdLst>
                      <a:ahLst/>
                      <a:rect l="textAreaLeft" t="textAreaTop" r="textAreaRight" b="textAreaBottom"/>
                      <a:pathLst>
                        <a:path w="103" h="161">
                          <a:moveTo>
                            <a:pt x="37" y="0"/>
                          </a:moveTo>
                          <a:lnTo>
                            <a:pt x="37" y="33"/>
                          </a:lnTo>
                          <a:lnTo>
                            <a:pt x="68" y="72"/>
                          </a:lnTo>
                          <a:lnTo>
                            <a:pt x="66" y="104"/>
                          </a:lnTo>
                          <a:lnTo>
                            <a:pt x="94" y="129"/>
                          </a:lnTo>
                          <a:lnTo>
                            <a:pt x="103" y="161"/>
                          </a:lnTo>
                          <a:lnTo>
                            <a:pt x="66" y="129"/>
                          </a:lnTo>
                          <a:lnTo>
                            <a:pt x="27" y="95"/>
                          </a:lnTo>
                          <a:lnTo>
                            <a:pt x="27" y="72"/>
                          </a:lnTo>
                          <a:lnTo>
                            <a:pt x="0" y="14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162"/>
                    <p:cNvSpPr/>
                    <p:nvPr/>
                  </p:nvSpPr>
                  <p:spPr>
                    <a:xfrm>
                      <a:off x="1926000" y="5684760"/>
                      <a:ext cx="7920" cy="20880"/>
                    </a:xfrm>
                    <a:custGeom>
                      <a:avLst/>
                      <a:gdLst>
                        <a:gd name="textAreaLeft" fmla="*/ 0 w 7920"/>
                        <a:gd name="textAreaRight" fmla="*/ 8280 w 792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w="19" h="66">
                          <a:moveTo>
                            <a:pt x="6" y="0"/>
                          </a:moveTo>
                          <a:lnTo>
                            <a:pt x="19" y="38"/>
                          </a:lnTo>
                          <a:lnTo>
                            <a:pt x="15" y="66"/>
                          </a:lnTo>
                          <a:lnTo>
                            <a:pt x="0" y="62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Freeform 163"/>
                    <p:cNvSpPr/>
                    <p:nvPr/>
                  </p:nvSpPr>
                  <p:spPr>
                    <a:xfrm>
                      <a:off x="2105280" y="5867280"/>
                      <a:ext cx="22320" cy="320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53" h="99">
                          <a:moveTo>
                            <a:pt x="53" y="0"/>
                          </a:moveTo>
                          <a:lnTo>
                            <a:pt x="38" y="19"/>
                          </a:lnTo>
                          <a:lnTo>
                            <a:pt x="44" y="47"/>
                          </a:lnTo>
                          <a:lnTo>
                            <a:pt x="53" y="56"/>
                          </a:lnTo>
                          <a:lnTo>
                            <a:pt x="34" y="99"/>
                          </a:lnTo>
                          <a:lnTo>
                            <a:pt x="9" y="34"/>
                          </a:lnTo>
                          <a:lnTo>
                            <a:pt x="0" y="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164"/>
                    <p:cNvSpPr/>
                    <p:nvPr/>
                  </p:nvSpPr>
                  <p:spPr>
                    <a:xfrm>
                      <a:off x="2162520" y="5800680"/>
                      <a:ext cx="41040" cy="5868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58680"/>
                        <a:gd name="textAreaBottom" fmla="*/ 59040 h 58680"/>
                      </a:gdLst>
                      <a:ahLst/>
                      <a:rect l="textAreaLeft" t="textAreaTop" r="textAreaRight" b="textAreaBottom"/>
                      <a:pathLst>
                        <a:path w="104" h="185">
                          <a:moveTo>
                            <a:pt x="0" y="0"/>
                          </a:moveTo>
                          <a:lnTo>
                            <a:pt x="22" y="9"/>
                          </a:lnTo>
                          <a:lnTo>
                            <a:pt x="51" y="9"/>
                          </a:lnTo>
                          <a:lnTo>
                            <a:pt x="73" y="28"/>
                          </a:lnTo>
                          <a:lnTo>
                            <a:pt x="82" y="57"/>
                          </a:lnTo>
                          <a:lnTo>
                            <a:pt x="104" y="70"/>
                          </a:lnTo>
                          <a:lnTo>
                            <a:pt x="70" y="80"/>
                          </a:lnTo>
                          <a:lnTo>
                            <a:pt x="55" y="151"/>
                          </a:lnTo>
                          <a:lnTo>
                            <a:pt x="70" y="185"/>
                          </a:lnTo>
                          <a:lnTo>
                            <a:pt x="31" y="132"/>
                          </a:lnTo>
                          <a:lnTo>
                            <a:pt x="38" y="99"/>
                          </a:lnTo>
                          <a:lnTo>
                            <a:pt x="38" y="4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165"/>
                    <p:cNvSpPr/>
                    <p:nvPr/>
                  </p:nvSpPr>
                  <p:spPr>
                    <a:xfrm>
                      <a:off x="2198880" y="5856120"/>
                      <a:ext cx="33480" cy="19080"/>
                    </a:xfrm>
                    <a:custGeom>
                      <a:avLst/>
                      <a:gdLst>
                        <a:gd name="textAreaLeft" fmla="*/ 0 w 33480"/>
                        <a:gd name="textAreaRight" fmla="*/ 33840 w 33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87" h="61">
                          <a:moveTo>
                            <a:pt x="87" y="19"/>
                          </a:moveTo>
                          <a:lnTo>
                            <a:pt x="52" y="23"/>
                          </a:lnTo>
                          <a:lnTo>
                            <a:pt x="39" y="51"/>
                          </a:lnTo>
                          <a:lnTo>
                            <a:pt x="26" y="61"/>
                          </a:lnTo>
                          <a:lnTo>
                            <a:pt x="0" y="28"/>
                          </a:lnTo>
                          <a:lnTo>
                            <a:pt x="4" y="0"/>
                          </a:lnTo>
                          <a:lnTo>
                            <a:pt x="26" y="0"/>
                          </a:lnTo>
                          <a:lnTo>
                            <a:pt x="87" y="1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166"/>
                    <p:cNvSpPr/>
                    <p:nvPr/>
                  </p:nvSpPr>
                  <p:spPr>
                    <a:xfrm>
                      <a:off x="2249640" y="5786280"/>
                      <a:ext cx="41400" cy="55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102" h="176">
                          <a:moveTo>
                            <a:pt x="50" y="0"/>
                          </a:moveTo>
                          <a:lnTo>
                            <a:pt x="54" y="48"/>
                          </a:lnTo>
                          <a:lnTo>
                            <a:pt x="69" y="81"/>
                          </a:lnTo>
                          <a:lnTo>
                            <a:pt x="76" y="124"/>
                          </a:lnTo>
                          <a:lnTo>
                            <a:pt x="102" y="176"/>
                          </a:lnTo>
                          <a:lnTo>
                            <a:pt x="59" y="176"/>
                          </a:lnTo>
                          <a:lnTo>
                            <a:pt x="35" y="72"/>
                          </a:lnTo>
                          <a:lnTo>
                            <a:pt x="2" y="81"/>
                          </a:lnTo>
                          <a:lnTo>
                            <a:pt x="0" y="39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167"/>
                    <p:cNvSpPr/>
                    <p:nvPr/>
                  </p:nvSpPr>
                  <p:spPr>
                    <a:xfrm>
                      <a:off x="2267280" y="5859360"/>
                      <a:ext cx="30240" cy="316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31680"/>
                        <a:gd name="textAreaBottom" fmla="*/ 32040 h 31680"/>
                      </a:gdLst>
                      <a:ahLst/>
                      <a:rect l="textAreaLeft" t="textAreaTop" r="textAreaRight" b="textAreaBottom"/>
                      <a:pathLst>
                        <a:path w="79" h="99">
                          <a:moveTo>
                            <a:pt x="18" y="0"/>
                          </a:moveTo>
                          <a:lnTo>
                            <a:pt x="22" y="56"/>
                          </a:lnTo>
                          <a:lnTo>
                            <a:pt x="35" y="75"/>
                          </a:lnTo>
                          <a:lnTo>
                            <a:pt x="67" y="75"/>
                          </a:lnTo>
                          <a:lnTo>
                            <a:pt x="79" y="99"/>
                          </a:lnTo>
                          <a:lnTo>
                            <a:pt x="38" y="93"/>
                          </a:lnTo>
                          <a:lnTo>
                            <a:pt x="0" y="71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Freeform 168"/>
                    <p:cNvSpPr/>
                    <p:nvPr/>
                  </p:nvSpPr>
                  <p:spPr>
                    <a:xfrm>
                      <a:off x="2241720" y="5821200"/>
                      <a:ext cx="20880" cy="34920"/>
                    </a:xfrm>
                    <a:custGeom>
                      <a:avLst/>
                      <a:gdLst>
                        <a:gd name="textAreaLeft" fmla="*/ 0 w 20880"/>
                        <a:gd name="textAreaRight" fmla="*/ 21240 w 20880"/>
                        <a:gd name="textAreaTop" fmla="*/ 0 h 34920"/>
                        <a:gd name="textAreaBottom" fmla="*/ 35280 h 34920"/>
                      </a:gdLst>
                      <a:ahLst/>
                      <a:rect l="textAreaLeft" t="textAreaTop" r="textAreaRight" b="textAreaBottom"/>
                      <a:pathLst>
                        <a:path w="54" h="109">
                          <a:moveTo>
                            <a:pt x="0" y="0"/>
                          </a:moveTo>
                          <a:lnTo>
                            <a:pt x="41" y="24"/>
                          </a:lnTo>
                          <a:lnTo>
                            <a:pt x="37" y="66"/>
                          </a:lnTo>
                          <a:lnTo>
                            <a:pt x="54" y="91"/>
                          </a:lnTo>
                          <a:lnTo>
                            <a:pt x="18" y="109"/>
                          </a:lnTo>
                          <a:lnTo>
                            <a:pt x="15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Freeform 169"/>
                    <p:cNvSpPr/>
                    <p:nvPr/>
                  </p:nvSpPr>
                  <p:spPr>
                    <a:xfrm>
                      <a:off x="2343240" y="5769000"/>
                      <a:ext cx="41400" cy="540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4000"/>
                        <a:gd name="textAreaBottom" fmla="*/ 54360 h 54000"/>
                      </a:gdLst>
                      <a:ahLst/>
                      <a:rect l="textAreaLeft" t="textAreaTop" r="textAreaRight" b="textAreaBottom"/>
                      <a:pathLst>
                        <a:path w="104" h="170">
                          <a:moveTo>
                            <a:pt x="0" y="5"/>
                          </a:moveTo>
                          <a:lnTo>
                            <a:pt x="21" y="0"/>
                          </a:lnTo>
                          <a:lnTo>
                            <a:pt x="66" y="14"/>
                          </a:lnTo>
                          <a:lnTo>
                            <a:pt x="95" y="67"/>
                          </a:lnTo>
                          <a:lnTo>
                            <a:pt x="84" y="95"/>
                          </a:lnTo>
                          <a:lnTo>
                            <a:pt x="104" y="170"/>
                          </a:lnTo>
                          <a:lnTo>
                            <a:pt x="53" y="104"/>
                          </a:lnTo>
                          <a:lnTo>
                            <a:pt x="40" y="62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ff66"/>
                        </a:gs>
                        <a:gs pos="100000">
                          <a:srgbClr val="33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" name="Freeform 170"/>
                  <p:cNvSpPr/>
                  <p:nvPr/>
                </p:nvSpPr>
                <p:spPr>
                  <a:xfrm>
                    <a:off x="1775160" y="5742000"/>
                    <a:ext cx="55440" cy="6840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40" h="213">
                        <a:moveTo>
                          <a:pt x="112" y="22"/>
                        </a:moveTo>
                        <a:lnTo>
                          <a:pt x="140" y="47"/>
                        </a:lnTo>
                        <a:lnTo>
                          <a:pt x="96" y="75"/>
                        </a:lnTo>
                        <a:lnTo>
                          <a:pt x="68" y="90"/>
                        </a:lnTo>
                        <a:lnTo>
                          <a:pt x="46" y="146"/>
                        </a:lnTo>
                        <a:lnTo>
                          <a:pt x="20" y="184"/>
                        </a:lnTo>
                        <a:lnTo>
                          <a:pt x="0" y="213"/>
                        </a:lnTo>
                        <a:lnTo>
                          <a:pt x="13" y="137"/>
                        </a:lnTo>
                        <a:lnTo>
                          <a:pt x="22" y="123"/>
                        </a:lnTo>
                        <a:lnTo>
                          <a:pt x="3" y="94"/>
                        </a:lnTo>
                        <a:lnTo>
                          <a:pt x="42" y="71"/>
                        </a:lnTo>
                        <a:lnTo>
                          <a:pt x="39" y="37"/>
                        </a:lnTo>
                        <a:lnTo>
                          <a:pt x="55" y="42"/>
                        </a:lnTo>
                        <a:lnTo>
                          <a:pt x="39" y="0"/>
                        </a:lnTo>
                        <a:lnTo>
                          <a:pt x="112" y="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71"/>
                  <p:cNvSpPr/>
                  <p:nvPr/>
                </p:nvSpPr>
                <p:spPr>
                  <a:xfrm>
                    <a:off x="1822680" y="5765760"/>
                    <a:ext cx="28440" cy="237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72" h="76">
                        <a:moveTo>
                          <a:pt x="72" y="0"/>
                        </a:moveTo>
                        <a:lnTo>
                          <a:pt x="63" y="19"/>
                        </a:lnTo>
                        <a:lnTo>
                          <a:pt x="63" y="48"/>
                        </a:lnTo>
                        <a:lnTo>
                          <a:pt x="44" y="57"/>
                        </a:lnTo>
                        <a:lnTo>
                          <a:pt x="31" y="76"/>
                        </a:lnTo>
                        <a:lnTo>
                          <a:pt x="0" y="53"/>
                        </a:lnTo>
                        <a:lnTo>
                          <a:pt x="38" y="37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7" name="Group 398"/>
          <p:cNvGrpSpPr/>
          <p:nvPr/>
        </p:nvGrpSpPr>
        <p:grpSpPr>
          <a:xfrm>
            <a:off x="2209680" y="4876920"/>
            <a:ext cx="922320" cy="1376280"/>
            <a:chOff x="2209680" y="4876920"/>
            <a:chExt cx="922320" cy="1376280"/>
          </a:xfrm>
        </p:grpSpPr>
        <p:sp>
          <p:nvSpPr>
            <p:cNvPr id="408" name="Freeform 93"/>
            <p:cNvSpPr/>
            <p:nvPr/>
          </p:nvSpPr>
          <p:spPr>
            <a:xfrm>
              <a:off x="2438280" y="6172200"/>
              <a:ext cx="451080" cy="810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396" y="42"/>
                  </a:moveTo>
                  <a:lnTo>
                    <a:pt x="371" y="32"/>
                  </a:lnTo>
                  <a:lnTo>
                    <a:pt x="359" y="42"/>
                  </a:lnTo>
                  <a:lnTo>
                    <a:pt x="341" y="39"/>
                  </a:lnTo>
                  <a:lnTo>
                    <a:pt x="335" y="48"/>
                  </a:lnTo>
                  <a:lnTo>
                    <a:pt x="315" y="44"/>
                  </a:lnTo>
                  <a:lnTo>
                    <a:pt x="308" y="55"/>
                  </a:lnTo>
                  <a:lnTo>
                    <a:pt x="288" y="50"/>
                  </a:lnTo>
                  <a:lnTo>
                    <a:pt x="258" y="67"/>
                  </a:lnTo>
                  <a:lnTo>
                    <a:pt x="251" y="61"/>
                  </a:lnTo>
                  <a:lnTo>
                    <a:pt x="227" y="63"/>
                  </a:lnTo>
                  <a:lnTo>
                    <a:pt x="208" y="63"/>
                  </a:lnTo>
                  <a:lnTo>
                    <a:pt x="194" y="73"/>
                  </a:lnTo>
                  <a:lnTo>
                    <a:pt x="170" y="69"/>
                  </a:lnTo>
                  <a:lnTo>
                    <a:pt x="161" y="80"/>
                  </a:lnTo>
                  <a:lnTo>
                    <a:pt x="155" y="69"/>
                  </a:lnTo>
                  <a:lnTo>
                    <a:pt x="138" y="81"/>
                  </a:lnTo>
                  <a:lnTo>
                    <a:pt x="124" y="75"/>
                  </a:lnTo>
                  <a:lnTo>
                    <a:pt x="104" y="85"/>
                  </a:lnTo>
                  <a:lnTo>
                    <a:pt x="94" y="85"/>
                  </a:lnTo>
                  <a:lnTo>
                    <a:pt x="94" y="97"/>
                  </a:lnTo>
                  <a:lnTo>
                    <a:pt x="75" y="94"/>
                  </a:lnTo>
                  <a:lnTo>
                    <a:pt x="67" y="105"/>
                  </a:lnTo>
                  <a:lnTo>
                    <a:pt x="50" y="104"/>
                  </a:lnTo>
                  <a:lnTo>
                    <a:pt x="28" y="110"/>
                  </a:lnTo>
                  <a:lnTo>
                    <a:pt x="10" y="112"/>
                  </a:lnTo>
                  <a:lnTo>
                    <a:pt x="11" y="118"/>
                  </a:lnTo>
                  <a:lnTo>
                    <a:pt x="0" y="124"/>
                  </a:lnTo>
                  <a:lnTo>
                    <a:pt x="11" y="135"/>
                  </a:lnTo>
                  <a:lnTo>
                    <a:pt x="0" y="146"/>
                  </a:lnTo>
                  <a:lnTo>
                    <a:pt x="16" y="146"/>
                  </a:lnTo>
                  <a:lnTo>
                    <a:pt x="28" y="159"/>
                  </a:lnTo>
                  <a:lnTo>
                    <a:pt x="48" y="159"/>
                  </a:lnTo>
                  <a:lnTo>
                    <a:pt x="48" y="165"/>
                  </a:lnTo>
                  <a:lnTo>
                    <a:pt x="67" y="178"/>
                  </a:lnTo>
                  <a:lnTo>
                    <a:pt x="79" y="171"/>
                  </a:lnTo>
                  <a:lnTo>
                    <a:pt x="88" y="178"/>
                  </a:lnTo>
                  <a:lnTo>
                    <a:pt x="101" y="178"/>
                  </a:lnTo>
                  <a:lnTo>
                    <a:pt x="113" y="179"/>
                  </a:lnTo>
                  <a:lnTo>
                    <a:pt x="113" y="195"/>
                  </a:lnTo>
                  <a:lnTo>
                    <a:pt x="124" y="198"/>
                  </a:lnTo>
                  <a:lnTo>
                    <a:pt x="132" y="195"/>
                  </a:lnTo>
                  <a:lnTo>
                    <a:pt x="148" y="203"/>
                  </a:lnTo>
                  <a:lnTo>
                    <a:pt x="164" y="198"/>
                  </a:lnTo>
                  <a:lnTo>
                    <a:pt x="201" y="214"/>
                  </a:lnTo>
                  <a:lnTo>
                    <a:pt x="212" y="208"/>
                  </a:lnTo>
                  <a:lnTo>
                    <a:pt x="234" y="214"/>
                  </a:lnTo>
                  <a:lnTo>
                    <a:pt x="262" y="214"/>
                  </a:lnTo>
                  <a:lnTo>
                    <a:pt x="269" y="204"/>
                  </a:lnTo>
                  <a:lnTo>
                    <a:pt x="297" y="208"/>
                  </a:lnTo>
                  <a:lnTo>
                    <a:pt x="315" y="217"/>
                  </a:lnTo>
                  <a:lnTo>
                    <a:pt x="335" y="217"/>
                  </a:lnTo>
                  <a:lnTo>
                    <a:pt x="366" y="208"/>
                  </a:lnTo>
                  <a:lnTo>
                    <a:pt x="377" y="214"/>
                  </a:lnTo>
                  <a:lnTo>
                    <a:pt x="379" y="222"/>
                  </a:lnTo>
                  <a:lnTo>
                    <a:pt x="392" y="222"/>
                  </a:lnTo>
                  <a:lnTo>
                    <a:pt x="405" y="220"/>
                  </a:lnTo>
                  <a:lnTo>
                    <a:pt x="415" y="214"/>
                  </a:lnTo>
                  <a:lnTo>
                    <a:pt x="428" y="220"/>
                  </a:lnTo>
                  <a:lnTo>
                    <a:pt x="446" y="222"/>
                  </a:lnTo>
                  <a:lnTo>
                    <a:pt x="465" y="222"/>
                  </a:lnTo>
                  <a:lnTo>
                    <a:pt x="480" y="228"/>
                  </a:lnTo>
                  <a:lnTo>
                    <a:pt x="498" y="245"/>
                  </a:lnTo>
                  <a:lnTo>
                    <a:pt x="518" y="245"/>
                  </a:lnTo>
                  <a:lnTo>
                    <a:pt x="529" y="239"/>
                  </a:lnTo>
                  <a:lnTo>
                    <a:pt x="555" y="239"/>
                  </a:lnTo>
                  <a:lnTo>
                    <a:pt x="556" y="245"/>
                  </a:lnTo>
                  <a:lnTo>
                    <a:pt x="600" y="247"/>
                  </a:lnTo>
                  <a:lnTo>
                    <a:pt x="626" y="247"/>
                  </a:lnTo>
                  <a:lnTo>
                    <a:pt x="639" y="241"/>
                  </a:lnTo>
                  <a:lnTo>
                    <a:pt x="662" y="247"/>
                  </a:lnTo>
                  <a:lnTo>
                    <a:pt x="687" y="253"/>
                  </a:lnTo>
                  <a:lnTo>
                    <a:pt x="720" y="247"/>
                  </a:lnTo>
                  <a:lnTo>
                    <a:pt x="727" y="241"/>
                  </a:lnTo>
                  <a:lnTo>
                    <a:pt x="750" y="247"/>
                  </a:lnTo>
                  <a:lnTo>
                    <a:pt x="789" y="253"/>
                  </a:lnTo>
                  <a:lnTo>
                    <a:pt x="829" y="252"/>
                  </a:lnTo>
                  <a:lnTo>
                    <a:pt x="836" y="239"/>
                  </a:lnTo>
                  <a:lnTo>
                    <a:pt x="880" y="217"/>
                  </a:lnTo>
                  <a:lnTo>
                    <a:pt x="923" y="214"/>
                  </a:lnTo>
                  <a:lnTo>
                    <a:pt x="934" y="204"/>
                  </a:lnTo>
                  <a:lnTo>
                    <a:pt x="961" y="204"/>
                  </a:lnTo>
                  <a:lnTo>
                    <a:pt x="979" y="192"/>
                  </a:lnTo>
                  <a:lnTo>
                    <a:pt x="1010" y="192"/>
                  </a:lnTo>
                  <a:lnTo>
                    <a:pt x="1024" y="186"/>
                  </a:lnTo>
                  <a:lnTo>
                    <a:pt x="1054" y="184"/>
                  </a:lnTo>
                  <a:lnTo>
                    <a:pt x="1074" y="171"/>
                  </a:lnTo>
                  <a:lnTo>
                    <a:pt x="1094" y="167"/>
                  </a:lnTo>
                  <a:lnTo>
                    <a:pt x="1114" y="155"/>
                  </a:lnTo>
                  <a:lnTo>
                    <a:pt x="1133" y="153"/>
                  </a:lnTo>
                  <a:lnTo>
                    <a:pt x="1133" y="130"/>
                  </a:lnTo>
                  <a:lnTo>
                    <a:pt x="1107" y="129"/>
                  </a:lnTo>
                  <a:lnTo>
                    <a:pt x="1107" y="116"/>
                  </a:lnTo>
                  <a:lnTo>
                    <a:pt x="1081" y="116"/>
                  </a:lnTo>
                  <a:lnTo>
                    <a:pt x="1070" y="99"/>
                  </a:lnTo>
                  <a:lnTo>
                    <a:pt x="1050" y="97"/>
                  </a:lnTo>
                  <a:lnTo>
                    <a:pt x="1036" y="97"/>
                  </a:lnTo>
                  <a:lnTo>
                    <a:pt x="1036" y="81"/>
                  </a:lnTo>
                  <a:lnTo>
                    <a:pt x="1013" y="80"/>
                  </a:lnTo>
                  <a:lnTo>
                    <a:pt x="1000" y="75"/>
                  </a:lnTo>
                  <a:lnTo>
                    <a:pt x="987" y="61"/>
                  </a:lnTo>
                  <a:lnTo>
                    <a:pt x="974" y="56"/>
                  </a:lnTo>
                  <a:lnTo>
                    <a:pt x="967" y="42"/>
                  </a:lnTo>
                  <a:lnTo>
                    <a:pt x="953" y="42"/>
                  </a:lnTo>
                  <a:lnTo>
                    <a:pt x="943" y="39"/>
                  </a:lnTo>
                  <a:lnTo>
                    <a:pt x="930" y="39"/>
                  </a:lnTo>
                  <a:lnTo>
                    <a:pt x="923" y="30"/>
                  </a:lnTo>
                  <a:lnTo>
                    <a:pt x="904" y="30"/>
                  </a:lnTo>
                  <a:lnTo>
                    <a:pt x="899" y="23"/>
                  </a:lnTo>
                  <a:lnTo>
                    <a:pt x="870" y="26"/>
                  </a:lnTo>
                  <a:lnTo>
                    <a:pt x="864" y="20"/>
                  </a:lnTo>
                  <a:lnTo>
                    <a:pt x="847" y="23"/>
                  </a:lnTo>
                  <a:lnTo>
                    <a:pt x="814" y="0"/>
                  </a:lnTo>
                  <a:lnTo>
                    <a:pt x="429" y="44"/>
                  </a:lnTo>
                  <a:lnTo>
                    <a:pt x="396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Group 172"/>
            <p:cNvGrpSpPr/>
            <p:nvPr/>
          </p:nvGrpSpPr>
          <p:grpSpPr>
            <a:xfrm>
              <a:off x="2209680" y="4876920"/>
              <a:ext cx="922320" cy="1373040"/>
              <a:chOff x="2209680" y="4876920"/>
              <a:chExt cx="922320" cy="1373040"/>
            </a:xfrm>
          </p:grpSpPr>
          <p:sp>
            <p:nvSpPr>
              <p:cNvPr id="410" name="Freeform 173"/>
              <p:cNvSpPr/>
              <p:nvPr/>
            </p:nvSpPr>
            <p:spPr>
              <a:xfrm>
                <a:off x="2736720" y="5096160"/>
                <a:ext cx="228600" cy="155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75" h="493">
                    <a:moveTo>
                      <a:pt x="97" y="0"/>
                    </a:moveTo>
                    <a:lnTo>
                      <a:pt x="78" y="35"/>
                    </a:lnTo>
                    <a:lnTo>
                      <a:pt x="52" y="61"/>
                    </a:lnTo>
                    <a:lnTo>
                      <a:pt x="44" y="112"/>
                    </a:lnTo>
                    <a:lnTo>
                      <a:pt x="21" y="141"/>
                    </a:lnTo>
                    <a:lnTo>
                      <a:pt x="0" y="157"/>
                    </a:lnTo>
                    <a:lnTo>
                      <a:pt x="24" y="189"/>
                    </a:lnTo>
                    <a:lnTo>
                      <a:pt x="33" y="235"/>
                    </a:lnTo>
                    <a:lnTo>
                      <a:pt x="53" y="254"/>
                    </a:lnTo>
                    <a:lnTo>
                      <a:pt x="78" y="267"/>
                    </a:lnTo>
                    <a:lnTo>
                      <a:pt x="103" y="250"/>
                    </a:lnTo>
                    <a:lnTo>
                      <a:pt x="135" y="267"/>
                    </a:lnTo>
                    <a:lnTo>
                      <a:pt x="174" y="247"/>
                    </a:lnTo>
                    <a:lnTo>
                      <a:pt x="218" y="278"/>
                    </a:lnTo>
                    <a:lnTo>
                      <a:pt x="249" y="275"/>
                    </a:lnTo>
                    <a:lnTo>
                      <a:pt x="276" y="303"/>
                    </a:lnTo>
                    <a:lnTo>
                      <a:pt x="302" y="318"/>
                    </a:lnTo>
                    <a:lnTo>
                      <a:pt x="326" y="303"/>
                    </a:lnTo>
                    <a:lnTo>
                      <a:pt x="337" y="335"/>
                    </a:lnTo>
                    <a:lnTo>
                      <a:pt x="360" y="331"/>
                    </a:lnTo>
                    <a:lnTo>
                      <a:pt x="356" y="376"/>
                    </a:lnTo>
                    <a:lnTo>
                      <a:pt x="387" y="395"/>
                    </a:lnTo>
                    <a:lnTo>
                      <a:pt x="427" y="420"/>
                    </a:lnTo>
                    <a:lnTo>
                      <a:pt x="436" y="452"/>
                    </a:lnTo>
                    <a:lnTo>
                      <a:pt x="462" y="460"/>
                    </a:lnTo>
                    <a:lnTo>
                      <a:pt x="480" y="493"/>
                    </a:lnTo>
                    <a:lnTo>
                      <a:pt x="504" y="476"/>
                    </a:lnTo>
                    <a:lnTo>
                      <a:pt x="524" y="473"/>
                    </a:lnTo>
                    <a:lnTo>
                      <a:pt x="539" y="425"/>
                    </a:lnTo>
                    <a:lnTo>
                      <a:pt x="575" y="404"/>
                    </a:lnTo>
                    <a:lnTo>
                      <a:pt x="557" y="350"/>
                    </a:lnTo>
                    <a:lnTo>
                      <a:pt x="566" y="303"/>
                    </a:lnTo>
                    <a:lnTo>
                      <a:pt x="553" y="247"/>
                    </a:lnTo>
                    <a:lnTo>
                      <a:pt x="561" y="219"/>
                    </a:lnTo>
                    <a:lnTo>
                      <a:pt x="535" y="219"/>
                    </a:lnTo>
                    <a:lnTo>
                      <a:pt x="521" y="189"/>
                    </a:lnTo>
                    <a:lnTo>
                      <a:pt x="495" y="210"/>
                    </a:lnTo>
                    <a:lnTo>
                      <a:pt x="471" y="194"/>
                    </a:lnTo>
                    <a:lnTo>
                      <a:pt x="453" y="168"/>
                    </a:lnTo>
                    <a:lnTo>
                      <a:pt x="413" y="165"/>
                    </a:lnTo>
                    <a:lnTo>
                      <a:pt x="403" y="258"/>
                    </a:lnTo>
                    <a:lnTo>
                      <a:pt x="420" y="262"/>
                    </a:lnTo>
                    <a:lnTo>
                      <a:pt x="420" y="308"/>
                    </a:lnTo>
                    <a:lnTo>
                      <a:pt x="409" y="343"/>
                    </a:lnTo>
                    <a:lnTo>
                      <a:pt x="399" y="305"/>
                    </a:lnTo>
                    <a:lnTo>
                      <a:pt x="396" y="283"/>
                    </a:lnTo>
                    <a:lnTo>
                      <a:pt x="403" y="258"/>
                    </a:lnTo>
                    <a:lnTo>
                      <a:pt x="413" y="166"/>
                    </a:lnTo>
                    <a:lnTo>
                      <a:pt x="383" y="165"/>
                    </a:lnTo>
                    <a:lnTo>
                      <a:pt x="359" y="176"/>
                    </a:lnTo>
                    <a:lnTo>
                      <a:pt x="334" y="160"/>
                    </a:lnTo>
                    <a:lnTo>
                      <a:pt x="325" y="109"/>
                    </a:lnTo>
                    <a:lnTo>
                      <a:pt x="301" y="96"/>
                    </a:lnTo>
                    <a:lnTo>
                      <a:pt x="288" y="68"/>
                    </a:lnTo>
                    <a:lnTo>
                      <a:pt x="255" y="56"/>
                    </a:lnTo>
                    <a:lnTo>
                      <a:pt x="237" y="31"/>
                    </a:lnTo>
                    <a:lnTo>
                      <a:pt x="218" y="43"/>
                    </a:lnTo>
                    <a:lnTo>
                      <a:pt x="197" y="31"/>
                    </a:lnTo>
                    <a:lnTo>
                      <a:pt x="182" y="61"/>
                    </a:lnTo>
                    <a:lnTo>
                      <a:pt x="163" y="56"/>
                    </a:lnTo>
                    <a:lnTo>
                      <a:pt x="156" y="18"/>
                    </a:lnTo>
                    <a:lnTo>
                      <a:pt x="132" y="7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74"/>
              <p:cNvSpPr/>
              <p:nvPr/>
            </p:nvSpPr>
            <p:spPr>
              <a:xfrm>
                <a:off x="2324160" y="4916520"/>
                <a:ext cx="727200" cy="1333440"/>
              </a:xfrm>
              <a:custGeom>
                <a:avLst/>
                <a:gdLst>
                  <a:gd name="textAreaLeft" fmla="*/ 0 w 727200"/>
                  <a:gd name="textAreaRight" fmla="*/ 727560 w 727200"/>
                  <a:gd name="textAreaTop" fmla="*/ 0 h 1333440"/>
                  <a:gd name="textAreaBottom" fmla="*/ 1333800 h 1333440"/>
                </a:gdLst>
                <a:ahLst/>
                <a:rect l="textAreaLeft" t="textAreaTop" r="textAreaRight" b="textAreaBottom"/>
                <a:pathLst>
                  <a:path w="1830" h="4201">
                    <a:moveTo>
                      <a:pt x="1046" y="3211"/>
                    </a:moveTo>
                    <a:lnTo>
                      <a:pt x="1056" y="3072"/>
                    </a:lnTo>
                    <a:lnTo>
                      <a:pt x="1059" y="2910"/>
                    </a:lnTo>
                    <a:lnTo>
                      <a:pt x="1050" y="2758"/>
                    </a:lnTo>
                    <a:lnTo>
                      <a:pt x="1042" y="2647"/>
                    </a:lnTo>
                    <a:lnTo>
                      <a:pt x="1038" y="2505"/>
                    </a:lnTo>
                    <a:lnTo>
                      <a:pt x="1038" y="2422"/>
                    </a:lnTo>
                    <a:lnTo>
                      <a:pt x="1038" y="2358"/>
                    </a:lnTo>
                    <a:lnTo>
                      <a:pt x="1024" y="2262"/>
                    </a:lnTo>
                    <a:lnTo>
                      <a:pt x="1089" y="2216"/>
                    </a:lnTo>
                    <a:lnTo>
                      <a:pt x="1173" y="2158"/>
                    </a:lnTo>
                    <a:lnTo>
                      <a:pt x="1266" y="2094"/>
                    </a:lnTo>
                    <a:lnTo>
                      <a:pt x="1333" y="2033"/>
                    </a:lnTo>
                    <a:lnTo>
                      <a:pt x="1422" y="1971"/>
                    </a:lnTo>
                    <a:lnTo>
                      <a:pt x="1499" y="1903"/>
                    </a:lnTo>
                    <a:lnTo>
                      <a:pt x="1567" y="1842"/>
                    </a:lnTo>
                    <a:lnTo>
                      <a:pt x="1661" y="1756"/>
                    </a:lnTo>
                    <a:lnTo>
                      <a:pt x="1830" y="1538"/>
                    </a:lnTo>
                    <a:lnTo>
                      <a:pt x="1596" y="1772"/>
                    </a:lnTo>
                    <a:lnTo>
                      <a:pt x="1609" y="1415"/>
                    </a:lnTo>
                    <a:lnTo>
                      <a:pt x="1562" y="1797"/>
                    </a:lnTo>
                    <a:lnTo>
                      <a:pt x="1465" y="1877"/>
                    </a:lnTo>
                    <a:lnTo>
                      <a:pt x="1384" y="1947"/>
                    </a:lnTo>
                    <a:lnTo>
                      <a:pt x="1296" y="2009"/>
                    </a:lnTo>
                    <a:lnTo>
                      <a:pt x="1199" y="2089"/>
                    </a:lnTo>
                    <a:lnTo>
                      <a:pt x="1126" y="2146"/>
                    </a:lnTo>
                    <a:lnTo>
                      <a:pt x="1033" y="2191"/>
                    </a:lnTo>
                    <a:lnTo>
                      <a:pt x="1042" y="2033"/>
                    </a:lnTo>
                    <a:lnTo>
                      <a:pt x="1038" y="1976"/>
                    </a:lnTo>
                    <a:lnTo>
                      <a:pt x="1050" y="1866"/>
                    </a:lnTo>
                    <a:lnTo>
                      <a:pt x="1059" y="1765"/>
                    </a:lnTo>
                    <a:lnTo>
                      <a:pt x="1105" y="1719"/>
                    </a:lnTo>
                    <a:lnTo>
                      <a:pt x="1169" y="1675"/>
                    </a:lnTo>
                    <a:lnTo>
                      <a:pt x="1262" y="1589"/>
                    </a:lnTo>
                    <a:lnTo>
                      <a:pt x="1324" y="1528"/>
                    </a:lnTo>
                    <a:lnTo>
                      <a:pt x="1406" y="1443"/>
                    </a:lnTo>
                    <a:lnTo>
                      <a:pt x="1469" y="1390"/>
                    </a:lnTo>
                    <a:lnTo>
                      <a:pt x="1609" y="1212"/>
                    </a:lnTo>
                    <a:lnTo>
                      <a:pt x="1443" y="1375"/>
                    </a:lnTo>
                    <a:lnTo>
                      <a:pt x="1409" y="1117"/>
                    </a:lnTo>
                    <a:lnTo>
                      <a:pt x="1415" y="1382"/>
                    </a:lnTo>
                    <a:lnTo>
                      <a:pt x="1321" y="1475"/>
                    </a:lnTo>
                    <a:lnTo>
                      <a:pt x="1228" y="1566"/>
                    </a:lnTo>
                    <a:lnTo>
                      <a:pt x="1152" y="1634"/>
                    </a:lnTo>
                    <a:lnTo>
                      <a:pt x="1059" y="1695"/>
                    </a:lnTo>
                    <a:lnTo>
                      <a:pt x="1050" y="1614"/>
                    </a:lnTo>
                    <a:lnTo>
                      <a:pt x="1055" y="1537"/>
                    </a:lnTo>
                    <a:lnTo>
                      <a:pt x="1055" y="1435"/>
                    </a:lnTo>
                    <a:lnTo>
                      <a:pt x="1055" y="1346"/>
                    </a:lnTo>
                    <a:lnTo>
                      <a:pt x="1059" y="1245"/>
                    </a:lnTo>
                    <a:lnTo>
                      <a:pt x="1050" y="1083"/>
                    </a:lnTo>
                    <a:lnTo>
                      <a:pt x="1109" y="1033"/>
                    </a:lnTo>
                    <a:lnTo>
                      <a:pt x="1191" y="965"/>
                    </a:lnTo>
                    <a:lnTo>
                      <a:pt x="1283" y="867"/>
                    </a:lnTo>
                    <a:lnTo>
                      <a:pt x="1367" y="778"/>
                    </a:lnTo>
                    <a:lnTo>
                      <a:pt x="1516" y="562"/>
                    </a:lnTo>
                    <a:lnTo>
                      <a:pt x="1324" y="781"/>
                    </a:lnTo>
                    <a:lnTo>
                      <a:pt x="1305" y="501"/>
                    </a:lnTo>
                    <a:lnTo>
                      <a:pt x="1296" y="818"/>
                    </a:lnTo>
                    <a:lnTo>
                      <a:pt x="1193" y="908"/>
                    </a:lnTo>
                    <a:lnTo>
                      <a:pt x="1122" y="973"/>
                    </a:lnTo>
                    <a:lnTo>
                      <a:pt x="1042" y="1041"/>
                    </a:lnTo>
                    <a:lnTo>
                      <a:pt x="1024" y="911"/>
                    </a:lnTo>
                    <a:lnTo>
                      <a:pt x="1004" y="807"/>
                    </a:lnTo>
                    <a:lnTo>
                      <a:pt x="990" y="717"/>
                    </a:lnTo>
                    <a:lnTo>
                      <a:pt x="982" y="603"/>
                    </a:lnTo>
                    <a:lnTo>
                      <a:pt x="1038" y="566"/>
                    </a:lnTo>
                    <a:lnTo>
                      <a:pt x="1089" y="518"/>
                    </a:lnTo>
                    <a:lnTo>
                      <a:pt x="1148" y="464"/>
                    </a:lnTo>
                    <a:lnTo>
                      <a:pt x="1224" y="404"/>
                    </a:lnTo>
                    <a:lnTo>
                      <a:pt x="1305" y="294"/>
                    </a:lnTo>
                    <a:lnTo>
                      <a:pt x="1160" y="432"/>
                    </a:lnTo>
                    <a:lnTo>
                      <a:pt x="1169" y="250"/>
                    </a:lnTo>
                    <a:lnTo>
                      <a:pt x="1143" y="437"/>
                    </a:lnTo>
                    <a:lnTo>
                      <a:pt x="1098" y="477"/>
                    </a:lnTo>
                    <a:lnTo>
                      <a:pt x="1050" y="521"/>
                    </a:lnTo>
                    <a:lnTo>
                      <a:pt x="986" y="562"/>
                    </a:lnTo>
                    <a:lnTo>
                      <a:pt x="990" y="424"/>
                    </a:lnTo>
                    <a:lnTo>
                      <a:pt x="990" y="335"/>
                    </a:lnTo>
                    <a:lnTo>
                      <a:pt x="957" y="0"/>
                    </a:lnTo>
                    <a:lnTo>
                      <a:pt x="923" y="252"/>
                    </a:lnTo>
                    <a:lnTo>
                      <a:pt x="914" y="350"/>
                    </a:lnTo>
                    <a:lnTo>
                      <a:pt x="897" y="432"/>
                    </a:lnTo>
                    <a:lnTo>
                      <a:pt x="885" y="541"/>
                    </a:lnTo>
                    <a:lnTo>
                      <a:pt x="880" y="659"/>
                    </a:lnTo>
                    <a:lnTo>
                      <a:pt x="880" y="745"/>
                    </a:lnTo>
                    <a:lnTo>
                      <a:pt x="880" y="834"/>
                    </a:lnTo>
                    <a:lnTo>
                      <a:pt x="800" y="778"/>
                    </a:lnTo>
                    <a:lnTo>
                      <a:pt x="741" y="713"/>
                    </a:lnTo>
                    <a:lnTo>
                      <a:pt x="673" y="647"/>
                    </a:lnTo>
                    <a:lnTo>
                      <a:pt x="699" y="562"/>
                    </a:lnTo>
                    <a:lnTo>
                      <a:pt x="707" y="362"/>
                    </a:lnTo>
                    <a:lnTo>
                      <a:pt x="682" y="546"/>
                    </a:lnTo>
                    <a:lnTo>
                      <a:pt x="651" y="627"/>
                    </a:lnTo>
                    <a:lnTo>
                      <a:pt x="589" y="582"/>
                    </a:lnTo>
                    <a:lnTo>
                      <a:pt x="457" y="456"/>
                    </a:lnTo>
                    <a:lnTo>
                      <a:pt x="554" y="587"/>
                    </a:lnTo>
                    <a:lnTo>
                      <a:pt x="614" y="638"/>
                    </a:lnTo>
                    <a:lnTo>
                      <a:pt x="685" y="709"/>
                    </a:lnTo>
                    <a:lnTo>
                      <a:pt x="744" y="765"/>
                    </a:lnTo>
                    <a:lnTo>
                      <a:pt x="821" y="826"/>
                    </a:lnTo>
                    <a:lnTo>
                      <a:pt x="872" y="880"/>
                    </a:lnTo>
                    <a:lnTo>
                      <a:pt x="893" y="1015"/>
                    </a:lnTo>
                    <a:lnTo>
                      <a:pt x="902" y="1122"/>
                    </a:lnTo>
                    <a:lnTo>
                      <a:pt x="906" y="1220"/>
                    </a:lnTo>
                    <a:lnTo>
                      <a:pt x="902" y="1281"/>
                    </a:lnTo>
                    <a:lnTo>
                      <a:pt x="902" y="1346"/>
                    </a:lnTo>
                    <a:lnTo>
                      <a:pt x="885" y="1427"/>
                    </a:lnTo>
                    <a:lnTo>
                      <a:pt x="804" y="1394"/>
                    </a:lnTo>
                    <a:lnTo>
                      <a:pt x="716" y="1329"/>
                    </a:lnTo>
                    <a:lnTo>
                      <a:pt x="610" y="1244"/>
                    </a:lnTo>
                    <a:lnTo>
                      <a:pt x="533" y="1167"/>
                    </a:lnTo>
                    <a:lnTo>
                      <a:pt x="457" y="1104"/>
                    </a:lnTo>
                    <a:lnTo>
                      <a:pt x="420" y="727"/>
                    </a:lnTo>
                    <a:lnTo>
                      <a:pt x="431" y="1094"/>
                    </a:lnTo>
                    <a:lnTo>
                      <a:pt x="213" y="888"/>
                    </a:lnTo>
                    <a:lnTo>
                      <a:pt x="355" y="1053"/>
                    </a:lnTo>
                    <a:lnTo>
                      <a:pt x="427" y="1130"/>
                    </a:lnTo>
                    <a:lnTo>
                      <a:pt x="496" y="1188"/>
                    </a:lnTo>
                    <a:lnTo>
                      <a:pt x="567" y="1240"/>
                    </a:lnTo>
                    <a:lnTo>
                      <a:pt x="640" y="1313"/>
                    </a:lnTo>
                    <a:lnTo>
                      <a:pt x="673" y="1341"/>
                    </a:lnTo>
                    <a:lnTo>
                      <a:pt x="716" y="1379"/>
                    </a:lnTo>
                    <a:lnTo>
                      <a:pt x="813" y="1443"/>
                    </a:lnTo>
                    <a:lnTo>
                      <a:pt x="880" y="1480"/>
                    </a:lnTo>
                    <a:lnTo>
                      <a:pt x="876" y="1606"/>
                    </a:lnTo>
                    <a:lnTo>
                      <a:pt x="869" y="1749"/>
                    </a:lnTo>
                    <a:lnTo>
                      <a:pt x="854" y="1872"/>
                    </a:lnTo>
                    <a:lnTo>
                      <a:pt x="770" y="1829"/>
                    </a:lnTo>
                    <a:lnTo>
                      <a:pt x="677" y="1780"/>
                    </a:lnTo>
                    <a:lnTo>
                      <a:pt x="580" y="1724"/>
                    </a:lnTo>
                    <a:lnTo>
                      <a:pt x="499" y="1667"/>
                    </a:lnTo>
                    <a:lnTo>
                      <a:pt x="427" y="1626"/>
                    </a:lnTo>
                    <a:lnTo>
                      <a:pt x="372" y="1589"/>
                    </a:lnTo>
                    <a:lnTo>
                      <a:pt x="355" y="1545"/>
                    </a:lnTo>
                    <a:lnTo>
                      <a:pt x="329" y="1479"/>
                    </a:lnTo>
                    <a:lnTo>
                      <a:pt x="301" y="1394"/>
                    </a:lnTo>
                    <a:lnTo>
                      <a:pt x="284" y="1305"/>
                    </a:lnTo>
                    <a:lnTo>
                      <a:pt x="271" y="1172"/>
                    </a:lnTo>
                    <a:lnTo>
                      <a:pt x="267" y="1325"/>
                    </a:lnTo>
                    <a:lnTo>
                      <a:pt x="275" y="1402"/>
                    </a:lnTo>
                    <a:lnTo>
                      <a:pt x="314" y="1483"/>
                    </a:lnTo>
                    <a:lnTo>
                      <a:pt x="338" y="1568"/>
                    </a:lnTo>
                    <a:lnTo>
                      <a:pt x="292" y="1545"/>
                    </a:lnTo>
                    <a:lnTo>
                      <a:pt x="191" y="1496"/>
                    </a:lnTo>
                    <a:lnTo>
                      <a:pt x="0" y="1343"/>
                    </a:lnTo>
                    <a:lnTo>
                      <a:pt x="122" y="1472"/>
                    </a:lnTo>
                    <a:lnTo>
                      <a:pt x="198" y="1541"/>
                    </a:lnTo>
                    <a:lnTo>
                      <a:pt x="297" y="1598"/>
                    </a:lnTo>
                    <a:lnTo>
                      <a:pt x="403" y="1667"/>
                    </a:lnTo>
                    <a:lnTo>
                      <a:pt x="508" y="1736"/>
                    </a:lnTo>
                    <a:lnTo>
                      <a:pt x="601" y="1797"/>
                    </a:lnTo>
                    <a:lnTo>
                      <a:pt x="685" y="1853"/>
                    </a:lnTo>
                    <a:lnTo>
                      <a:pt x="750" y="1898"/>
                    </a:lnTo>
                    <a:lnTo>
                      <a:pt x="838" y="1944"/>
                    </a:lnTo>
                    <a:lnTo>
                      <a:pt x="830" y="2037"/>
                    </a:lnTo>
                    <a:lnTo>
                      <a:pt x="817" y="2102"/>
                    </a:lnTo>
                    <a:lnTo>
                      <a:pt x="813" y="2205"/>
                    </a:lnTo>
                    <a:lnTo>
                      <a:pt x="813" y="2293"/>
                    </a:lnTo>
                    <a:lnTo>
                      <a:pt x="809" y="2443"/>
                    </a:lnTo>
                    <a:lnTo>
                      <a:pt x="796" y="2571"/>
                    </a:lnTo>
                    <a:lnTo>
                      <a:pt x="796" y="2752"/>
                    </a:lnTo>
                    <a:lnTo>
                      <a:pt x="804" y="2895"/>
                    </a:lnTo>
                    <a:lnTo>
                      <a:pt x="804" y="3045"/>
                    </a:lnTo>
                    <a:lnTo>
                      <a:pt x="783" y="3156"/>
                    </a:lnTo>
                    <a:lnTo>
                      <a:pt x="775" y="3359"/>
                    </a:lnTo>
                    <a:lnTo>
                      <a:pt x="785" y="3609"/>
                    </a:lnTo>
                    <a:lnTo>
                      <a:pt x="775" y="3868"/>
                    </a:lnTo>
                    <a:lnTo>
                      <a:pt x="775" y="4146"/>
                    </a:lnTo>
                    <a:lnTo>
                      <a:pt x="746" y="4174"/>
                    </a:lnTo>
                    <a:lnTo>
                      <a:pt x="699" y="4201"/>
                    </a:lnTo>
                    <a:lnTo>
                      <a:pt x="804" y="4188"/>
                    </a:lnTo>
                    <a:lnTo>
                      <a:pt x="894" y="4174"/>
                    </a:lnTo>
                    <a:lnTo>
                      <a:pt x="946" y="4201"/>
                    </a:lnTo>
                    <a:lnTo>
                      <a:pt x="993" y="4177"/>
                    </a:lnTo>
                    <a:lnTo>
                      <a:pt x="1142" y="4197"/>
                    </a:lnTo>
                    <a:lnTo>
                      <a:pt x="1073" y="4135"/>
                    </a:lnTo>
                    <a:lnTo>
                      <a:pt x="1065" y="4100"/>
                    </a:lnTo>
                    <a:lnTo>
                      <a:pt x="1046" y="3795"/>
                    </a:lnTo>
                    <a:lnTo>
                      <a:pt x="1046" y="3581"/>
                    </a:lnTo>
                    <a:lnTo>
                      <a:pt x="1046" y="3387"/>
                    </a:lnTo>
                    <a:lnTo>
                      <a:pt x="1046" y="3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75"/>
              <p:cNvSpPr/>
              <p:nvPr/>
            </p:nvSpPr>
            <p:spPr>
              <a:xfrm>
                <a:off x="2401920" y="4946760"/>
                <a:ext cx="317520" cy="130032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1300320"/>
                  <a:gd name="textAreaBottom" fmla="*/ 1300680 h 1300320"/>
                </a:gdLst>
                <a:ahLst/>
                <a:rect l="textAreaLeft" t="textAreaTop" r="textAreaRight" b="textAreaBottom"/>
                <a:pathLst>
                  <a:path w="801" h="4092">
                    <a:moveTo>
                      <a:pt x="625" y="2967"/>
                    </a:moveTo>
                    <a:lnTo>
                      <a:pt x="619" y="2904"/>
                    </a:lnTo>
                    <a:lnTo>
                      <a:pt x="620" y="2870"/>
                    </a:lnTo>
                    <a:lnTo>
                      <a:pt x="616" y="2829"/>
                    </a:lnTo>
                    <a:lnTo>
                      <a:pt x="616" y="2789"/>
                    </a:lnTo>
                    <a:lnTo>
                      <a:pt x="614" y="2748"/>
                    </a:lnTo>
                    <a:lnTo>
                      <a:pt x="611" y="2710"/>
                    </a:lnTo>
                    <a:lnTo>
                      <a:pt x="607" y="2680"/>
                    </a:lnTo>
                    <a:lnTo>
                      <a:pt x="606" y="2647"/>
                    </a:lnTo>
                    <a:lnTo>
                      <a:pt x="604" y="2590"/>
                    </a:lnTo>
                    <a:lnTo>
                      <a:pt x="606" y="2538"/>
                    </a:lnTo>
                    <a:lnTo>
                      <a:pt x="604" y="2482"/>
                    </a:lnTo>
                    <a:lnTo>
                      <a:pt x="611" y="2422"/>
                    </a:lnTo>
                    <a:lnTo>
                      <a:pt x="616" y="2369"/>
                    </a:lnTo>
                    <a:lnTo>
                      <a:pt x="620" y="2314"/>
                    </a:lnTo>
                    <a:lnTo>
                      <a:pt x="621" y="2241"/>
                    </a:lnTo>
                    <a:lnTo>
                      <a:pt x="623" y="2177"/>
                    </a:lnTo>
                    <a:lnTo>
                      <a:pt x="623" y="2124"/>
                    </a:lnTo>
                    <a:lnTo>
                      <a:pt x="624" y="2070"/>
                    </a:lnTo>
                    <a:lnTo>
                      <a:pt x="624" y="2016"/>
                    </a:lnTo>
                    <a:lnTo>
                      <a:pt x="641" y="1935"/>
                    </a:lnTo>
                    <a:lnTo>
                      <a:pt x="648" y="1873"/>
                    </a:lnTo>
                    <a:lnTo>
                      <a:pt x="651" y="1845"/>
                    </a:lnTo>
                    <a:lnTo>
                      <a:pt x="632" y="1806"/>
                    </a:lnTo>
                    <a:lnTo>
                      <a:pt x="594" y="1776"/>
                    </a:lnTo>
                    <a:lnTo>
                      <a:pt x="568" y="1759"/>
                    </a:lnTo>
                    <a:lnTo>
                      <a:pt x="519" y="1739"/>
                    </a:lnTo>
                    <a:lnTo>
                      <a:pt x="461" y="1705"/>
                    </a:lnTo>
                    <a:lnTo>
                      <a:pt x="390" y="1662"/>
                    </a:lnTo>
                    <a:lnTo>
                      <a:pt x="324" y="1627"/>
                    </a:lnTo>
                    <a:lnTo>
                      <a:pt x="284" y="1594"/>
                    </a:lnTo>
                    <a:lnTo>
                      <a:pt x="215" y="1556"/>
                    </a:lnTo>
                    <a:lnTo>
                      <a:pt x="131" y="1502"/>
                    </a:lnTo>
                    <a:lnTo>
                      <a:pt x="0" y="1423"/>
                    </a:lnTo>
                    <a:lnTo>
                      <a:pt x="49" y="1441"/>
                    </a:lnTo>
                    <a:lnTo>
                      <a:pt x="101" y="1465"/>
                    </a:lnTo>
                    <a:lnTo>
                      <a:pt x="161" y="1498"/>
                    </a:lnTo>
                    <a:lnTo>
                      <a:pt x="311" y="1581"/>
                    </a:lnTo>
                    <a:lnTo>
                      <a:pt x="381" y="1631"/>
                    </a:lnTo>
                    <a:lnTo>
                      <a:pt x="436" y="1664"/>
                    </a:lnTo>
                    <a:lnTo>
                      <a:pt x="479" y="1690"/>
                    </a:lnTo>
                    <a:lnTo>
                      <a:pt x="553" y="1728"/>
                    </a:lnTo>
                    <a:lnTo>
                      <a:pt x="598" y="1751"/>
                    </a:lnTo>
                    <a:lnTo>
                      <a:pt x="634" y="1766"/>
                    </a:lnTo>
                    <a:lnTo>
                      <a:pt x="650" y="1776"/>
                    </a:lnTo>
                    <a:lnTo>
                      <a:pt x="664" y="1783"/>
                    </a:lnTo>
                    <a:lnTo>
                      <a:pt x="668" y="1748"/>
                    </a:lnTo>
                    <a:lnTo>
                      <a:pt x="673" y="1714"/>
                    </a:lnTo>
                    <a:lnTo>
                      <a:pt x="679" y="1657"/>
                    </a:lnTo>
                    <a:lnTo>
                      <a:pt x="681" y="1605"/>
                    </a:lnTo>
                    <a:lnTo>
                      <a:pt x="683" y="1527"/>
                    </a:lnTo>
                    <a:lnTo>
                      <a:pt x="690" y="1475"/>
                    </a:lnTo>
                    <a:lnTo>
                      <a:pt x="691" y="1434"/>
                    </a:lnTo>
                    <a:lnTo>
                      <a:pt x="689" y="1376"/>
                    </a:lnTo>
                    <a:lnTo>
                      <a:pt x="679" y="1355"/>
                    </a:lnTo>
                    <a:lnTo>
                      <a:pt x="646" y="1337"/>
                    </a:lnTo>
                    <a:lnTo>
                      <a:pt x="606" y="1312"/>
                    </a:lnTo>
                    <a:lnTo>
                      <a:pt x="570" y="1286"/>
                    </a:lnTo>
                    <a:lnTo>
                      <a:pt x="536" y="1263"/>
                    </a:lnTo>
                    <a:lnTo>
                      <a:pt x="506" y="1246"/>
                    </a:lnTo>
                    <a:lnTo>
                      <a:pt x="472" y="1212"/>
                    </a:lnTo>
                    <a:lnTo>
                      <a:pt x="434" y="1181"/>
                    </a:lnTo>
                    <a:lnTo>
                      <a:pt x="397" y="1154"/>
                    </a:lnTo>
                    <a:lnTo>
                      <a:pt x="357" y="1114"/>
                    </a:lnTo>
                    <a:lnTo>
                      <a:pt x="324" y="1086"/>
                    </a:lnTo>
                    <a:lnTo>
                      <a:pt x="296" y="1057"/>
                    </a:lnTo>
                    <a:lnTo>
                      <a:pt x="335" y="1075"/>
                    </a:lnTo>
                    <a:lnTo>
                      <a:pt x="379" y="1118"/>
                    </a:lnTo>
                    <a:lnTo>
                      <a:pt x="416" y="1154"/>
                    </a:lnTo>
                    <a:lnTo>
                      <a:pt x="493" y="1215"/>
                    </a:lnTo>
                    <a:lnTo>
                      <a:pt x="524" y="1242"/>
                    </a:lnTo>
                    <a:lnTo>
                      <a:pt x="562" y="1267"/>
                    </a:lnTo>
                    <a:lnTo>
                      <a:pt x="607" y="1299"/>
                    </a:lnTo>
                    <a:lnTo>
                      <a:pt x="656" y="1319"/>
                    </a:lnTo>
                    <a:lnTo>
                      <a:pt x="692" y="1337"/>
                    </a:lnTo>
                    <a:lnTo>
                      <a:pt x="701" y="1305"/>
                    </a:lnTo>
                    <a:lnTo>
                      <a:pt x="708" y="1267"/>
                    </a:lnTo>
                    <a:lnTo>
                      <a:pt x="713" y="1252"/>
                    </a:lnTo>
                    <a:lnTo>
                      <a:pt x="709" y="1204"/>
                    </a:lnTo>
                    <a:lnTo>
                      <a:pt x="714" y="1169"/>
                    </a:lnTo>
                    <a:lnTo>
                      <a:pt x="716" y="1136"/>
                    </a:lnTo>
                    <a:lnTo>
                      <a:pt x="716" y="1105"/>
                    </a:lnTo>
                    <a:lnTo>
                      <a:pt x="711" y="1053"/>
                    </a:lnTo>
                    <a:lnTo>
                      <a:pt x="711" y="999"/>
                    </a:lnTo>
                    <a:lnTo>
                      <a:pt x="707" y="952"/>
                    </a:lnTo>
                    <a:lnTo>
                      <a:pt x="700" y="910"/>
                    </a:lnTo>
                    <a:lnTo>
                      <a:pt x="690" y="837"/>
                    </a:lnTo>
                    <a:lnTo>
                      <a:pt x="682" y="784"/>
                    </a:lnTo>
                    <a:lnTo>
                      <a:pt x="679" y="760"/>
                    </a:lnTo>
                    <a:lnTo>
                      <a:pt x="642" y="735"/>
                    </a:lnTo>
                    <a:lnTo>
                      <a:pt x="616" y="710"/>
                    </a:lnTo>
                    <a:lnTo>
                      <a:pt x="589" y="683"/>
                    </a:lnTo>
                    <a:lnTo>
                      <a:pt x="564" y="662"/>
                    </a:lnTo>
                    <a:lnTo>
                      <a:pt x="544" y="635"/>
                    </a:lnTo>
                    <a:lnTo>
                      <a:pt x="510" y="610"/>
                    </a:lnTo>
                    <a:lnTo>
                      <a:pt x="469" y="571"/>
                    </a:lnTo>
                    <a:lnTo>
                      <a:pt x="436" y="540"/>
                    </a:lnTo>
                    <a:lnTo>
                      <a:pt x="400" y="511"/>
                    </a:lnTo>
                    <a:lnTo>
                      <a:pt x="368" y="477"/>
                    </a:lnTo>
                    <a:lnTo>
                      <a:pt x="443" y="532"/>
                    </a:lnTo>
                    <a:lnTo>
                      <a:pt x="462" y="548"/>
                    </a:lnTo>
                    <a:lnTo>
                      <a:pt x="488" y="569"/>
                    </a:lnTo>
                    <a:lnTo>
                      <a:pt x="506" y="584"/>
                    </a:lnTo>
                    <a:lnTo>
                      <a:pt x="570" y="649"/>
                    </a:lnTo>
                    <a:lnTo>
                      <a:pt x="603" y="684"/>
                    </a:lnTo>
                    <a:lnTo>
                      <a:pt x="655" y="723"/>
                    </a:lnTo>
                    <a:lnTo>
                      <a:pt x="687" y="745"/>
                    </a:lnTo>
                    <a:lnTo>
                      <a:pt x="692" y="737"/>
                    </a:lnTo>
                    <a:lnTo>
                      <a:pt x="689" y="681"/>
                    </a:lnTo>
                    <a:lnTo>
                      <a:pt x="690" y="623"/>
                    </a:lnTo>
                    <a:lnTo>
                      <a:pt x="692" y="568"/>
                    </a:lnTo>
                    <a:lnTo>
                      <a:pt x="694" y="517"/>
                    </a:lnTo>
                    <a:lnTo>
                      <a:pt x="696" y="447"/>
                    </a:lnTo>
                    <a:lnTo>
                      <a:pt x="711" y="332"/>
                    </a:lnTo>
                    <a:lnTo>
                      <a:pt x="726" y="257"/>
                    </a:lnTo>
                    <a:lnTo>
                      <a:pt x="733" y="140"/>
                    </a:lnTo>
                    <a:lnTo>
                      <a:pt x="755" y="0"/>
                    </a:lnTo>
                    <a:lnTo>
                      <a:pt x="743" y="213"/>
                    </a:lnTo>
                    <a:lnTo>
                      <a:pt x="736" y="319"/>
                    </a:lnTo>
                    <a:lnTo>
                      <a:pt x="731" y="383"/>
                    </a:lnTo>
                    <a:lnTo>
                      <a:pt x="731" y="442"/>
                    </a:lnTo>
                    <a:lnTo>
                      <a:pt x="736" y="516"/>
                    </a:lnTo>
                    <a:lnTo>
                      <a:pt x="736" y="579"/>
                    </a:lnTo>
                    <a:lnTo>
                      <a:pt x="735" y="642"/>
                    </a:lnTo>
                    <a:lnTo>
                      <a:pt x="740" y="710"/>
                    </a:lnTo>
                    <a:lnTo>
                      <a:pt x="751" y="790"/>
                    </a:lnTo>
                    <a:lnTo>
                      <a:pt x="765" y="870"/>
                    </a:lnTo>
                    <a:lnTo>
                      <a:pt x="777" y="907"/>
                    </a:lnTo>
                    <a:lnTo>
                      <a:pt x="777" y="958"/>
                    </a:lnTo>
                    <a:lnTo>
                      <a:pt x="791" y="1007"/>
                    </a:lnTo>
                    <a:lnTo>
                      <a:pt x="791" y="1079"/>
                    </a:lnTo>
                    <a:lnTo>
                      <a:pt x="801" y="1143"/>
                    </a:lnTo>
                    <a:lnTo>
                      <a:pt x="793" y="1187"/>
                    </a:lnTo>
                    <a:lnTo>
                      <a:pt x="792" y="1234"/>
                    </a:lnTo>
                    <a:lnTo>
                      <a:pt x="782" y="1286"/>
                    </a:lnTo>
                    <a:lnTo>
                      <a:pt x="783" y="1346"/>
                    </a:lnTo>
                    <a:lnTo>
                      <a:pt x="771" y="1400"/>
                    </a:lnTo>
                    <a:lnTo>
                      <a:pt x="774" y="1456"/>
                    </a:lnTo>
                    <a:lnTo>
                      <a:pt x="769" y="1492"/>
                    </a:lnTo>
                    <a:lnTo>
                      <a:pt x="766" y="1563"/>
                    </a:lnTo>
                    <a:lnTo>
                      <a:pt x="765" y="1667"/>
                    </a:lnTo>
                    <a:lnTo>
                      <a:pt x="760" y="1748"/>
                    </a:lnTo>
                    <a:lnTo>
                      <a:pt x="748" y="1814"/>
                    </a:lnTo>
                    <a:lnTo>
                      <a:pt x="748" y="1871"/>
                    </a:lnTo>
                    <a:lnTo>
                      <a:pt x="739" y="1953"/>
                    </a:lnTo>
                    <a:lnTo>
                      <a:pt x="739" y="2040"/>
                    </a:lnTo>
                    <a:lnTo>
                      <a:pt x="740" y="2084"/>
                    </a:lnTo>
                    <a:lnTo>
                      <a:pt x="731" y="2139"/>
                    </a:lnTo>
                    <a:lnTo>
                      <a:pt x="733" y="2188"/>
                    </a:lnTo>
                    <a:lnTo>
                      <a:pt x="722" y="2237"/>
                    </a:lnTo>
                    <a:lnTo>
                      <a:pt x="726" y="2312"/>
                    </a:lnTo>
                    <a:lnTo>
                      <a:pt x="734" y="2355"/>
                    </a:lnTo>
                    <a:lnTo>
                      <a:pt x="725" y="2416"/>
                    </a:lnTo>
                    <a:lnTo>
                      <a:pt x="731" y="2475"/>
                    </a:lnTo>
                    <a:lnTo>
                      <a:pt x="726" y="2530"/>
                    </a:lnTo>
                    <a:lnTo>
                      <a:pt x="731" y="2578"/>
                    </a:lnTo>
                    <a:lnTo>
                      <a:pt x="725" y="2655"/>
                    </a:lnTo>
                    <a:lnTo>
                      <a:pt x="731" y="2690"/>
                    </a:lnTo>
                    <a:lnTo>
                      <a:pt x="726" y="2725"/>
                    </a:lnTo>
                    <a:lnTo>
                      <a:pt x="726" y="2777"/>
                    </a:lnTo>
                    <a:lnTo>
                      <a:pt x="731" y="2818"/>
                    </a:lnTo>
                    <a:lnTo>
                      <a:pt x="733" y="2859"/>
                    </a:lnTo>
                    <a:lnTo>
                      <a:pt x="735" y="2916"/>
                    </a:lnTo>
                    <a:lnTo>
                      <a:pt x="736" y="2959"/>
                    </a:lnTo>
                    <a:lnTo>
                      <a:pt x="734" y="2977"/>
                    </a:lnTo>
                    <a:lnTo>
                      <a:pt x="739" y="3028"/>
                    </a:lnTo>
                    <a:lnTo>
                      <a:pt x="723" y="3160"/>
                    </a:lnTo>
                    <a:lnTo>
                      <a:pt x="727" y="3241"/>
                    </a:lnTo>
                    <a:lnTo>
                      <a:pt x="723" y="3365"/>
                    </a:lnTo>
                    <a:lnTo>
                      <a:pt x="717" y="3563"/>
                    </a:lnTo>
                    <a:lnTo>
                      <a:pt x="731" y="3740"/>
                    </a:lnTo>
                    <a:lnTo>
                      <a:pt x="713" y="3872"/>
                    </a:lnTo>
                    <a:lnTo>
                      <a:pt x="705" y="3973"/>
                    </a:lnTo>
                    <a:lnTo>
                      <a:pt x="723" y="4045"/>
                    </a:lnTo>
                    <a:lnTo>
                      <a:pt x="751" y="4092"/>
                    </a:lnTo>
                    <a:lnTo>
                      <a:pt x="699" y="4069"/>
                    </a:lnTo>
                    <a:lnTo>
                      <a:pt x="677" y="4051"/>
                    </a:lnTo>
                    <a:lnTo>
                      <a:pt x="648" y="4068"/>
                    </a:lnTo>
                    <a:lnTo>
                      <a:pt x="604" y="4078"/>
                    </a:lnTo>
                    <a:lnTo>
                      <a:pt x="548" y="4090"/>
                    </a:lnTo>
                    <a:lnTo>
                      <a:pt x="589" y="4061"/>
                    </a:lnTo>
                    <a:lnTo>
                      <a:pt x="594" y="4032"/>
                    </a:lnTo>
                    <a:lnTo>
                      <a:pt x="597" y="3946"/>
                    </a:lnTo>
                    <a:lnTo>
                      <a:pt x="601" y="3854"/>
                    </a:lnTo>
                    <a:lnTo>
                      <a:pt x="601" y="3743"/>
                    </a:lnTo>
                    <a:lnTo>
                      <a:pt x="604" y="3616"/>
                    </a:lnTo>
                    <a:lnTo>
                      <a:pt x="615" y="3466"/>
                    </a:lnTo>
                    <a:lnTo>
                      <a:pt x="601" y="3310"/>
                    </a:lnTo>
                    <a:lnTo>
                      <a:pt x="601" y="3195"/>
                    </a:lnTo>
                    <a:lnTo>
                      <a:pt x="611" y="3050"/>
                    </a:lnTo>
                    <a:lnTo>
                      <a:pt x="625" y="29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76"/>
              <p:cNvSpPr/>
              <p:nvPr/>
            </p:nvSpPr>
            <p:spPr>
              <a:xfrm>
                <a:off x="2244600" y="5405400"/>
                <a:ext cx="34920" cy="349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8" h="110">
                    <a:moveTo>
                      <a:pt x="12" y="0"/>
                    </a:moveTo>
                    <a:lnTo>
                      <a:pt x="21" y="44"/>
                    </a:lnTo>
                    <a:lnTo>
                      <a:pt x="4" y="77"/>
                    </a:lnTo>
                    <a:lnTo>
                      <a:pt x="0" y="110"/>
                    </a:lnTo>
                    <a:lnTo>
                      <a:pt x="29" y="82"/>
                    </a:lnTo>
                    <a:lnTo>
                      <a:pt x="88" y="66"/>
                    </a:lnTo>
                    <a:lnTo>
                      <a:pt x="42" y="44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77"/>
              <p:cNvSpPr/>
              <p:nvPr/>
            </p:nvSpPr>
            <p:spPr>
              <a:xfrm>
                <a:off x="2274840" y="5373720"/>
                <a:ext cx="38160" cy="33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7" h="105">
                    <a:moveTo>
                      <a:pt x="97" y="0"/>
                    </a:moveTo>
                    <a:lnTo>
                      <a:pt x="71" y="24"/>
                    </a:lnTo>
                    <a:lnTo>
                      <a:pt x="97" y="72"/>
                    </a:lnTo>
                    <a:lnTo>
                      <a:pt x="71" y="102"/>
                    </a:lnTo>
                    <a:lnTo>
                      <a:pt x="37" y="105"/>
                    </a:lnTo>
                    <a:lnTo>
                      <a:pt x="0" y="89"/>
                    </a:lnTo>
                    <a:lnTo>
                      <a:pt x="54" y="77"/>
                    </a:lnTo>
                    <a:lnTo>
                      <a:pt x="0" y="44"/>
                    </a:lnTo>
                    <a:lnTo>
                      <a:pt x="28" y="40"/>
                    </a:lnTo>
                    <a:lnTo>
                      <a:pt x="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Group 178"/>
              <p:cNvGrpSpPr/>
              <p:nvPr/>
            </p:nvGrpSpPr>
            <p:grpSpPr>
              <a:xfrm>
                <a:off x="2340000" y="5140440"/>
                <a:ext cx="689040" cy="250920"/>
                <a:chOff x="2340000" y="5140440"/>
                <a:chExt cx="689040" cy="250920"/>
              </a:xfrm>
            </p:grpSpPr>
            <p:sp>
              <p:nvSpPr>
                <p:cNvPr id="416" name="Freeform 179"/>
                <p:cNvSpPr/>
                <p:nvPr/>
              </p:nvSpPr>
              <p:spPr>
                <a:xfrm>
                  <a:off x="2340000" y="5140440"/>
                  <a:ext cx="689040" cy="250920"/>
                </a:xfrm>
                <a:custGeom>
                  <a:avLst/>
                  <a:gdLst>
                    <a:gd name="textAreaLeft" fmla="*/ 0 w 689040"/>
                    <a:gd name="textAreaRight" fmla="*/ 689400 w 689040"/>
                    <a:gd name="textAreaTop" fmla="*/ 0 h 250920"/>
                    <a:gd name="textAreaBottom" fmla="*/ 251280 h 250920"/>
                  </a:gdLst>
                  <a:ahLst/>
                  <a:rect l="textAreaLeft" t="textAreaTop" r="textAreaRight" b="textAreaBottom"/>
                  <a:pathLst>
                    <a:path w="1736" h="790">
                      <a:moveTo>
                        <a:pt x="1727" y="579"/>
                      </a:moveTo>
                      <a:lnTo>
                        <a:pt x="1710" y="642"/>
                      </a:lnTo>
                      <a:lnTo>
                        <a:pt x="1736" y="701"/>
                      </a:lnTo>
                      <a:lnTo>
                        <a:pt x="1694" y="724"/>
                      </a:lnTo>
                      <a:lnTo>
                        <a:pt x="1642" y="690"/>
                      </a:lnTo>
                      <a:lnTo>
                        <a:pt x="1591" y="698"/>
                      </a:lnTo>
                      <a:lnTo>
                        <a:pt x="1558" y="667"/>
                      </a:lnTo>
                      <a:lnTo>
                        <a:pt x="1498" y="674"/>
                      </a:lnTo>
                      <a:lnTo>
                        <a:pt x="1481" y="643"/>
                      </a:lnTo>
                      <a:lnTo>
                        <a:pt x="1439" y="674"/>
                      </a:lnTo>
                      <a:lnTo>
                        <a:pt x="1379" y="671"/>
                      </a:lnTo>
                      <a:lnTo>
                        <a:pt x="1338" y="690"/>
                      </a:lnTo>
                      <a:lnTo>
                        <a:pt x="1286" y="719"/>
                      </a:lnTo>
                      <a:lnTo>
                        <a:pt x="1236" y="692"/>
                      </a:lnTo>
                      <a:lnTo>
                        <a:pt x="1228" y="724"/>
                      </a:lnTo>
                      <a:lnTo>
                        <a:pt x="1181" y="728"/>
                      </a:lnTo>
                      <a:lnTo>
                        <a:pt x="1172" y="765"/>
                      </a:lnTo>
                      <a:lnTo>
                        <a:pt x="1131" y="752"/>
                      </a:lnTo>
                      <a:lnTo>
                        <a:pt x="1101" y="790"/>
                      </a:lnTo>
                      <a:lnTo>
                        <a:pt x="1071" y="757"/>
                      </a:lnTo>
                      <a:lnTo>
                        <a:pt x="1021" y="760"/>
                      </a:lnTo>
                      <a:lnTo>
                        <a:pt x="1000" y="724"/>
                      </a:lnTo>
                      <a:lnTo>
                        <a:pt x="957" y="749"/>
                      </a:lnTo>
                      <a:lnTo>
                        <a:pt x="919" y="728"/>
                      </a:lnTo>
                      <a:lnTo>
                        <a:pt x="881" y="709"/>
                      </a:lnTo>
                      <a:lnTo>
                        <a:pt x="855" y="674"/>
                      </a:lnTo>
                      <a:lnTo>
                        <a:pt x="851" y="622"/>
                      </a:lnTo>
                      <a:lnTo>
                        <a:pt x="814" y="594"/>
                      </a:lnTo>
                      <a:lnTo>
                        <a:pt x="805" y="548"/>
                      </a:lnTo>
                      <a:lnTo>
                        <a:pt x="754" y="521"/>
                      </a:lnTo>
                      <a:lnTo>
                        <a:pt x="699" y="528"/>
                      </a:lnTo>
                      <a:lnTo>
                        <a:pt x="656" y="487"/>
                      </a:lnTo>
                      <a:lnTo>
                        <a:pt x="622" y="491"/>
                      </a:lnTo>
                      <a:lnTo>
                        <a:pt x="589" y="468"/>
                      </a:lnTo>
                      <a:lnTo>
                        <a:pt x="534" y="457"/>
                      </a:lnTo>
                      <a:lnTo>
                        <a:pt x="483" y="422"/>
                      </a:lnTo>
                      <a:lnTo>
                        <a:pt x="470" y="358"/>
                      </a:lnTo>
                      <a:lnTo>
                        <a:pt x="436" y="325"/>
                      </a:lnTo>
                      <a:lnTo>
                        <a:pt x="423" y="286"/>
                      </a:lnTo>
                      <a:lnTo>
                        <a:pt x="393" y="308"/>
                      </a:lnTo>
                      <a:lnTo>
                        <a:pt x="343" y="288"/>
                      </a:lnTo>
                      <a:lnTo>
                        <a:pt x="339" y="317"/>
                      </a:lnTo>
                      <a:lnTo>
                        <a:pt x="305" y="317"/>
                      </a:lnTo>
                      <a:lnTo>
                        <a:pt x="285" y="346"/>
                      </a:lnTo>
                      <a:lnTo>
                        <a:pt x="246" y="338"/>
                      </a:lnTo>
                      <a:lnTo>
                        <a:pt x="212" y="374"/>
                      </a:lnTo>
                      <a:lnTo>
                        <a:pt x="169" y="383"/>
                      </a:lnTo>
                      <a:lnTo>
                        <a:pt x="140" y="338"/>
                      </a:lnTo>
                      <a:lnTo>
                        <a:pt x="102" y="297"/>
                      </a:lnTo>
                      <a:lnTo>
                        <a:pt x="67" y="272"/>
                      </a:lnTo>
                      <a:lnTo>
                        <a:pt x="46" y="264"/>
                      </a:lnTo>
                      <a:lnTo>
                        <a:pt x="93" y="223"/>
                      </a:lnTo>
                      <a:lnTo>
                        <a:pt x="72" y="178"/>
                      </a:lnTo>
                      <a:lnTo>
                        <a:pt x="84" y="140"/>
                      </a:lnTo>
                      <a:lnTo>
                        <a:pt x="59" y="121"/>
                      </a:lnTo>
                      <a:lnTo>
                        <a:pt x="22" y="86"/>
                      </a:lnTo>
                      <a:lnTo>
                        <a:pt x="0" y="33"/>
                      </a:lnTo>
                      <a:lnTo>
                        <a:pt x="43" y="53"/>
                      </a:lnTo>
                      <a:lnTo>
                        <a:pt x="89" y="35"/>
                      </a:lnTo>
                      <a:lnTo>
                        <a:pt x="132" y="53"/>
                      </a:lnTo>
                      <a:lnTo>
                        <a:pt x="186" y="66"/>
                      </a:lnTo>
                      <a:lnTo>
                        <a:pt x="216" y="35"/>
                      </a:lnTo>
                      <a:lnTo>
                        <a:pt x="259" y="32"/>
                      </a:lnTo>
                      <a:lnTo>
                        <a:pt x="308" y="0"/>
                      </a:lnTo>
                      <a:lnTo>
                        <a:pt x="373" y="10"/>
                      </a:lnTo>
                      <a:lnTo>
                        <a:pt x="389" y="32"/>
                      </a:lnTo>
                      <a:lnTo>
                        <a:pt x="466" y="66"/>
                      </a:lnTo>
                      <a:lnTo>
                        <a:pt x="503" y="61"/>
                      </a:lnTo>
                      <a:lnTo>
                        <a:pt x="520" y="109"/>
                      </a:lnTo>
                      <a:lnTo>
                        <a:pt x="559" y="134"/>
                      </a:lnTo>
                      <a:lnTo>
                        <a:pt x="568" y="181"/>
                      </a:lnTo>
                      <a:lnTo>
                        <a:pt x="618" y="183"/>
                      </a:lnTo>
                      <a:lnTo>
                        <a:pt x="652" y="170"/>
                      </a:lnTo>
                      <a:lnTo>
                        <a:pt x="682" y="191"/>
                      </a:lnTo>
                      <a:lnTo>
                        <a:pt x="712" y="181"/>
                      </a:lnTo>
                      <a:lnTo>
                        <a:pt x="723" y="231"/>
                      </a:lnTo>
                      <a:lnTo>
                        <a:pt x="728" y="280"/>
                      </a:lnTo>
                      <a:lnTo>
                        <a:pt x="758" y="308"/>
                      </a:lnTo>
                      <a:lnTo>
                        <a:pt x="758" y="341"/>
                      </a:lnTo>
                      <a:lnTo>
                        <a:pt x="779" y="383"/>
                      </a:lnTo>
                      <a:lnTo>
                        <a:pt x="800" y="410"/>
                      </a:lnTo>
                      <a:lnTo>
                        <a:pt x="831" y="422"/>
                      </a:lnTo>
                      <a:lnTo>
                        <a:pt x="831" y="459"/>
                      </a:lnTo>
                      <a:lnTo>
                        <a:pt x="864" y="464"/>
                      </a:lnTo>
                      <a:lnTo>
                        <a:pt x="890" y="513"/>
                      </a:lnTo>
                      <a:lnTo>
                        <a:pt x="952" y="512"/>
                      </a:lnTo>
                      <a:lnTo>
                        <a:pt x="1000" y="465"/>
                      </a:lnTo>
                      <a:lnTo>
                        <a:pt x="1067" y="459"/>
                      </a:lnTo>
                      <a:lnTo>
                        <a:pt x="1101" y="451"/>
                      </a:lnTo>
                      <a:lnTo>
                        <a:pt x="1131" y="476"/>
                      </a:lnTo>
                      <a:lnTo>
                        <a:pt x="1127" y="524"/>
                      </a:lnTo>
                      <a:lnTo>
                        <a:pt x="1114" y="589"/>
                      </a:lnTo>
                      <a:lnTo>
                        <a:pt x="1135" y="642"/>
                      </a:lnTo>
                      <a:lnTo>
                        <a:pt x="1164" y="690"/>
                      </a:lnTo>
                      <a:lnTo>
                        <a:pt x="1177" y="650"/>
                      </a:lnTo>
                      <a:lnTo>
                        <a:pt x="1170" y="614"/>
                      </a:lnTo>
                      <a:lnTo>
                        <a:pt x="1148" y="593"/>
                      </a:lnTo>
                      <a:lnTo>
                        <a:pt x="1127" y="528"/>
                      </a:lnTo>
                      <a:lnTo>
                        <a:pt x="1131" y="476"/>
                      </a:lnTo>
                      <a:lnTo>
                        <a:pt x="1177" y="499"/>
                      </a:lnTo>
                      <a:lnTo>
                        <a:pt x="1219" y="496"/>
                      </a:lnTo>
                      <a:lnTo>
                        <a:pt x="1245" y="476"/>
                      </a:lnTo>
                      <a:lnTo>
                        <a:pt x="1245" y="430"/>
                      </a:lnTo>
                      <a:lnTo>
                        <a:pt x="1283" y="427"/>
                      </a:lnTo>
                      <a:lnTo>
                        <a:pt x="1286" y="383"/>
                      </a:lnTo>
                      <a:lnTo>
                        <a:pt x="1342" y="394"/>
                      </a:lnTo>
                      <a:lnTo>
                        <a:pt x="1388" y="382"/>
                      </a:lnTo>
                      <a:lnTo>
                        <a:pt x="1431" y="416"/>
                      </a:lnTo>
                      <a:lnTo>
                        <a:pt x="1487" y="414"/>
                      </a:lnTo>
                      <a:lnTo>
                        <a:pt x="1524" y="438"/>
                      </a:lnTo>
                      <a:lnTo>
                        <a:pt x="1567" y="427"/>
                      </a:lnTo>
                      <a:lnTo>
                        <a:pt x="1608" y="457"/>
                      </a:lnTo>
                      <a:lnTo>
                        <a:pt x="1660" y="451"/>
                      </a:lnTo>
                      <a:lnTo>
                        <a:pt x="1677" y="487"/>
                      </a:lnTo>
                      <a:lnTo>
                        <a:pt x="1727" y="482"/>
                      </a:lnTo>
                      <a:lnTo>
                        <a:pt x="1710" y="520"/>
                      </a:lnTo>
                      <a:lnTo>
                        <a:pt x="1727" y="5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80"/>
                <p:cNvSpPr/>
                <p:nvPr/>
              </p:nvSpPr>
              <p:spPr>
                <a:xfrm>
                  <a:off x="2449440" y="5148360"/>
                  <a:ext cx="27000" cy="684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1" h="212">
                      <a:moveTo>
                        <a:pt x="71" y="0"/>
                      </a:moveTo>
                      <a:lnTo>
                        <a:pt x="58" y="34"/>
                      </a:lnTo>
                      <a:lnTo>
                        <a:pt x="46" y="75"/>
                      </a:lnTo>
                      <a:lnTo>
                        <a:pt x="71" y="119"/>
                      </a:lnTo>
                      <a:lnTo>
                        <a:pt x="46" y="212"/>
                      </a:lnTo>
                      <a:lnTo>
                        <a:pt x="37" y="127"/>
                      </a:lnTo>
                      <a:lnTo>
                        <a:pt x="9" y="94"/>
                      </a:lnTo>
                      <a:lnTo>
                        <a:pt x="0" y="54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81"/>
                <p:cNvSpPr/>
                <p:nvPr/>
              </p:nvSpPr>
              <p:spPr>
                <a:xfrm>
                  <a:off x="2371680" y="5158080"/>
                  <a:ext cx="34920" cy="4572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8" h="146">
                      <a:moveTo>
                        <a:pt x="0" y="0"/>
                      </a:moveTo>
                      <a:lnTo>
                        <a:pt x="46" y="25"/>
                      </a:lnTo>
                      <a:lnTo>
                        <a:pt x="88" y="28"/>
                      </a:lnTo>
                      <a:lnTo>
                        <a:pt x="68" y="53"/>
                      </a:lnTo>
                      <a:lnTo>
                        <a:pt x="51" y="105"/>
                      </a:lnTo>
                      <a:lnTo>
                        <a:pt x="63" y="146"/>
                      </a:lnTo>
                      <a:lnTo>
                        <a:pt x="38" y="130"/>
                      </a:lnTo>
                      <a:lnTo>
                        <a:pt x="42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82"/>
                <p:cNvSpPr/>
                <p:nvPr/>
              </p:nvSpPr>
              <p:spPr>
                <a:xfrm>
                  <a:off x="2394000" y="5224680"/>
                  <a:ext cx="39600" cy="237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01" h="77">
                      <a:moveTo>
                        <a:pt x="0" y="0"/>
                      </a:moveTo>
                      <a:lnTo>
                        <a:pt x="39" y="48"/>
                      </a:lnTo>
                      <a:lnTo>
                        <a:pt x="46" y="77"/>
                      </a:lnTo>
                      <a:lnTo>
                        <a:pt x="101" y="16"/>
                      </a:lnTo>
                      <a:lnTo>
                        <a:pt x="55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83"/>
                <p:cNvSpPr/>
                <p:nvPr/>
              </p:nvSpPr>
              <p:spPr>
                <a:xfrm>
                  <a:off x="2416320" y="5166000"/>
                  <a:ext cx="37800" cy="540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97" h="171">
                      <a:moveTo>
                        <a:pt x="46" y="0"/>
                      </a:moveTo>
                      <a:lnTo>
                        <a:pt x="29" y="21"/>
                      </a:lnTo>
                      <a:lnTo>
                        <a:pt x="77" y="73"/>
                      </a:lnTo>
                      <a:lnTo>
                        <a:pt x="63" y="94"/>
                      </a:lnTo>
                      <a:lnTo>
                        <a:pt x="68" y="138"/>
                      </a:lnTo>
                      <a:lnTo>
                        <a:pt x="97" y="171"/>
                      </a:lnTo>
                      <a:lnTo>
                        <a:pt x="0" y="142"/>
                      </a:lnTo>
                      <a:lnTo>
                        <a:pt x="21" y="118"/>
                      </a:lnTo>
                      <a:lnTo>
                        <a:pt x="4" y="86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84"/>
                <p:cNvSpPr/>
                <p:nvPr/>
              </p:nvSpPr>
              <p:spPr>
                <a:xfrm>
                  <a:off x="2505240" y="5160960"/>
                  <a:ext cx="39600" cy="414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1" h="131">
                      <a:moveTo>
                        <a:pt x="0" y="0"/>
                      </a:moveTo>
                      <a:lnTo>
                        <a:pt x="34" y="13"/>
                      </a:lnTo>
                      <a:lnTo>
                        <a:pt x="71" y="16"/>
                      </a:lnTo>
                      <a:lnTo>
                        <a:pt x="62" y="61"/>
                      </a:lnTo>
                      <a:lnTo>
                        <a:pt x="71" y="97"/>
                      </a:lnTo>
                      <a:lnTo>
                        <a:pt x="101" y="131"/>
                      </a:lnTo>
                      <a:lnTo>
                        <a:pt x="51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85"/>
                <p:cNvSpPr/>
                <p:nvPr/>
              </p:nvSpPr>
              <p:spPr>
                <a:xfrm>
                  <a:off x="2490840" y="519120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4" h="94">
                      <a:moveTo>
                        <a:pt x="0" y="94"/>
                      </a:moveTo>
                      <a:lnTo>
                        <a:pt x="50" y="57"/>
                      </a:lnTo>
                      <a:lnTo>
                        <a:pt x="104" y="61"/>
                      </a:lnTo>
                      <a:lnTo>
                        <a:pt x="76" y="44"/>
                      </a:lnTo>
                      <a:lnTo>
                        <a:pt x="33" y="0"/>
                      </a:lnTo>
                      <a:lnTo>
                        <a:pt x="37" y="41"/>
                      </a:lnTo>
                      <a:lnTo>
                        <a:pt x="0" y="41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86"/>
                <p:cNvSpPr/>
                <p:nvPr/>
              </p:nvSpPr>
              <p:spPr>
                <a:xfrm>
                  <a:off x="2552760" y="5200920"/>
                  <a:ext cx="63360" cy="31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62" h="97">
                      <a:moveTo>
                        <a:pt x="98" y="0"/>
                      </a:moveTo>
                      <a:lnTo>
                        <a:pt x="128" y="20"/>
                      </a:lnTo>
                      <a:lnTo>
                        <a:pt x="162" y="12"/>
                      </a:lnTo>
                      <a:lnTo>
                        <a:pt x="149" y="61"/>
                      </a:lnTo>
                      <a:lnTo>
                        <a:pt x="128" y="97"/>
                      </a:lnTo>
                      <a:lnTo>
                        <a:pt x="132" y="69"/>
                      </a:lnTo>
                      <a:lnTo>
                        <a:pt x="93" y="48"/>
                      </a:lnTo>
                      <a:lnTo>
                        <a:pt x="0" y="4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187"/>
                <p:cNvSpPr/>
                <p:nvPr/>
              </p:nvSpPr>
              <p:spPr>
                <a:xfrm>
                  <a:off x="2530440" y="5238720"/>
                  <a:ext cx="63720" cy="349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56" h="114">
                      <a:moveTo>
                        <a:pt x="156" y="30"/>
                      </a:moveTo>
                      <a:lnTo>
                        <a:pt x="119" y="66"/>
                      </a:lnTo>
                      <a:lnTo>
                        <a:pt x="68" y="82"/>
                      </a:lnTo>
                      <a:lnTo>
                        <a:pt x="54" y="114"/>
                      </a:lnTo>
                      <a:lnTo>
                        <a:pt x="16" y="79"/>
                      </a:lnTo>
                      <a:lnTo>
                        <a:pt x="25" y="38"/>
                      </a:lnTo>
                      <a:lnTo>
                        <a:pt x="0" y="9"/>
                      </a:lnTo>
                      <a:lnTo>
                        <a:pt x="42" y="0"/>
                      </a:lnTo>
                      <a:lnTo>
                        <a:pt x="54" y="50"/>
                      </a:lnTo>
                      <a:lnTo>
                        <a:pt x="85" y="30"/>
                      </a:lnTo>
                      <a:lnTo>
                        <a:pt x="156" y="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88"/>
                <p:cNvSpPr/>
                <p:nvPr/>
              </p:nvSpPr>
              <p:spPr>
                <a:xfrm>
                  <a:off x="2670120" y="5299200"/>
                  <a:ext cx="63720" cy="684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61" h="217">
                      <a:moveTo>
                        <a:pt x="161" y="0"/>
                      </a:moveTo>
                      <a:lnTo>
                        <a:pt x="123" y="29"/>
                      </a:lnTo>
                      <a:lnTo>
                        <a:pt x="64" y="41"/>
                      </a:lnTo>
                      <a:lnTo>
                        <a:pt x="8" y="38"/>
                      </a:lnTo>
                      <a:lnTo>
                        <a:pt x="0" y="70"/>
                      </a:lnTo>
                      <a:lnTo>
                        <a:pt x="34" y="82"/>
                      </a:lnTo>
                      <a:lnTo>
                        <a:pt x="38" y="115"/>
                      </a:lnTo>
                      <a:lnTo>
                        <a:pt x="42" y="151"/>
                      </a:lnTo>
                      <a:lnTo>
                        <a:pt x="73" y="183"/>
                      </a:lnTo>
                      <a:lnTo>
                        <a:pt x="127" y="217"/>
                      </a:lnTo>
                      <a:lnTo>
                        <a:pt x="118" y="183"/>
                      </a:lnTo>
                      <a:lnTo>
                        <a:pt x="73" y="143"/>
                      </a:lnTo>
                      <a:lnTo>
                        <a:pt x="94" y="74"/>
                      </a:lnTo>
                      <a:lnTo>
                        <a:pt x="127" y="54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89"/>
                <p:cNvSpPr/>
                <p:nvPr/>
              </p:nvSpPr>
              <p:spPr>
                <a:xfrm>
                  <a:off x="2741760" y="5299200"/>
                  <a:ext cx="33120" cy="4140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85" y="0"/>
                      </a:moveTo>
                      <a:lnTo>
                        <a:pt x="67" y="49"/>
                      </a:lnTo>
                      <a:lnTo>
                        <a:pt x="85" y="131"/>
                      </a:lnTo>
                      <a:lnTo>
                        <a:pt x="33" y="123"/>
                      </a:lnTo>
                      <a:lnTo>
                        <a:pt x="39" y="86"/>
                      </a:lnTo>
                      <a:lnTo>
                        <a:pt x="0" y="4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90"/>
                <p:cNvSpPr/>
                <p:nvPr/>
              </p:nvSpPr>
              <p:spPr>
                <a:xfrm>
                  <a:off x="2800440" y="5273640"/>
                  <a:ext cx="79200" cy="446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01" h="143">
                      <a:moveTo>
                        <a:pt x="0" y="98"/>
                      </a:moveTo>
                      <a:lnTo>
                        <a:pt x="37" y="143"/>
                      </a:lnTo>
                      <a:lnTo>
                        <a:pt x="80" y="143"/>
                      </a:lnTo>
                      <a:lnTo>
                        <a:pt x="125" y="110"/>
                      </a:lnTo>
                      <a:lnTo>
                        <a:pt x="134" y="69"/>
                      </a:lnTo>
                      <a:lnTo>
                        <a:pt x="164" y="38"/>
                      </a:lnTo>
                      <a:lnTo>
                        <a:pt x="201" y="12"/>
                      </a:lnTo>
                      <a:lnTo>
                        <a:pt x="156" y="0"/>
                      </a:lnTo>
                      <a:lnTo>
                        <a:pt x="125" y="38"/>
                      </a:lnTo>
                      <a:lnTo>
                        <a:pt x="113" y="86"/>
                      </a:lnTo>
                      <a:lnTo>
                        <a:pt x="84" y="114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91"/>
                <p:cNvSpPr/>
                <p:nvPr/>
              </p:nvSpPr>
              <p:spPr>
                <a:xfrm>
                  <a:off x="2936880" y="5284800"/>
                  <a:ext cx="34920" cy="5868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88" h="186">
                      <a:moveTo>
                        <a:pt x="64" y="0"/>
                      </a:moveTo>
                      <a:lnTo>
                        <a:pt x="88" y="24"/>
                      </a:lnTo>
                      <a:lnTo>
                        <a:pt x="60" y="48"/>
                      </a:lnTo>
                      <a:lnTo>
                        <a:pt x="55" y="101"/>
                      </a:lnTo>
                      <a:lnTo>
                        <a:pt x="81" y="142"/>
                      </a:lnTo>
                      <a:lnTo>
                        <a:pt x="34" y="166"/>
                      </a:lnTo>
                      <a:lnTo>
                        <a:pt x="12" y="186"/>
                      </a:lnTo>
                      <a:lnTo>
                        <a:pt x="0" y="133"/>
                      </a:lnTo>
                      <a:lnTo>
                        <a:pt x="34" y="133"/>
                      </a:lnTo>
                      <a:lnTo>
                        <a:pt x="17" y="72"/>
                      </a:lnTo>
                      <a:lnTo>
                        <a:pt x="38" y="5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92"/>
                <p:cNvSpPr/>
                <p:nvPr/>
              </p:nvSpPr>
              <p:spPr>
                <a:xfrm>
                  <a:off x="2844720" y="5310360"/>
                  <a:ext cx="52560" cy="428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1" h="134">
                      <a:moveTo>
                        <a:pt x="119" y="0"/>
                      </a:moveTo>
                      <a:lnTo>
                        <a:pt x="131" y="36"/>
                      </a:lnTo>
                      <a:lnTo>
                        <a:pt x="110" y="61"/>
                      </a:lnTo>
                      <a:lnTo>
                        <a:pt x="88" y="97"/>
                      </a:lnTo>
                      <a:lnTo>
                        <a:pt x="55" y="121"/>
                      </a:lnTo>
                      <a:lnTo>
                        <a:pt x="0" y="134"/>
                      </a:lnTo>
                      <a:lnTo>
                        <a:pt x="55" y="80"/>
                      </a:lnTo>
                      <a:lnTo>
                        <a:pt x="38" y="41"/>
                      </a:lnTo>
                      <a:lnTo>
                        <a:pt x="77" y="56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193"/>
              <p:cNvGrpSpPr/>
              <p:nvPr/>
            </p:nvGrpSpPr>
            <p:grpSpPr>
              <a:xfrm>
                <a:off x="2604960" y="5058000"/>
                <a:ext cx="416160" cy="156960"/>
                <a:chOff x="2604960" y="5058000"/>
                <a:chExt cx="416160" cy="156960"/>
              </a:xfrm>
            </p:grpSpPr>
            <p:sp>
              <p:nvSpPr>
                <p:cNvPr id="431" name="Freeform 194"/>
                <p:cNvSpPr/>
                <p:nvPr/>
              </p:nvSpPr>
              <p:spPr>
                <a:xfrm>
                  <a:off x="2604960" y="5058000"/>
                  <a:ext cx="416160" cy="156960"/>
                </a:xfrm>
                <a:custGeom>
                  <a:avLst/>
                  <a:gdLst>
                    <a:gd name="textAreaLeft" fmla="*/ 0 w 416160"/>
                    <a:gd name="textAreaRight" fmla="*/ 416520 w 4161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1049" h="497">
                      <a:moveTo>
                        <a:pt x="872" y="0"/>
                      </a:moveTo>
                      <a:lnTo>
                        <a:pt x="911" y="36"/>
                      </a:lnTo>
                      <a:lnTo>
                        <a:pt x="956" y="61"/>
                      </a:lnTo>
                      <a:lnTo>
                        <a:pt x="970" y="114"/>
                      </a:lnTo>
                      <a:lnTo>
                        <a:pt x="1012" y="143"/>
                      </a:lnTo>
                      <a:lnTo>
                        <a:pt x="1049" y="159"/>
                      </a:lnTo>
                      <a:lnTo>
                        <a:pt x="1008" y="191"/>
                      </a:lnTo>
                      <a:lnTo>
                        <a:pt x="991" y="237"/>
                      </a:lnTo>
                      <a:lnTo>
                        <a:pt x="954" y="256"/>
                      </a:lnTo>
                      <a:lnTo>
                        <a:pt x="911" y="269"/>
                      </a:lnTo>
                      <a:lnTo>
                        <a:pt x="863" y="253"/>
                      </a:lnTo>
                      <a:lnTo>
                        <a:pt x="805" y="269"/>
                      </a:lnTo>
                      <a:lnTo>
                        <a:pt x="732" y="248"/>
                      </a:lnTo>
                      <a:lnTo>
                        <a:pt x="652" y="280"/>
                      </a:lnTo>
                      <a:lnTo>
                        <a:pt x="598" y="276"/>
                      </a:lnTo>
                      <a:lnTo>
                        <a:pt x="546" y="304"/>
                      </a:lnTo>
                      <a:lnTo>
                        <a:pt x="501" y="321"/>
                      </a:lnTo>
                      <a:lnTo>
                        <a:pt x="453" y="304"/>
                      </a:lnTo>
                      <a:lnTo>
                        <a:pt x="436" y="337"/>
                      </a:lnTo>
                      <a:lnTo>
                        <a:pt x="393" y="334"/>
                      </a:lnTo>
                      <a:lnTo>
                        <a:pt x="402" y="378"/>
                      </a:lnTo>
                      <a:lnTo>
                        <a:pt x="343" y="398"/>
                      </a:lnTo>
                      <a:lnTo>
                        <a:pt x="272" y="423"/>
                      </a:lnTo>
                      <a:lnTo>
                        <a:pt x="255" y="456"/>
                      </a:lnTo>
                      <a:lnTo>
                        <a:pt x="207" y="464"/>
                      </a:lnTo>
                      <a:lnTo>
                        <a:pt x="173" y="497"/>
                      </a:lnTo>
                      <a:lnTo>
                        <a:pt x="131" y="479"/>
                      </a:lnTo>
                      <a:lnTo>
                        <a:pt x="93" y="475"/>
                      </a:lnTo>
                      <a:lnTo>
                        <a:pt x="68" y="427"/>
                      </a:lnTo>
                      <a:lnTo>
                        <a:pt x="0" y="406"/>
                      </a:lnTo>
                      <a:lnTo>
                        <a:pt x="34" y="354"/>
                      </a:lnTo>
                      <a:lnTo>
                        <a:pt x="17" y="304"/>
                      </a:lnTo>
                      <a:lnTo>
                        <a:pt x="43" y="248"/>
                      </a:lnTo>
                      <a:lnTo>
                        <a:pt x="30" y="219"/>
                      </a:lnTo>
                      <a:lnTo>
                        <a:pt x="76" y="219"/>
                      </a:lnTo>
                      <a:lnTo>
                        <a:pt x="102" y="191"/>
                      </a:lnTo>
                      <a:lnTo>
                        <a:pt x="147" y="211"/>
                      </a:lnTo>
                      <a:lnTo>
                        <a:pt x="190" y="194"/>
                      </a:lnTo>
                      <a:lnTo>
                        <a:pt x="224" y="171"/>
                      </a:lnTo>
                      <a:lnTo>
                        <a:pt x="297" y="167"/>
                      </a:lnTo>
                      <a:lnTo>
                        <a:pt x="316" y="261"/>
                      </a:lnTo>
                      <a:lnTo>
                        <a:pt x="283" y="265"/>
                      </a:lnTo>
                      <a:lnTo>
                        <a:pt x="283" y="309"/>
                      </a:lnTo>
                      <a:lnTo>
                        <a:pt x="305" y="345"/>
                      </a:lnTo>
                      <a:lnTo>
                        <a:pt x="323" y="306"/>
                      </a:lnTo>
                      <a:lnTo>
                        <a:pt x="327" y="285"/>
                      </a:lnTo>
                      <a:lnTo>
                        <a:pt x="316" y="261"/>
                      </a:lnTo>
                      <a:lnTo>
                        <a:pt x="297" y="169"/>
                      </a:lnTo>
                      <a:lnTo>
                        <a:pt x="352" y="167"/>
                      </a:lnTo>
                      <a:lnTo>
                        <a:pt x="398" y="179"/>
                      </a:lnTo>
                      <a:lnTo>
                        <a:pt x="441" y="163"/>
                      </a:lnTo>
                      <a:lnTo>
                        <a:pt x="458" y="110"/>
                      </a:lnTo>
                      <a:lnTo>
                        <a:pt x="503" y="97"/>
                      </a:lnTo>
                      <a:lnTo>
                        <a:pt x="525" y="69"/>
                      </a:lnTo>
                      <a:lnTo>
                        <a:pt x="583" y="57"/>
                      </a:lnTo>
                      <a:lnTo>
                        <a:pt x="617" y="33"/>
                      </a:lnTo>
                      <a:lnTo>
                        <a:pt x="652" y="44"/>
                      </a:lnTo>
                      <a:lnTo>
                        <a:pt x="691" y="33"/>
                      </a:lnTo>
                      <a:lnTo>
                        <a:pt x="719" y="61"/>
                      </a:lnTo>
                      <a:lnTo>
                        <a:pt x="753" y="57"/>
                      </a:lnTo>
                      <a:lnTo>
                        <a:pt x="767" y="20"/>
                      </a:lnTo>
                      <a:lnTo>
                        <a:pt x="809" y="8"/>
                      </a:lnTo>
                      <a:lnTo>
                        <a:pt x="87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95"/>
                <p:cNvSpPr/>
                <p:nvPr/>
              </p:nvSpPr>
              <p:spPr>
                <a:xfrm>
                  <a:off x="2698920" y="5113440"/>
                  <a:ext cx="106200" cy="1908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69" h="58">
                      <a:moveTo>
                        <a:pt x="93" y="7"/>
                      </a:moveTo>
                      <a:lnTo>
                        <a:pt x="63" y="0"/>
                      </a:lnTo>
                      <a:lnTo>
                        <a:pt x="45" y="10"/>
                      </a:lnTo>
                      <a:lnTo>
                        <a:pt x="4" y="18"/>
                      </a:lnTo>
                      <a:lnTo>
                        <a:pt x="0" y="46"/>
                      </a:lnTo>
                      <a:lnTo>
                        <a:pt x="47" y="28"/>
                      </a:lnTo>
                      <a:lnTo>
                        <a:pt x="82" y="58"/>
                      </a:lnTo>
                      <a:lnTo>
                        <a:pt x="170" y="58"/>
                      </a:lnTo>
                      <a:lnTo>
                        <a:pt x="269" y="13"/>
                      </a:lnTo>
                      <a:lnTo>
                        <a:pt x="126" y="40"/>
                      </a:lnTo>
                      <a:lnTo>
                        <a:pt x="9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96"/>
                <p:cNvSpPr/>
                <p:nvPr/>
              </p:nvSpPr>
              <p:spPr>
                <a:xfrm>
                  <a:off x="2621160" y="5135760"/>
                  <a:ext cx="53640" cy="3960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36" h="125">
                      <a:moveTo>
                        <a:pt x="136" y="0"/>
                      </a:moveTo>
                      <a:lnTo>
                        <a:pt x="110" y="16"/>
                      </a:lnTo>
                      <a:lnTo>
                        <a:pt x="107" y="81"/>
                      </a:lnTo>
                      <a:lnTo>
                        <a:pt x="76" y="89"/>
                      </a:lnTo>
                      <a:lnTo>
                        <a:pt x="68" y="125"/>
                      </a:lnTo>
                      <a:lnTo>
                        <a:pt x="39" y="89"/>
                      </a:lnTo>
                      <a:lnTo>
                        <a:pt x="0" y="64"/>
                      </a:lnTo>
                      <a:lnTo>
                        <a:pt x="48" y="45"/>
                      </a:lnTo>
                      <a:lnTo>
                        <a:pt x="26" y="8"/>
                      </a:lnTo>
                      <a:lnTo>
                        <a:pt x="55" y="0"/>
                      </a:lnTo>
                      <a:lnTo>
                        <a:pt x="72" y="1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97"/>
                <p:cNvSpPr/>
                <p:nvPr/>
              </p:nvSpPr>
              <p:spPr>
                <a:xfrm>
                  <a:off x="2674800" y="5160960"/>
                  <a:ext cx="30240" cy="3816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76" h="118">
                      <a:moveTo>
                        <a:pt x="50" y="0"/>
                      </a:moveTo>
                      <a:lnTo>
                        <a:pt x="76" y="29"/>
                      </a:lnTo>
                      <a:lnTo>
                        <a:pt x="55" y="53"/>
                      </a:lnTo>
                      <a:lnTo>
                        <a:pt x="64" y="106"/>
                      </a:lnTo>
                      <a:lnTo>
                        <a:pt x="5" y="118"/>
                      </a:lnTo>
                      <a:lnTo>
                        <a:pt x="25" y="64"/>
                      </a:lnTo>
                      <a:lnTo>
                        <a:pt x="0" y="2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98"/>
                <p:cNvSpPr/>
                <p:nvPr/>
              </p:nvSpPr>
              <p:spPr>
                <a:xfrm>
                  <a:off x="2813040" y="5075280"/>
                  <a:ext cx="66600" cy="270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69" h="86">
                      <a:moveTo>
                        <a:pt x="169" y="17"/>
                      </a:moveTo>
                      <a:lnTo>
                        <a:pt x="156" y="0"/>
                      </a:lnTo>
                      <a:lnTo>
                        <a:pt x="126" y="12"/>
                      </a:lnTo>
                      <a:lnTo>
                        <a:pt x="106" y="4"/>
                      </a:lnTo>
                      <a:lnTo>
                        <a:pt x="93" y="17"/>
                      </a:lnTo>
                      <a:lnTo>
                        <a:pt x="63" y="28"/>
                      </a:lnTo>
                      <a:lnTo>
                        <a:pt x="37" y="52"/>
                      </a:lnTo>
                      <a:lnTo>
                        <a:pt x="7" y="60"/>
                      </a:lnTo>
                      <a:lnTo>
                        <a:pt x="0" y="86"/>
                      </a:lnTo>
                      <a:lnTo>
                        <a:pt x="29" y="76"/>
                      </a:lnTo>
                      <a:lnTo>
                        <a:pt x="97" y="48"/>
                      </a:lnTo>
                      <a:lnTo>
                        <a:pt x="143" y="73"/>
                      </a:lnTo>
                      <a:lnTo>
                        <a:pt x="169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99"/>
                <p:cNvSpPr/>
                <p:nvPr/>
              </p:nvSpPr>
              <p:spPr>
                <a:xfrm>
                  <a:off x="2822760" y="511812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24" h="77">
                      <a:moveTo>
                        <a:pt x="124" y="0"/>
                      </a:moveTo>
                      <a:lnTo>
                        <a:pt x="115" y="32"/>
                      </a:lnTo>
                      <a:lnTo>
                        <a:pt x="86" y="49"/>
                      </a:lnTo>
                      <a:lnTo>
                        <a:pt x="26" y="49"/>
                      </a:lnTo>
                      <a:lnTo>
                        <a:pt x="0" y="77"/>
                      </a:lnTo>
                      <a:lnTo>
                        <a:pt x="17" y="41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200"/>
                <p:cNvSpPr/>
                <p:nvPr/>
              </p:nvSpPr>
              <p:spPr>
                <a:xfrm>
                  <a:off x="2681280" y="5127840"/>
                  <a:ext cx="19080" cy="284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1" h="89">
                      <a:moveTo>
                        <a:pt x="9" y="0"/>
                      </a:moveTo>
                      <a:lnTo>
                        <a:pt x="34" y="29"/>
                      </a:lnTo>
                      <a:lnTo>
                        <a:pt x="31" y="57"/>
                      </a:lnTo>
                      <a:lnTo>
                        <a:pt x="51" y="78"/>
                      </a:lnTo>
                      <a:lnTo>
                        <a:pt x="0" y="89"/>
                      </a:lnTo>
                      <a:lnTo>
                        <a:pt x="17" y="7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01"/>
                <p:cNvSpPr/>
                <p:nvPr/>
              </p:nvSpPr>
              <p:spPr>
                <a:xfrm>
                  <a:off x="2895480" y="5062680"/>
                  <a:ext cx="68400" cy="284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69" h="89">
                      <a:moveTo>
                        <a:pt x="169" y="41"/>
                      </a:moveTo>
                      <a:lnTo>
                        <a:pt x="135" y="8"/>
                      </a:lnTo>
                      <a:lnTo>
                        <a:pt x="119" y="0"/>
                      </a:lnTo>
                      <a:lnTo>
                        <a:pt x="93" y="13"/>
                      </a:lnTo>
                      <a:lnTo>
                        <a:pt x="72" y="16"/>
                      </a:lnTo>
                      <a:lnTo>
                        <a:pt x="59" y="29"/>
                      </a:lnTo>
                      <a:lnTo>
                        <a:pt x="59" y="54"/>
                      </a:lnTo>
                      <a:lnTo>
                        <a:pt x="33" y="72"/>
                      </a:lnTo>
                      <a:lnTo>
                        <a:pt x="0" y="89"/>
                      </a:lnTo>
                      <a:lnTo>
                        <a:pt x="55" y="85"/>
                      </a:lnTo>
                      <a:lnTo>
                        <a:pt x="85" y="49"/>
                      </a:lnTo>
                      <a:lnTo>
                        <a:pt x="119" y="62"/>
                      </a:lnTo>
                      <a:lnTo>
                        <a:pt x="169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02"/>
              <p:cNvGrpSpPr/>
              <p:nvPr/>
            </p:nvGrpSpPr>
            <p:grpSpPr>
              <a:xfrm>
                <a:off x="2741760" y="4964400"/>
                <a:ext cx="150840" cy="107640"/>
                <a:chOff x="2741760" y="4964400"/>
                <a:chExt cx="150840" cy="107640"/>
              </a:xfrm>
            </p:grpSpPr>
            <p:sp>
              <p:nvSpPr>
                <p:cNvPr id="440" name="Freeform 203"/>
                <p:cNvSpPr/>
                <p:nvPr/>
              </p:nvSpPr>
              <p:spPr>
                <a:xfrm>
                  <a:off x="2741760" y="4964400"/>
                  <a:ext cx="150840" cy="10764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382" h="342">
                      <a:moveTo>
                        <a:pt x="179" y="0"/>
                      </a:moveTo>
                      <a:lnTo>
                        <a:pt x="216" y="15"/>
                      </a:lnTo>
                      <a:lnTo>
                        <a:pt x="246" y="12"/>
                      </a:lnTo>
                      <a:lnTo>
                        <a:pt x="251" y="23"/>
                      </a:lnTo>
                      <a:lnTo>
                        <a:pt x="292" y="45"/>
                      </a:lnTo>
                      <a:lnTo>
                        <a:pt x="280" y="69"/>
                      </a:lnTo>
                      <a:lnTo>
                        <a:pt x="335" y="98"/>
                      </a:lnTo>
                      <a:lnTo>
                        <a:pt x="327" y="109"/>
                      </a:lnTo>
                      <a:lnTo>
                        <a:pt x="352" y="142"/>
                      </a:lnTo>
                      <a:lnTo>
                        <a:pt x="339" y="176"/>
                      </a:lnTo>
                      <a:lnTo>
                        <a:pt x="382" y="203"/>
                      </a:lnTo>
                      <a:lnTo>
                        <a:pt x="361" y="227"/>
                      </a:lnTo>
                      <a:lnTo>
                        <a:pt x="365" y="248"/>
                      </a:lnTo>
                      <a:lnTo>
                        <a:pt x="352" y="260"/>
                      </a:lnTo>
                      <a:lnTo>
                        <a:pt x="330" y="285"/>
                      </a:lnTo>
                      <a:lnTo>
                        <a:pt x="302" y="276"/>
                      </a:lnTo>
                      <a:lnTo>
                        <a:pt x="289" y="301"/>
                      </a:lnTo>
                      <a:lnTo>
                        <a:pt x="272" y="317"/>
                      </a:lnTo>
                      <a:lnTo>
                        <a:pt x="251" y="313"/>
                      </a:lnTo>
                      <a:lnTo>
                        <a:pt x="192" y="334"/>
                      </a:lnTo>
                      <a:lnTo>
                        <a:pt x="149" y="342"/>
                      </a:lnTo>
                      <a:lnTo>
                        <a:pt x="127" y="326"/>
                      </a:lnTo>
                      <a:lnTo>
                        <a:pt x="89" y="317"/>
                      </a:lnTo>
                      <a:lnTo>
                        <a:pt x="47" y="305"/>
                      </a:lnTo>
                      <a:lnTo>
                        <a:pt x="56" y="273"/>
                      </a:lnTo>
                      <a:lnTo>
                        <a:pt x="30" y="252"/>
                      </a:lnTo>
                      <a:lnTo>
                        <a:pt x="51" y="219"/>
                      </a:lnTo>
                      <a:lnTo>
                        <a:pt x="26" y="203"/>
                      </a:lnTo>
                      <a:lnTo>
                        <a:pt x="5" y="168"/>
                      </a:lnTo>
                      <a:lnTo>
                        <a:pt x="0" y="142"/>
                      </a:lnTo>
                      <a:lnTo>
                        <a:pt x="9" y="114"/>
                      </a:lnTo>
                      <a:lnTo>
                        <a:pt x="0" y="94"/>
                      </a:lnTo>
                      <a:lnTo>
                        <a:pt x="30" y="82"/>
                      </a:lnTo>
                      <a:lnTo>
                        <a:pt x="76" y="82"/>
                      </a:lnTo>
                      <a:lnTo>
                        <a:pt x="93" y="32"/>
                      </a:lnTo>
                      <a:lnTo>
                        <a:pt x="132" y="32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204"/>
                <p:cNvSpPr/>
                <p:nvPr/>
              </p:nvSpPr>
              <p:spPr>
                <a:xfrm>
                  <a:off x="2759040" y="4986360"/>
                  <a:ext cx="66600" cy="428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69" h="138">
                      <a:moveTo>
                        <a:pt x="169" y="0"/>
                      </a:moveTo>
                      <a:lnTo>
                        <a:pt x="127" y="17"/>
                      </a:lnTo>
                      <a:lnTo>
                        <a:pt x="110" y="45"/>
                      </a:lnTo>
                      <a:lnTo>
                        <a:pt x="115" y="81"/>
                      </a:lnTo>
                      <a:lnTo>
                        <a:pt x="80" y="107"/>
                      </a:lnTo>
                      <a:lnTo>
                        <a:pt x="76" y="138"/>
                      </a:lnTo>
                      <a:lnTo>
                        <a:pt x="30" y="110"/>
                      </a:lnTo>
                      <a:lnTo>
                        <a:pt x="0" y="61"/>
                      </a:lnTo>
                      <a:lnTo>
                        <a:pt x="41" y="40"/>
                      </a:lnTo>
                      <a:lnTo>
                        <a:pt x="67" y="8"/>
                      </a:lnTo>
                      <a:lnTo>
                        <a:pt x="101" y="8"/>
                      </a:lnTo>
                      <a:lnTo>
                        <a:pt x="1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205"/>
                <p:cNvSpPr/>
                <p:nvPr/>
              </p:nvSpPr>
              <p:spPr>
                <a:xfrm>
                  <a:off x="2770200" y="5035680"/>
                  <a:ext cx="68400" cy="255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9" h="81">
                      <a:moveTo>
                        <a:pt x="169" y="68"/>
                      </a:moveTo>
                      <a:lnTo>
                        <a:pt x="126" y="81"/>
                      </a:lnTo>
                      <a:lnTo>
                        <a:pt x="85" y="81"/>
                      </a:lnTo>
                      <a:lnTo>
                        <a:pt x="50" y="61"/>
                      </a:lnTo>
                      <a:lnTo>
                        <a:pt x="25" y="65"/>
                      </a:lnTo>
                      <a:lnTo>
                        <a:pt x="25" y="28"/>
                      </a:lnTo>
                      <a:lnTo>
                        <a:pt x="0" y="0"/>
                      </a:lnTo>
                      <a:lnTo>
                        <a:pt x="46" y="16"/>
                      </a:lnTo>
                      <a:lnTo>
                        <a:pt x="63" y="33"/>
                      </a:lnTo>
                      <a:lnTo>
                        <a:pt x="110" y="61"/>
                      </a:lnTo>
                      <a:lnTo>
                        <a:pt x="169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206"/>
                <p:cNvSpPr/>
                <p:nvPr/>
              </p:nvSpPr>
              <p:spPr>
                <a:xfrm>
                  <a:off x="2827440" y="4994280"/>
                  <a:ext cx="31680" cy="414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0" h="129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60" y="44"/>
                      </a:lnTo>
                      <a:lnTo>
                        <a:pt x="64" y="73"/>
                      </a:lnTo>
                      <a:lnTo>
                        <a:pt x="47" y="81"/>
                      </a:lnTo>
                      <a:lnTo>
                        <a:pt x="64" y="129"/>
                      </a:lnTo>
                      <a:lnTo>
                        <a:pt x="0" y="86"/>
                      </a:lnTo>
                      <a:lnTo>
                        <a:pt x="4" y="60"/>
                      </a:lnTo>
                      <a:lnTo>
                        <a:pt x="26" y="4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207"/>
              <p:cNvGrpSpPr/>
              <p:nvPr/>
            </p:nvGrpSpPr>
            <p:grpSpPr>
              <a:xfrm>
                <a:off x="2486160" y="4999320"/>
                <a:ext cx="225360" cy="129960"/>
                <a:chOff x="2486160" y="4999320"/>
                <a:chExt cx="225360" cy="129960"/>
              </a:xfrm>
            </p:grpSpPr>
            <p:sp>
              <p:nvSpPr>
                <p:cNvPr id="445" name="Freeform 208"/>
                <p:cNvSpPr/>
                <p:nvPr/>
              </p:nvSpPr>
              <p:spPr>
                <a:xfrm>
                  <a:off x="2486160" y="4999320"/>
                  <a:ext cx="225360" cy="12996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567" h="412">
                      <a:moveTo>
                        <a:pt x="265" y="0"/>
                      </a:moveTo>
                      <a:lnTo>
                        <a:pt x="321" y="20"/>
                      </a:lnTo>
                      <a:lnTo>
                        <a:pt x="366" y="14"/>
                      </a:lnTo>
                      <a:lnTo>
                        <a:pt x="371" y="29"/>
                      </a:lnTo>
                      <a:lnTo>
                        <a:pt x="436" y="54"/>
                      </a:lnTo>
                      <a:lnTo>
                        <a:pt x="417" y="84"/>
                      </a:lnTo>
                      <a:lnTo>
                        <a:pt x="498" y="117"/>
                      </a:lnTo>
                      <a:lnTo>
                        <a:pt x="485" y="132"/>
                      </a:lnTo>
                      <a:lnTo>
                        <a:pt x="523" y="172"/>
                      </a:lnTo>
                      <a:lnTo>
                        <a:pt x="505" y="211"/>
                      </a:lnTo>
                      <a:lnTo>
                        <a:pt x="567" y="245"/>
                      </a:lnTo>
                      <a:lnTo>
                        <a:pt x="537" y="274"/>
                      </a:lnTo>
                      <a:lnTo>
                        <a:pt x="542" y="299"/>
                      </a:lnTo>
                      <a:lnTo>
                        <a:pt x="523" y="314"/>
                      </a:lnTo>
                      <a:lnTo>
                        <a:pt x="493" y="344"/>
                      </a:lnTo>
                      <a:lnTo>
                        <a:pt x="448" y="334"/>
                      </a:lnTo>
                      <a:lnTo>
                        <a:pt x="428" y="363"/>
                      </a:lnTo>
                      <a:lnTo>
                        <a:pt x="404" y="383"/>
                      </a:lnTo>
                      <a:lnTo>
                        <a:pt x="371" y="377"/>
                      </a:lnTo>
                      <a:lnTo>
                        <a:pt x="283" y="402"/>
                      </a:lnTo>
                      <a:lnTo>
                        <a:pt x="221" y="412"/>
                      </a:lnTo>
                      <a:lnTo>
                        <a:pt x="189" y="392"/>
                      </a:lnTo>
                      <a:lnTo>
                        <a:pt x="132" y="383"/>
                      </a:lnTo>
                      <a:lnTo>
                        <a:pt x="70" y="368"/>
                      </a:lnTo>
                      <a:lnTo>
                        <a:pt x="81" y="329"/>
                      </a:lnTo>
                      <a:lnTo>
                        <a:pt x="44" y="305"/>
                      </a:lnTo>
                      <a:lnTo>
                        <a:pt x="76" y="266"/>
                      </a:lnTo>
                      <a:lnTo>
                        <a:pt x="38" y="245"/>
                      </a:lnTo>
                      <a:lnTo>
                        <a:pt x="6" y="202"/>
                      </a:lnTo>
                      <a:lnTo>
                        <a:pt x="0" y="172"/>
                      </a:lnTo>
                      <a:lnTo>
                        <a:pt x="13" y="138"/>
                      </a:lnTo>
                      <a:lnTo>
                        <a:pt x="0" y="114"/>
                      </a:lnTo>
                      <a:lnTo>
                        <a:pt x="44" y="98"/>
                      </a:lnTo>
                      <a:lnTo>
                        <a:pt x="114" y="98"/>
                      </a:lnTo>
                      <a:lnTo>
                        <a:pt x="140" y="39"/>
                      </a:lnTo>
                      <a:lnTo>
                        <a:pt x="197" y="39"/>
                      </a:lnTo>
                      <a:lnTo>
                        <a:pt x="26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09"/>
                <p:cNvSpPr/>
                <p:nvPr/>
              </p:nvSpPr>
              <p:spPr>
                <a:xfrm>
                  <a:off x="2511360" y="5026320"/>
                  <a:ext cx="100080" cy="5220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53" h="167">
                      <a:moveTo>
                        <a:pt x="253" y="0"/>
                      </a:moveTo>
                      <a:lnTo>
                        <a:pt x="189" y="18"/>
                      </a:lnTo>
                      <a:lnTo>
                        <a:pt x="163" y="54"/>
                      </a:lnTo>
                      <a:lnTo>
                        <a:pt x="171" y="96"/>
                      </a:lnTo>
                      <a:lnTo>
                        <a:pt x="119" y="127"/>
                      </a:lnTo>
                      <a:lnTo>
                        <a:pt x="113" y="167"/>
                      </a:lnTo>
                      <a:lnTo>
                        <a:pt x="44" y="133"/>
                      </a:lnTo>
                      <a:lnTo>
                        <a:pt x="0" y="73"/>
                      </a:lnTo>
                      <a:lnTo>
                        <a:pt x="64" y="48"/>
                      </a:lnTo>
                      <a:lnTo>
                        <a:pt x="101" y="9"/>
                      </a:lnTo>
                      <a:lnTo>
                        <a:pt x="152" y="9"/>
                      </a:lnTo>
                      <a:lnTo>
                        <a:pt x="2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210"/>
                <p:cNvSpPr/>
                <p:nvPr/>
              </p:nvSpPr>
              <p:spPr>
                <a:xfrm>
                  <a:off x="2529000" y="5085000"/>
                  <a:ext cx="100080" cy="2988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53" h="99">
                      <a:moveTo>
                        <a:pt x="253" y="85"/>
                      </a:moveTo>
                      <a:lnTo>
                        <a:pt x="188" y="99"/>
                      </a:lnTo>
                      <a:lnTo>
                        <a:pt x="127" y="99"/>
                      </a:lnTo>
                      <a:lnTo>
                        <a:pt x="75" y="75"/>
                      </a:lnTo>
                      <a:lnTo>
                        <a:pt x="38" y="79"/>
                      </a:lnTo>
                      <a:lnTo>
                        <a:pt x="38" y="36"/>
                      </a:lnTo>
                      <a:lnTo>
                        <a:pt x="0" y="0"/>
                      </a:lnTo>
                      <a:lnTo>
                        <a:pt x="69" y="20"/>
                      </a:lnTo>
                      <a:lnTo>
                        <a:pt x="95" y="39"/>
                      </a:lnTo>
                      <a:lnTo>
                        <a:pt x="163" y="75"/>
                      </a:lnTo>
                      <a:lnTo>
                        <a:pt x="253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11"/>
                <p:cNvSpPr/>
                <p:nvPr/>
              </p:nvSpPr>
              <p:spPr>
                <a:xfrm>
                  <a:off x="2612880" y="5035680"/>
                  <a:ext cx="49320" cy="5076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2" h="157">
                      <a:moveTo>
                        <a:pt x="96" y="0"/>
                      </a:moveTo>
                      <a:lnTo>
                        <a:pt x="122" y="25"/>
                      </a:lnTo>
                      <a:lnTo>
                        <a:pt x="89" y="55"/>
                      </a:lnTo>
                      <a:lnTo>
                        <a:pt x="96" y="88"/>
                      </a:lnTo>
                      <a:lnTo>
                        <a:pt x="70" y="100"/>
                      </a:lnTo>
                      <a:lnTo>
                        <a:pt x="96" y="157"/>
                      </a:lnTo>
                      <a:lnTo>
                        <a:pt x="0" y="103"/>
                      </a:lnTo>
                      <a:lnTo>
                        <a:pt x="8" y="75"/>
                      </a:lnTo>
                      <a:lnTo>
                        <a:pt x="39" y="55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12"/>
              <p:cNvGrpSpPr/>
              <p:nvPr/>
            </p:nvGrpSpPr>
            <p:grpSpPr>
              <a:xfrm>
                <a:off x="2611440" y="4876920"/>
                <a:ext cx="154080" cy="136440"/>
                <a:chOff x="2611440" y="4876920"/>
                <a:chExt cx="154080" cy="136440"/>
              </a:xfrm>
            </p:grpSpPr>
            <p:sp>
              <p:nvSpPr>
                <p:cNvPr id="450" name="Freeform 213"/>
                <p:cNvSpPr/>
                <p:nvPr/>
              </p:nvSpPr>
              <p:spPr>
                <a:xfrm>
                  <a:off x="2611440" y="4876920"/>
                  <a:ext cx="154080" cy="13644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388" h="430">
                      <a:moveTo>
                        <a:pt x="0" y="228"/>
                      </a:moveTo>
                      <a:lnTo>
                        <a:pt x="20" y="185"/>
                      </a:lnTo>
                      <a:lnTo>
                        <a:pt x="13" y="152"/>
                      </a:lnTo>
                      <a:lnTo>
                        <a:pt x="27" y="146"/>
                      </a:lnTo>
                      <a:lnTo>
                        <a:pt x="51" y="98"/>
                      </a:lnTo>
                      <a:lnTo>
                        <a:pt x="78" y="112"/>
                      </a:lnTo>
                      <a:lnTo>
                        <a:pt x="110" y="50"/>
                      </a:lnTo>
                      <a:lnTo>
                        <a:pt x="124" y="60"/>
                      </a:lnTo>
                      <a:lnTo>
                        <a:pt x="161" y="32"/>
                      </a:lnTo>
                      <a:lnTo>
                        <a:pt x="199" y="47"/>
                      </a:lnTo>
                      <a:lnTo>
                        <a:pt x="232" y="0"/>
                      </a:lnTo>
                      <a:lnTo>
                        <a:pt x="259" y="21"/>
                      </a:lnTo>
                      <a:lnTo>
                        <a:pt x="283" y="18"/>
                      </a:lnTo>
                      <a:lnTo>
                        <a:pt x="295" y="32"/>
                      </a:lnTo>
                      <a:lnTo>
                        <a:pt x="322" y="56"/>
                      </a:lnTo>
                      <a:lnTo>
                        <a:pt x="315" y="90"/>
                      </a:lnTo>
                      <a:lnTo>
                        <a:pt x="342" y="103"/>
                      </a:lnTo>
                      <a:lnTo>
                        <a:pt x="360" y="122"/>
                      </a:lnTo>
                      <a:lnTo>
                        <a:pt x="356" y="146"/>
                      </a:lnTo>
                      <a:lnTo>
                        <a:pt x="378" y="214"/>
                      </a:lnTo>
                      <a:lnTo>
                        <a:pt x="388" y="262"/>
                      </a:lnTo>
                      <a:lnTo>
                        <a:pt x="370" y="286"/>
                      </a:lnTo>
                      <a:lnTo>
                        <a:pt x="360" y="328"/>
                      </a:lnTo>
                      <a:lnTo>
                        <a:pt x="347" y="376"/>
                      </a:lnTo>
                      <a:lnTo>
                        <a:pt x="309" y="368"/>
                      </a:lnTo>
                      <a:lnTo>
                        <a:pt x="286" y="396"/>
                      </a:lnTo>
                      <a:lnTo>
                        <a:pt x="250" y="372"/>
                      </a:lnTo>
                      <a:lnTo>
                        <a:pt x="232" y="402"/>
                      </a:lnTo>
                      <a:lnTo>
                        <a:pt x="189" y="424"/>
                      </a:lnTo>
                      <a:lnTo>
                        <a:pt x="161" y="430"/>
                      </a:lnTo>
                      <a:lnTo>
                        <a:pt x="130" y="420"/>
                      </a:lnTo>
                      <a:lnTo>
                        <a:pt x="106" y="430"/>
                      </a:lnTo>
                      <a:lnTo>
                        <a:pt x="92" y="396"/>
                      </a:lnTo>
                      <a:lnTo>
                        <a:pt x="92" y="343"/>
                      </a:lnTo>
                      <a:lnTo>
                        <a:pt x="38" y="324"/>
                      </a:lnTo>
                      <a:lnTo>
                        <a:pt x="38" y="281"/>
                      </a:lnTo>
                      <a:lnTo>
                        <a:pt x="0" y="22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214"/>
                <p:cNvSpPr/>
                <p:nvPr/>
              </p:nvSpPr>
              <p:spPr>
                <a:xfrm>
                  <a:off x="2641680" y="4937400"/>
                  <a:ext cx="61920" cy="601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158" h="191">
                      <a:moveTo>
                        <a:pt x="0" y="0"/>
                      </a:moveTo>
                      <a:lnTo>
                        <a:pt x="18" y="48"/>
                      </a:lnTo>
                      <a:lnTo>
                        <a:pt x="52" y="66"/>
                      </a:lnTo>
                      <a:lnTo>
                        <a:pt x="93" y="63"/>
                      </a:lnTo>
                      <a:lnTo>
                        <a:pt x="121" y="99"/>
                      </a:lnTo>
                      <a:lnTo>
                        <a:pt x="158" y="105"/>
                      </a:lnTo>
                      <a:lnTo>
                        <a:pt x="125" y="159"/>
                      </a:lnTo>
                      <a:lnTo>
                        <a:pt x="70" y="191"/>
                      </a:lnTo>
                      <a:lnTo>
                        <a:pt x="46" y="144"/>
                      </a:lnTo>
                      <a:lnTo>
                        <a:pt x="10" y="114"/>
                      </a:lnTo>
                      <a:lnTo>
                        <a:pt x="10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215"/>
                <p:cNvSpPr/>
                <p:nvPr/>
              </p:nvSpPr>
              <p:spPr>
                <a:xfrm>
                  <a:off x="2711520" y="4926240"/>
                  <a:ext cx="36360" cy="619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3" h="193">
                      <a:moveTo>
                        <a:pt x="80" y="0"/>
                      </a:moveTo>
                      <a:lnTo>
                        <a:pt x="93" y="49"/>
                      </a:lnTo>
                      <a:lnTo>
                        <a:pt x="93" y="97"/>
                      </a:lnTo>
                      <a:lnTo>
                        <a:pt x="68" y="133"/>
                      </a:lnTo>
                      <a:lnTo>
                        <a:pt x="73" y="163"/>
                      </a:lnTo>
                      <a:lnTo>
                        <a:pt x="32" y="163"/>
                      </a:lnTo>
                      <a:lnTo>
                        <a:pt x="0" y="193"/>
                      </a:lnTo>
                      <a:lnTo>
                        <a:pt x="18" y="139"/>
                      </a:lnTo>
                      <a:lnTo>
                        <a:pt x="37" y="122"/>
                      </a:lnTo>
                      <a:lnTo>
                        <a:pt x="68" y="68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216"/>
                <p:cNvSpPr/>
                <p:nvPr/>
              </p:nvSpPr>
              <p:spPr>
                <a:xfrm>
                  <a:off x="2654280" y="4907160"/>
                  <a:ext cx="58680" cy="284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49" h="91">
                      <a:moveTo>
                        <a:pt x="0" y="18"/>
                      </a:moveTo>
                      <a:lnTo>
                        <a:pt x="23" y="0"/>
                      </a:lnTo>
                      <a:lnTo>
                        <a:pt x="51" y="24"/>
                      </a:lnTo>
                      <a:lnTo>
                        <a:pt x="83" y="18"/>
                      </a:lnTo>
                      <a:lnTo>
                        <a:pt x="93" y="40"/>
                      </a:lnTo>
                      <a:lnTo>
                        <a:pt x="149" y="18"/>
                      </a:lnTo>
                      <a:lnTo>
                        <a:pt x="98" y="91"/>
                      </a:lnTo>
                      <a:lnTo>
                        <a:pt x="70" y="88"/>
                      </a:lnTo>
                      <a:lnTo>
                        <a:pt x="51" y="62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217"/>
              <p:cNvGrpSpPr/>
              <p:nvPr/>
            </p:nvGrpSpPr>
            <p:grpSpPr>
              <a:xfrm>
                <a:off x="2209680" y="5281560"/>
                <a:ext cx="922320" cy="258840"/>
                <a:chOff x="2209680" y="5281560"/>
                <a:chExt cx="922320" cy="258840"/>
              </a:xfrm>
            </p:grpSpPr>
            <p:grpSp>
              <p:nvGrpSpPr>
                <p:cNvPr id="455" name="Group 218"/>
                <p:cNvGrpSpPr/>
                <p:nvPr/>
              </p:nvGrpSpPr>
              <p:grpSpPr>
                <a:xfrm>
                  <a:off x="2209680" y="5281560"/>
                  <a:ext cx="922320" cy="258840"/>
                  <a:chOff x="2209680" y="5281560"/>
                  <a:chExt cx="922320" cy="258840"/>
                </a:xfrm>
              </p:grpSpPr>
              <p:sp>
                <p:nvSpPr>
                  <p:cNvPr id="456" name="Freeform 219"/>
                  <p:cNvSpPr/>
                  <p:nvPr/>
                </p:nvSpPr>
                <p:spPr>
                  <a:xfrm>
                    <a:off x="2209680" y="5281560"/>
                    <a:ext cx="922320" cy="258840"/>
                  </a:xfrm>
                  <a:custGeom>
                    <a:avLst/>
                    <a:gdLst>
                      <a:gd name="textAreaLeft" fmla="*/ 0 w 922320"/>
                      <a:gd name="textAreaRight" fmla="*/ 922680 w 92232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w="2324" h="814">
                        <a:moveTo>
                          <a:pt x="2310" y="644"/>
                        </a:moveTo>
                        <a:lnTo>
                          <a:pt x="2285" y="613"/>
                        </a:lnTo>
                        <a:lnTo>
                          <a:pt x="2285" y="574"/>
                        </a:lnTo>
                        <a:lnTo>
                          <a:pt x="2252" y="552"/>
                        </a:lnTo>
                        <a:lnTo>
                          <a:pt x="2248" y="493"/>
                        </a:lnTo>
                        <a:lnTo>
                          <a:pt x="2209" y="463"/>
                        </a:lnTo>
                        <a:lnTo>
                          <a:pt x="2217" y="416"/>
                        </a:lnTo>
                        <a:lnTo>
                          <a:pt x="2162" y="385"/>
                        </a:lnTo>
                        <a:lnTo>
                          <a:pt x="2149" y="343"/>
                        </a:lnTo>
                        <a:lnTo>
                          <a:pt x="2112" y="346"/>
                        </a:lnTo>
                        <a:lnTo>
                          <a:pt x="2078" y="316"/>
                        </a:lnTo>
                        <a:lnTo>
                          <a:pt x="1995" y="335"/>
                        </a:lnTo>
                        <a:lnTo>
                          <a:pt x="1953" y="321"/>
                        </a:lnTo>
                        <a:lnTo>
                          <a:pt x="1911" y="284"/>
                        </a:lnTo>
                        <a:lnTo>
                          <a:pt x="1895" y="308"/>
                        </a:lnTo>
                        <a:lnTo>
                          <a:pt x="1852" y="313"/>
                        </a:lnTo>
                        <a:lnTo>
                          <a:pt x="1840" y="341"/>
                        </a:lnTo>
                        <a:lnTo>
                          <a:pt x="1809" y="376"/>
                        </a:lnTo>
                        <a:lnTo>
                          <a:pt x="1757" y="385"/>
                        </a:lnTo>
                        <a:lnTo>
                          <a:pt x="1814" y="423"/>
                        </a:lnTo>
                        <a:lnTo>
                          <a:pt x="1865" y="418"/>
                        </a:lnTo>
                        <a:lnTo>
                          <a:pt x="1895" y="445"/>
                        </a:lnTo>
                        <a:lnTo>
                          <a:pt x="1895" y="493"/>
                        </a:lnTo>
                        <a:lnTo>
                          <a:pt x="1928" y="544"/>
                        </a:lnTo>
                        <a:lnTo>
                          <a:pt x="1933" y="582"/>
                        </a:lnTo>
                        <a:lnTo>
                          <a:pt x="1979" y="588"/>
                        </a:lnTo>
                        <a:lnTo>
                          <a:pt x="2008" y="616"/>
                        </a:lnTo>
                        <a:lnTo>
                          <a:pt x="1992" y="669"/>
                        </a:lnTo>
                        <a:lnTo>
                          <a:pt x="2008" y="706"/>
                        </a:lnTo>
                        <a:lnTo>
                          <a:pt x="1958" y="669"/>
                        </a:lnTo>
                        <a:lnTo>
                          <a:pt x="1924" y="607"/>
                        </a:lnTo>
                        <a:lnTo>
                          <a:pt x="1891" y="540"/>
                        </a:lnTo>
                        <a:lnTo>
                          <a:pt x="1852" y="526"/>
                        </a:lnTo>
                        <a:lnTo>
                          <a:pt x="1852" y="479"/>
                        </a:lnTo>
                        <a:lnTo>
                          <a:pt x="1814" y="471"/>
                        </a:lnTo>
                        <a:lnTo>
                          <a:pt x="1814" y="423"/>
                        </a:lnTo>
                        <a:lnTo>
                          <a:pt x="1757" y="387"/>
                        </a:lnTo>
                        <a:lnTo>
                          <a:pt x="1748" y="416"/>
                        </a:lnTo>
                        <a:lnTo>
                          <a:pt x="1698" y="431"/>
                        </a:lnTo>
                        <a:lnTo>
                          <a:pt x="1677" y="479"/>
                        </a:lnTo>
                        <a:lnTo>
                          <a:pt x="1622" y="498"/>
                        </a:lnTo>
                        <a:lnTo>
                          <a:pt x="1554" y="497"/>
                        </a:lnTo>
                        <a:lnTo>
                          <a:pt x="1519" y="463"/>
                        </a:lnTo>
                        <a:lnTo>
                          <a:pt x="1417" y="445"/>
                        </a:lnTo>
                        <a:lnTo>
                          <a:pt x="1396" y="510"/>
                        </a:lnTo>
                        <a:lnTo>
                          <a:pt x="1430" y="540"/>
                        </a:lnTo>
                        <a:lnTo>
                          <a:pt x="1439" y="592"/>
                        </a:lnTo>
                        <a:lnTo>
                          <a:pt x="1473" y="621"/>
                        </a:lnTo>
                        <a:lnTo>
                          <a:pt x="1447" y="647"/>
                        </a:lnTo>
                        <a:lnTo>
                          <a:pt x="1408" y="624"/>
                        </a:lnTo>
                        <a:lnTo>
                          <a:pt x="1367" y="651"/>
                        </a:lnTo>
                        <a:lnTo>
                          <a:pt x="1337" y="621"/>
                        </a:lnTo>
                        <a:lnTo>
                          <a:pt x="1367" y="578"/>
                        </a:lnTo>
                        <a:lnTo>
                          <a:pt x="1383" y="548"/>
                        </a:lnTo>
                        <a:lnTo>
                          <a:pt x="1400" y="497"/>
                        </a:lnTo>
                        <a:lnTo>
                          <a:pt x="1417" y="445"/>
                        </a:lnTo>
                        <a:lnTo>
                          <a:pt x="1367" y="455"/>
                        </a:lnTo>
                        <a:lnTo>
                          <a:pt x="1358" y="493"/>
                        </a:lnTo>
                        <a:lnTo>
                          <a:pt x="1315" y="514"/>
                        </a:lnTo>
                        <a:lnTo>
                          <a:pt x="1272" y="501"/>
                        </a:lnTo>
                        <a:lnTo>
                          <a:pt x="1272" y="449"/>
                        </a:lnTo>
                        <a:lnTo>
                          <a:pt x="1233" y="436"/>
                        </a:lnTo>
                        <a:lnTo>
                          <a:pt x="1220" y="412"/>
                        </a:lnTo>
                        <a:lnTo>
                          <a:pt x="1183" y="418"/>
                        </a:lnTo>
                        <a:lnTo>
                          <a:pt x="1153" y="380"/>
                        </a:lnTo>
                        <a:lnTo>
                          <a:pt x="1120" y="377"/>
                        </a:lnTo>
                        <a:lnTo>
                          <a:pt x="1086" y="402"/>
                        </a:lnTo>
                        <a:lnTo>
                          <a:pt x="1029" y="394"/>
                        </a:lnTo>
                        <a:lnTo>
                          <a:pt x="1008" y="418"/>
                        </a:lnTo>
                        <a:lnTo>
                          <a:pt x="966" y="446"/>
                        </a:lnTo>
                        <a:lnTo>
                          <a:pt x="898" y="394"/>
                        </a:lnTo>
                        <a:lnTo>
                          <a:pt x="902" y="354"/>
                        </a:lnTo>
                        <a:lnTo>
                          <a:pt x="856" y="325"/>
                        </a:lnTo>
                        <a:lnTo>
                          <a:pt x="846" y="286"/>
                        </a:lnTo>
                        <a:lnTo>
                          <a:pt x="805" y="265"/>
                        </a:lnTo>
                        <a:lnTo>
                          <a:pt x="784" y="199"/>
                        </a:lnTo>
                        <a:lnTo>
                          <a:pt x="748" y="199"/>
                        </a:lnTo>
                        <a:lnTo>
                          <a:pt x="727" y="171"/>
                        </a:lnTo>
                        <a:lnTo>
                          <a:pt x="676" y="154"/>
                        </a:lnTo>
                        <a:lnTo>
                          <a:pt x="646" y="101"/>
                        </a:lnTo>
                        <a:lnTo>
                          <a:pt x="583" y="80"/>
                        </a:lnTo>
                        <a:lnTo>
                          <a:pt x="558" y="33"/>
                        </a:lnTo>
                        <a:lnTo>
                          <a:pt x="524" y="0"/>
                        </a:lnTo>
                        <a:lnTo>
                          <a:pt x="514" y="12"/>
                        </a:lnTo>
                        <a:lnTo>
                          <a:pt x="488" y="67"/>
                        </a:lnTo>
                        <a:lnTo>
                          <a:pt x="497" y="107"/>
                        </a:lnTo>
                        <a:lnTo>
                          <a:pt x="458" y="93"/>
                        </a:lnTo>
                        <a:lnTo>
                          <a:pt x="454" y="162"/>
                        </a:lnTo>
                        <a:lnTo>
                          <a:pt x="416" y="179"/>
                        </a:lnTo>
                        <a:lnTo>
                          <a:pt x="421" y="230"/>
                        </a:lnTo>
                        <a:lnTo>
                          <a:pt x="370" y="246"/>
                        </a:lnTo>
                        <a:lnTo>
                          <a:pt x="361" y="300"/>
                        </a:lnTo>
                        <a:lnTo>
                          <a:pt x="307" y="286"/>
                        </a:lnTo>
                        <a:lnTo>
                          <a:pt x="281" y="251"/>
                        </a:lnTo>
                        <a:lnTo>
                          <a:pt x="264" y="268"/>
                        </a:lnTo>
                        <a:lnTo>
                          <a:pt x="211" y="265"/>
                        </a:lnTo>
                        <a:lnTo>
                          <a:pt x="194" y="294"/>
                        </a:lnTo>
                        <a:lnTo>
                          <a:pt x="166" y="277"/>
                        </a:lnTo>
                        <a:lnTo>
                          <a:pt x="149" y="308"/>
                        </a:lnTo>
                        <a:lnTo>
                          <a:pt x="114" y="308"/>
                        </a:lnTo>
                        <a:lnTo>
                          <a:pt x="140" y="335"/>
                        </a:lnTo>
                        <a:lnTo>
                          <a:pt x="97" y="349"/>
                        </a:lnTo>
                        <a:lnTo>
                          <a:pt x="51" y="385"/>
                        </a:lnTo>
                        <a:lnTo>
                          <a:pt x="84" y="411"/>
                        </a:lnTo>
                        <a:lnTo>
                          <a:pt x="73" y="455"/>
                        </a:lnTo>
                        <a:lnTo>
                          <a:pt x="73" y="493"/>
                        </a:lnTo>
                        <a:lnTo>
                          <a:pt x="0" y="497"/>
                        </a:lnTo>
                        <a:lnTo>
                          <a:pt x="4" y="530"/>
                        </a:lnTo>
                        <a:lnTo>
                          <a:pt x="4" y="583"/>
                        </a:lnTo>
                        <a:lnTo>
                          <a:pt x="42" y="574"/>
                        </a:lnTo>
                        <a:lnTo>
                          <a:pt x="64" y="544"/>
                        </a:lnTo>
                        <a:lnTo>
                          <a:pt x="97" y="556"/>
                        </a:lnTo>
                        <a:lnTo>
                          <a:pt x="123" y="518"/>
                        </a:lnTo>
                        <a:lnTo>
                          <a:pt x="168" y="540"/>
                        </a:lnTo>
                        <a:lnTo>
                          <a:pt x="220" y="501"/>
                        </a:lnTo>
                        <a:lnTo>
                          <a:pt x="242" y="455"/>
                        </a:lnTo>
                        <a:lnTo>
                          <a:pt x="277" y="489"/>
                        </a:lnTo>
                        <a:lnTo>
                          <a:pt x="302" y="474"/>
                        </a:lnTo>
                        <a:lnTo>
                          <a:pt x="344" y="501"/>
                        </a:lnTo>
                        <a:lnTo>
                          <a:pt x="344" y="453"/>
                        </a:lnTo>
                        <a:lnTo>
                          <a:pt x="382" y="449"/>
                        </a:lnTo>
                        <a:lnTo>
                          <a:pt x="387" y="402"/>
                        </a:lnTo>
                        <a:lnTo>
                          <a:pt x="430" y="387"/>
                        </a:lnTo>
                        <a:lnTo>
                          <a:pt x="461" y="407"/>
                        </a:lnTo>
                        <a:lnTo>
                          <a:pt x="448" y="450"/>
                        </a:lnTo>
                        <a:lnTo>
                          <a:pt x="444" y="479"/>
                        </a:lnTo>
                        <a:lnTo>
                          <a:pt x="422" y="522"/>
                        </a:lnTo>
                        <a:lnTo>
                          <a:pt x="379" y="552"/>
                        </a:lnTo>
                        <a:lnTo>
                          <a:pt x="394" y="589"/>
                        </a:lnTo>
                        <a:lnTo>
                          <a:pt x="359" y="616"/>
                        </a:lnTo>
                        <a:lnTo>
                          <a:pt x="410" y="633"/>
                        </a:lnTo>
                        <a:lnTo>
                          <a:pt x="452" y="608"/>
                        </a:lnTo>
                        <a:lnTo>
                          <a:pt x="482" y="649"/>
                        </a:lnTo>
                        <a:lnTo>
                          <a:pt x="532" y="633"/>
                        </a:lnTo>
                        <a:lnTo>
                          <a:pt x="583" y="662"/>
                        </a:lnTo>
                        <a:lnTo>
                          <a:pt x="608" y="683"/>
                        </a:lnTo>
                        <a:lnTo>
                          <a:pt x="685" y="686"/>
                        </a:lnTo>
                        <a:lnTo>
                          <a:pt x="680" y="654"/>
                        </a:lnTo>
                        <a:lnTo>
                          <a:pt x="694" y="624"/>
                        </a:lnTo>
                        <a:lnTo>
                          <a:pt x="663" y="601"/>
                        </a:lnTo>
                        <a:lnTo>
                          <a:pt x="694" y="560"/>
                        </a:lnTo>
                        <a:lnTo>
                          <a:pt x="663" y="519"/>
                        </a:lnTo>
                        <a:lnTo>
                          <a:pt x="680" y="483"/>
                        </a:lnTo>
                        <a:lnTo>
                          <a:pt x="605" y="455"/>
                        </a:lnTo>
                        <a:lnTo>
                          <a:pt x="562" y="438"/>
                        </a:lnTo>
                        <a:lnTo>
                          <a:pt x="498" y="402"/>
                        </a:lnTo>
                        <a:lnTo>
                          <a:pt x="480" y="335"/>
                        </a:lnTo>
                        <a:lnTo>
                          <a:pt x="554" y="360"/>
                        </a:lnTo>
                        <a:lnTo>
                          <a:pt x="597" y="349"/>
                        </a:lnTo>
                        <a:lnTo>
                          <a:pt x="634" y="394"/>
                        </a:lnTo>
                        <a:lnTo>
                          <a:pt x="685" y="387"/>
                        </a:lnTo>
                        <a:lnTo>
                          <a:pt x="713" y="431"/>
                        </a:lnTo>
                        <a:lnTo>
                          <a:pt x="761" y="445"/>
                        </a:lnTo>
                        <a:lnTo>
                          <a:pt x="775" y="489"/>
                        </a:lnTo>
                        <a:lnTo>
                          <a:pt x="839" y="498"/>
                        </a:lnTo>
                        <a:lnTo>
                          <a:pt x="889" y="493"/>
                        </a:lnTo>
                        <a:lnTo>
                          <a:pt x="919" y="526"/>
                        </a:lnTo>
                        <a:lnTo>
                          <a:pt x="960" y="518"/>
                        </a:lnTo>
                        <a:lnTo>
                          <a:pt x="991" y="561"/>
                        </a:lnTo>
                        <a:lnTo>
                          <a:pt x="1025" y="558"/>
                        </a:lnTo>
                        <a:lnTo>
                          <a:pt x="1069" y="592"/>
                        </a:lnTo>
                        <a:lnTo>
                          <a:pt x="1116" y="604"/>
                        </a:lnTo>
                        <a:lnTo>
                          <a:pt x="1120" y="638"/>
                        </a:lnTo>
                        <a:lnTo>
                          <a:pt x="1187" y="659"/>
                        </a:lnTo>
                        <a:lnTo>
                          <a:pt x="1204" y="710"/>
                        </a:lnTo>
                        <a:lnTo>
                          <a:pt x="1239" y="719"/>
                        </a:lnTo>
                        <a:lnTo>
                          <a:pt x="1280" y="747"/>
                        </a:lnTo>
                        <a:lnTo>
                          <a:pt x="1329" y="710"/>
                        </a:lnTo>
                        <a:lnTo>
                          <a:pt x="1380" y="727"/>
                        </a:lnTo>
                        <a:lnTo>
                          <a:pt x="1417" y="702"/>
                        </a:lnTo>
                        <a:lnTo>
                          <a:pt x="1473" y="716"/>
                        </a:lnTo>
                        <a:lnTo>
                          <a:pt x="1531" y="691"/>
                        </a:lnTo>
                        <a:lnTo>
                          <a:pt x="1588" y="706"/>
                        </a:lnTo>
                        <a:lnTo>
                          <a:pt x="1622" y="669"/>
                        </a:lnTo>
                        <a:lnTo>
                          <a:pt x="1664" y="686"/>
                        </a:lnTo>
                        <a:lnTo>
                          <a:pt x="1724" y="681"/>
                        </a:lnTo>
                        <a:lnTo>
                          <a:pt x="1774" y="722"/>
                        </a:lnTo>
                        <a:lnTo>
                          <a:pt x="1814" y="754"/>
                        </a:lnTo>
                        <a:lnTo>
                          <a:pt x="1874" y="741"/>
                        </a:lnTo>
                        <a:lnTo>
                          <a:pt x="1915" y="784"/>
                        </a:lnTo>
                        <a:lnTo>
                          <a:pt x="1971" y="809"/>
                        </a:lnTo>
                        <a:lnTo>
                          <a:pt x="2029" y="814"/>
                        </a:lnTo>
                        <a:lnTo>
                          <a:pt x="2046" y="775"/>
                        </a:lnTo>
                        <a:lnTo>
                          <a:pt x="2107" y="775"/>
                        </a:lnTo>
                        <a:lnTo>
                          <a:pt x="2159" y="732"/>
                        </a:lnTo>
                        <a:lnTo>
                          <a:pt x="2222" y="724"/>
                        </a:lnTo>
                        <a:lnTo>
                          <a:pt x="2281" y="706"/>
                        </a:lnTo>
                        <a:lnTo>
                          <a:pt x="2324" y="681"/>
                        </a:lnTo>
                        <a:lnTo>
                          <a:pt x="2310" y="64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220"/>
                  <p:cNvSpPr/>
                  <p:nvPr/>
                </p:nvSpPr>
                <p:spPr>
                  <a:xfrm>
                    <a:off x="2387520" y="5437440"/>
                    <a:ext cx="34920" cy="3636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85" h="117">
                        <a:moveTo>
                          <a:pt x="59" y="0"/>
                        </a:moveTo>
                        <a:lnTo>
                          <a:pt x="52" y="28"/>
                        </a:lnTo>
                        <a:lnTo>
                          <a:pt x="80" y="57"/>
                        </a:lnTo>
                        <a:lnTo>
                          <a:pt x="54" y="82"/>
                        </a:lnTo>
                        <a:lnTo>
                          <a:pt x="85" y="113"/>
                        </a:lnTo>
                        <a:lnTo>
                          <a:pt x="52" y="117"/>
                        </a:lnTo>
                        <a:lnTo>
                          <a:pt x="17" y="77"/>
                        </a:lnTo>
                        <a:lnTo>
                          <a:pt x="0" y="69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221"/>
                  <p:cNvSpPr/>
                  <p:nvPr/>
                </p:nvSpPr>
                <p:spPr>
                  <a:xfrm>
                    <a:off x="2436840" y="5434200"/>
                    <a:ext cx="27000" cy="49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67" h="154">
                        <a:moveTo>
                          <a:pt x="39" y="0"/>
                        </a:moveTo>
                        <a:lnTo>
                          <a:pt x="33" y="28"/>
                        </a:lnTo>
                        <a:lnTo>
                          <a:pt x="62" y="57"/>
                        </a:lnTo>
                        <a:lnTo>
                          <a:pt x="50" y="85"/>
                        </a:lnTo>
                        <a:lnTo>
                          <a:pt x="67" y="154"/>
                        </a:lnTo>
                        <a:lnTo>
                          <a:pt x="0" y="7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222"/>
                  <p:cNvSpPr/>
                  <p:nvPr/>
                </p:nvSpPr>
                <p:spPr>
                  <a:xfrm>
                    <a:off x="2362320" y="5359680"/>
                    <a:ext cx="33120" cy="2844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84" h="90">
                        <a:moveTo>
                          <a:pt x="84" y="0"/>
                        </a:moveTo>
                        <a:lnTo>
                          <a:pt x="67" y="16"/>
                        </a:lnTo>
                        <a:lnTo>
                          <a:pt x="67" y="90"/>
                        </a:lnTo>
                        <a:lnTo>
                          <a:pt x="0" y="77"/>
                        </a:lnTo>
                        <a:lnTo>
                          <a:pt x="28" y="50"/>
                        </a:lnTo>
                        <a:lnTo>
                          <a:pt x="3" y="21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223"/>
                  <p:cNvSpPr/>
                  <p:nvPr/>
                </p:nvSpPr>
                <p:spPr>
                  <a:xfrm>
                    <a:off x="2405160" y="5294520"/>
                    <a:ext cx="47520" cy="8892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119" h="283">
                        <a:moveTo>
                          <a:pt x="37" y="0"/>
                        </a:moveTo>
                        <a:lnTo>
                          <a:pt x="63" y="61"/>
                        </a:lnTo>
                        <a:lnTo>
                          <a:pt x="46" y="122"/>
                        </a:lnTo>
                        <a:lnTo>
                          <a:pt x="63" y="163"/>
                        </a:lnTo>
                        <a:lnTo>
                          <a:pt x="42" y="190"/>
                        </a:lnTo>
                        <a:lnTo>
                          <a:pt x="76" y="248"/>
                        </a:lnTo>
                        <a:lnTo>
                          <a:pt x="119" y="268"/>
                        </a:lnTo>
                        <a:lnTo>
                          <a:pt x="80" y="276"/>
                        </a:lnTo>
                        <a:lnTo>
                          <a:pt x="63" y="283"/>
                        </a:lnTo>
                        <a:lnTo>
                          <a:pt x="20" y="260"/>
                        </a:lnTo>
                        <a:lnTo>
                          <a:pt x="0" y="183"/>
                        </a:lnTo>
                        <a:lnTo>
                          <a:pt x="33" y="163"/>
                        </a:lnTo>
                        <a:lnTo>
                          <a:pt x="16" y="125"/>
                        </a:lnTo>
                        <a:lnTo>
                          <a:pt x="42" y="81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224"/>
                  <p:cNvSpPr/>
                  <p:nvPr/>
                </p:nvSpPr>
                <p:spPr>
                  <a:xfrm>
                    <a:off x="2465280" y="5342040"/>
                    <a:ext cx="55800" cy="7632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141" h="240">
                        <a:moveTo>
                          <a:pt x="34" y="0"/>
                        </a:moveTo>
                        <a:lnTo>
                          <a:pt x="81" y="24"/>
                        </a:lnTo>
                        <a:lnTo>
                          <a:pt x="67" y="53"/>
                        </a:lnTo>
                        <a:lnTo>
                          <a:pt x="85" y="110"/>
                        </a:lnTo>
                        <a:lnTo>
                          <a:pt x="115" y="138"/>
                        </a:lnTo>
                        <a:lnTo>
                          <a:pt x="115" y="171"/>
                        </a:lnTo>
                        <a:lnTo>
                          <a:pt x="119" y="204"/>
                        </a:lnTo>
                        <a:lnTo>
                          <a:pt x="141" y="240"/>
                        </a:lnTo>
                        <a:lnTo>
                          <a:pt x="85" y="217"/>
                        </a:lnTo>
                        <a:lnTo>
                          <a:pt x="67" y="158"/>
                        </a:lnTo>
                        <a:lnTo>
                          <a:pt x="0" y="133"/>
                        </a:lnTo>
                        <a:lnTo>
                          <a:pt x="43" y="102"/>
                        </a:lnTo>
                        <a:lnTo>
                          <a:pt x="43" y="69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225"/>
                  <p:cNvSpPr/>
                  <p:nvPr/>
                </p:nvSpPr>
                <p:spPr>
                  <a:xfrm>
                    <a:off x="2595600" y="5410440"/>
                    <a:ext cx="61920" cy="2376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56" h="72">
                        <a:moveTo>
                          <a:pt x="156" y="0"/>
                        </a:moveTo>
                        <a:lnTo>
                          <a:pt x="135" y="8"/>
                        </a:lnTo>
                        <a:lnTo>
                          <a:pt x="105" y="10"/>
                        </a:lnTo>
                        <a:lnTo>
                          <a:pt x="77" y="10"/>
                        </a:lnTo>
                        <a:lnTo>
                          <a:pt x="55" y="31"/>
                        </a:lnTo>
                        <a:lnTo>
                          <a:pt x="42" y="48"/>
                        </a:lnTo>
                        <a:lnTo>
                          <a:pt x="0" y="64"/>
                        </a:lnTo>
                        <a:lnTo>
                          <a:pt x="38" y="72"/>
                        </a:lnTo>
                        <a:lnTo>
                          <a:pt x="88" y="43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226"/>
                  <p:cNvSpPr/>
                  <p:nvPr/>
                </p:nvSpPr>
                <p:spPr>
                  <a:xfrm>
                    <a:off x="2656080" y="5416560"/>
                    <a:ext cx="98280" cy="5076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48" h="160">
                        <a:moveTo>
                          <a:pt x="0" y="0"/>
                        </a:moveTo>
                        <a:lnTo>
                          <a:pt x="45" y="41"/>
                        </a:lnTo>
                        <a:lnTo>
                          <a:pt x="58" y="79"/>
                        </a:lnTo>
                        <a:lnTo>
                          <a:pt x="88" y="119"/>
                        </a:lnTo>
                        <a:lnTo>
                          <a:pt x="113" y="160"/>
                        </a:lnTo>
                        <a:lnTo>
                          <a:pt x="164" y="131"/>
                        </a:lnTo>
                        <a:lnTo>
                          <a:pt x="245" y="102"/>
                        </a:lnTo>
                        <a:lnTo>
                          <a:pt x="248" y="79"/>
                        </a:lnTo>
                        <a:lnTo>
                          <a:pt x="198" y="110"/>
                        </a:lnTo>
                        <a:lnTo>
                          <a:pt x="147" y="115"/>
                        </a:lnTo>
                        <a:lnTo>
                          <a:pt x="93" y="94"/>
                        </a:lnTo>
                        <a:lnTo>
                          <a:pt x="105" y="49"/>
                        </a:lnTo>
                        <a:lnTo>
                          <a:pt x="71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227"/>
                  <p:cNvSpPr/>
                  <p:nvPr/>
                </p:nvSpPr>
                <p:spPr>
                  <a:xfrm>
                    <a:off x="2631960" y="5438880"/>
                    <a:ext cx="55800" cy="4284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9" h="137">
                        <a:moveTo>
                          <a:pt x="51" y="0"/>
                        </a:moveTo>
                        <a:lnTo>
                          <a:pt x="51" y="26"/>
                        </a:lnTo>
                        <a:lnTo>
                          <a:pt x="94" y="60"/>
                        </a:lnTo>
                        <a:lnTo>
                          <a:pt x="88" y="89"/>
                        </a:lnTo>
                        <a:lnTo>
                          <a:pt x="127" y="108"/>
                        </a:lnTo>
                        <a:lnTo>
                          <a:pt x="139" y="137"/>
                        </a:lnTo>
                        <a:lnTo>
                          <a:pt x="88" y="108"/>
                        </a:lnTo>
                        <a:lnTo>
                          <a:pt x="38" y="80"/>
                        </a:lnTo>
                        <a:lnTo>
                          <a:pt x="38" y="60"/>
                        </a:lnTo>
                        <a:lnTo>
                          <a:pt x="0" y="11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228"/>
                  <p:cNvSpPr/>
                  <p:nvPr/>
                </p:nvSpPr>
                <p:spPr>
                  <a:xfrm>
                    <a:off x="2455920" y="5329440"/>
                    <a:ext cx="9360" cy="1728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6" h="57">
                        <a:moveTo>
                          <a:pt x="9" y="0"/>
                        </a:moveTo>
                        <a:lnTo>
                          <a:pt x="26" y="33"/>
                        </a:lnTo>
                        <a:lnTo>
                          <a:pt x="22" y="57"/>
                        </a:lnTo>
                        <a:lnTo>
                          <a:pt x="0" y="5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229"/>
                  <p:cNvSpPr/>
                  <p:nvPr/>
                </p:nvSpPr>
                <p:spPr>
                  <a:xfrm>
                    <a:off x="2695680" y="5486400"/>
                    <a:ext cx="28440" cy="270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71" h="86">
                        <a:moveTo>
                          <a:pt x="71" y="0"/>
                        </a:moveTo>
                        <a:lnTo>
                          <a:pt x="50" y="17"/>
                        </a:lnTo>
                        <a:lnTo>
                          <a:pt x="59" y="41"/>
                        </a:lnTo>
                        <a:lnTo>
                          <a:pt x="71" y="50"/>
                        </a:lnTo>
                        <a:lnTo>
                          <a:pt x="46" y="86"/>
                        </a:lnTo>
                        <a:lnTo>
                          <a:pt x="12" y="30"/>
                        </a:lnTo>
                        <a:lnTo>
                          <a:pt x="0" y="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Freeform 230"/>
                  <p:cNvSpPr/>
                  <p:nvPr/>
                </p:nvSpPr>
                <p:spPr>
                  <a:xfrm>
                    <a:off x="2771640" y="5427720"/>
                    <a:ext cx="55800" cy="5076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0" h="158">
                        <a:moveTo>
                          <a:pt x="0" y="0"/>
                        </a:moveTo>
                        <a:lnTo>
                          <a:pt x="30" y="8"/>
                        </a:lnTo>
                        <a:lnTo>
                          <a:pt x="67" y="8"/>
                        </a:lnTo>
                        <a:lnTo>
                          <a:pt x="98" y="24"/>
                        </a:lnTo>
                        <a:lnTo>
                          <a:pt x="110" y="48"/>
                        </a:lnTo>
                        <a:lnTo>
                          <a:pt x="140" y="59"/>
                        </a:lnTo>
                        <a:lnTo>
                          <a:pt x="93" y="69"/>
                        </a:lnTo>
                        <a:lnTo>
                          <a:pt x="73" y="130"/>
                        </a:lnTo>
                        <a:lnTo>
                          <a:pt x="93" y="158"/>
                        </a:lnTo>
                        <a:lnTo>
                          <a:pt x="43" y="113"/>
                        </a:lnTo>
                        <a:lnTo>
                          <a:pt x="51" y="85"/>
                        </a:lnTo>
                        <a:lnTo>
                          <a:pt x="51" y="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231"/>
                  <p:cNvSpPr/>
                  <p:nvPr/>
                </p:nvSpPr>
                <p:spPr>
                  <a:xfrm>
                    <a:off x="2819520" y="5475240"/>
                    <a:ext cx="46080" cy="176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115" h="54">
                        <a:moveTo>
                          <a:pt x="115" y="16"/>
                        </a:moveTo>
                        <a:lnTo>
                          <a:pt x="68" y="20"/>
                        </a:lnTo>
                        <a:lnTo>
                          <a:pt x="51" y="44"/>
                        </a:lnTo>
                        <a:lnTo>
                          <a:pt x="35" y="5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35" y="0"/>
                        </a:lnTo>
                        <a:lnTo>
                          <a:pt x="115" y="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232"/>
                  <p:cNvSpPr/>
                  <p:nvPr/>
                </p:nvSpPr>
                <p:spPr>
                  <a:xfrm>
                    <a:off x="2889360" y="5416560"/>
                    <a:ext cx="54000" cy="478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7880"/>
                      <a:gd name="textAreaBottom" fmla="*/ 48240 h 47880"/>
                    </a:gdLst>
                    <a:ahLst/>
                    <a:rect l="textAreaLeft" t="textAreaTop" r="textAreaRight" b="textAreaBottom"/>
                    <a:pathLst>
                      <a:path w="136" h="151">
                        <a:moveTo>
                          <a:pt x="69" y="0"/>
                        </a:moveTo>
                        <a:lnTo>
                          <a:pt x="72" y="41"/>
                        </a:lnTo>
                        <a:lnTo>
                          <a:pt x="94" y="71"/>
                        </a:lnTo>
                        <a:lnTo>
                          <a:pt x="103" y="107"/>
                        </a:lnTo>
                        <a:lnTo>
                          <a:pt x="136" y="151"/>
                        </a:lnTo>
                        <a:lnTo>
                          <a:pt x="81" y="151"/>
                        </a:lnTo>
                        <a:lnTo>
                          <a:pt x="47" y="62"/>
                        </a:lnTo>
                        <a:lnTo>
                          <a:pt x="4" y="71"/>
                        </a:lnTo>
                        <a:lnTo>
                          <a:pt x="0" y="33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233"/>
                  <p:cNvSpPr/>
                  <p:nvPr/>
                </p:nvSpPr>
                <p:spPr>
                  <a:xfrm>
                    <a:off x="2909880" y="5478480"/>
                    <a:ext cx="42840" cy="27000"/>
                  </a:xfrm>
                  <a:custGeom>
                    <a:avLst/>
                    <a:gdLst>
                      <a:gd name="textAreaLeft" fmla="*/ 0 w 42840"/>
                      <a:gd name="textAreaRight" fmla="*/ 42840 w 428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07" h="85">
                        <a:moveTo>
                          <a:pt x="26" y="0"/>
                        </a:moveTo>
                        <a:lnTo>
                          <a:pt x="31" y="49"/>
                        </a:lnTo>
                        <a:lnTo>
                          <a:pt x="48" y="65"/>
                        </a:lnTo>
                        <a:lnTo>
                          <a:pt x="90" y="65"/>
                        </a:lnTo>
                        <a:lnTo>
                          <a:pt x="107" y="85"/>
                        </a:lnTo>
                        <a:lnTo>
                          <a:pt x="52" y="81"/>
                        </a:lnTo>
                        <a:lnTo>
                          <a:pt x="0" y="62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234"/>
                  <p:cNvSpPr/>
                  <p:nvPr/>
                </p:nvSpPr>
                <p:spPr>
                  <a:xfrm>
                    <a:off x="2876400" y="5446800"/>
                    <a:ext cx="30240" cy="284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2" h="94">
                        <a:moveTo>
                          <a:pt x="0" y="0"/>
                        </a:moveTo>
                        <a:lnTo>
                          <a:pt x="55" y="21"/>
                        </a:lnTo>
                        <a:lnTo>
                          <a:pt x="50" y="57"/>
                        </a:lnTo>
                        <a:lnTo>
                          <a:pt x="72" y="78"/>
                        </a:lnTo>
                        <a:lnTo>
                          <a:pt x="24" y="94"/>
                        </a:lnTo>
                        <a:lnTo>
                          <a:pt x="22" y="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235"/>
                  <p:cNvSpPr/>
                  <p:nvPr/>
                </p:nvSpPr>
                <p:spPr>
                  <a:xfrm>
                    <a:off x="3013200" y="5400720"/>
                    <a:ext cx="55440" cy="460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38" h="145">
                        <a:moveTo>
                          <a:pt x="0" y="4"/>
                        </a:moveTo>
                        <a:lnTo>
                          <a:pt x="28" y="0"/>
                        </a:lnTo>
                        <a:lnTo>
                          <a:pt x="88" y="12"/>
                        </a:lnTo>
                        <a:lnTo>
                          <a:pt x="127" y="56"/>
                        </a:lnTo>
                        <a:lnTo>
                          <a:pt x="112" y="81"/>
                        </a:lnTo>
                        <a:lnTo>
                          <a:pt x="138" y="145"/>
                        </a:lnTo>
                        <a:lnTo>
                          <a:pt x="71" y="89"/>
                        </a:lnTo>
                        <a:lnTo>
                          <a:pt x="54" y="53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" name="Freeform 236"/>
                <p:cNvSpPr/>
                <p:nvPr/>
              </p:nvSpPr>
              <p:spPr>
                <a:xfrm>
                  <a:off x="2254320" y="5378400"/>
                  <a:ext cx="73080" cy="59040"/>
                </a:xfrm>
                <a:custGeom>
                  <a:avLst/>
                  <a:gdLst>
                    <a:gd name="textAreaLeft" fmla="*/ 0 w 73080"/>
                    <a:gd name="textAreaRight" fmla="*/ 73080 w 7308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86" h="183">
                      <a:moveTo>
                        <a:pt x="149" y="19"/>
                      </a:moveTo>
                      <a:lnTo>
                        <a:pt x="186" y="40"/>
                      </a:lnTo>
                      <a:lnTo>
                        <a:pt x="128" y="64"/>
                      </a:lnTo>
                      <a:lnTo>
                        <a:pt x="89" y="77"/>
                      </a:lnTo>
                      <a:lnTo>
                        <a:pt x="59" y="125"/>
                      </a:lnTo>
                      <a:lnTo>
                        <a:pt x="26" y="158"/>
                      </a:lnTo>
                      <a:lnTo>
                        <a:pt x="0" y="183"/>
                      </a:lnTo>
                      <a:lnTo>
                        <a:pt x="17" y="117"/>
                      </a:lnTo>
                      <a:lnTo>
                        <a:pt x="30" y="105"/>
                      </a:lnTo>
                      <a:lnTo>
                        <a:pt x="4" y="81"/>
                      </a:lnTo>
                      <a:lnTo>
                        <a:pt x="55" y="61"/>
                      </a:lnTo>
                      <a:lnTo>
                        <a:pt x="52" y="31"/>
                      </a:lnTo>
                      <a:lnTo>
                        <a:pt x="72" y="35"/>
                      </a:lnTo>
                      <a:lnTo>
                        <a:pt x="52" y="0"/>
                      </a:lnTo>
                      <a:lnTo>
                        <a:pt x="14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237"/>
                <p:cNvSpPr/>
                <p:nvPr/>
              </p:nvSpPr>
              <p:spPr>
                <a:xfrm>
                  <a:off x="2317680" y="5399280"/>
                  <a:ext cx="38160" cy="205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97" h="65">
                      <a:moveTo>
                        <a:pt x="97" y="0"/>
                      </a:moveTo>
                      <a:lnTo>
                        <a:pt x="84" y="17"/>
                      </a:lnTo>
                      <a:lnTo>
                        <a:pt x="84" y="41"/>
                      </a:lnTo>
                      <a:lnTo>
                        <a:pt x="59" y="48"/>
                      </a:lnTo>
                      <a:lnTo>
                        <a:pt x="42" y="65"/>
                      </a:lnTo>
                      <a:lnTo>
                        <a:pt x="0" y="46"/>
                      </a:lnTo>
                      <a:lnTo>
                        <a:pt x="50" y="3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5" name="Group 238"/>
          <p:cNvGrpSpPr/>
          <p:nvPr/>
        </p:nvGrpSpPr>
        <p:grpSpPr>
          <a:xfrm>
            <a:off x="685800" y="4952880"/>
            <a:ext cx="1179360" cy="1423800"/>
            <a:chOff x="685800" y="4952880"/>
            <a:chExt cx="1179360" cy="1423800"/>
          </a:xfrm>
        </p:grpSpPr>
        <p:sp>
          <p:nvSpPr>
            <p:cNvPr id="476" name="Freeform 239"/>
            <p:cNvSpPr/>
            <p:nvPr/>
          </p:nvSpPr>
          <p:spPr>
            <a:xfrm>
              <a:off x="985680" y="6295680"/>
              <a:ext cx="448920" cy="81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240"/>
            <p:cNvGrpSpPr/>
            <p:nvPr/>
          </p:nvGrpSpPr>
          <p:grpSpPr>
            <a:xfrm>
              <a:off x="685800" y="4952880"/>
              <a:ext cx="1179360" cy="1390680"/>
              <a:chOff x="685800" y="4952880"/>
              <a:chExt cx="1179360" cy="1390680"/>
            </a:xfrm>
          </p:grpSpPr>
          <p:sp>
            <p:nvSpPr>
              <p:cNvPr id="478" name="Freeform 241"/>
              <p:cNvSpPr/>
              <p:nvPr/>
            </p:nvSpPr>
            <p:spPr>
              <a:xfrm>
                <a:off x="912600" y="5175000"/>
                <a:ext cx="244080" cy="15876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42"/>
              <p:cNvGrpSpPr/>
              <p:nvPr/>
            </p:nvGrpSpPr>
            <p:grpSpPr>
              <a:xfrm>
                <a:off x="822240" y="4993920"/>
                <a:ext cx="775800" cy="1349640"/>
                <a:chOff x="822240" y="4993920"/>
                <a:chExt cx="775800" cy="1349640"/>
              </a:xfrm>
            </p:grpSpPr>
            <p:sp>
              <p:nvSpPr>
                <p:cNvPr id="480" name="Freeform 243"/>
                <p:cNvSpPr/>
                <p:nvPr/>
              </p:nvSpPr>
              <p:spPr>
                <a:xfrm>
                  <a:off x="822240" y="4993920"/>
                  <a:ext cx="775800" cy="1349640"/>
                </a:xfrm>
                <a:custGeom>
                  <a:avLst/>
                  <a:gdLst>
                    <a:gd name="textAreaLeft" fmla="*/ 0 w 775800"/>
                    <a:gd name="textAreaRight" fmla="*/ 776160 w 775800"/>
                    <a:gd name="textAreaTop" fmla="*/ 0 h 1349640"/>
                    <a:gd name="textAreaBottom" fmla="*/ 1350000 h 134964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244"/>
                <p:cNvSpPr/>
                <p:nvPr/>
              </p:nvSpPr>
              <p:spPr>
                <a:xfrm>
                  <a:off x="1175760" y="5024160"/>
                  <a:ext cx="339480" cy="1316160"/>
                </a:xfrm>
                <a:custGeom>
                  <a:avLst/>
                  <a:gdLst>
                    <a:gd name="textAreaLeft" fmla="*/ 0 w 339480"/>
                    <a:gd name="textAreaRight" fmla="*/ 339480 w 339480"/>
                    <a:gd name="textAreaTop" fmla="*/ 0 h 1316160"/>
                    <a:gd name="textAreaBottom" fmla="*/ 1316520 h 131616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245"/>
              <p:cNvGrpSpPr/>
              <p:nvPr/>
            </p:nvGrpSpPr>
            <p:grpSpPr>
              <a:xfrm>
                <a:off x="685800" y="5598720"/>
                <a:ext cx="1179360" cy="177840"/>
                <a:chOff x="685800" y="5598720"/>
                <a:chExt cx="1179360" cy="177840"/>
              </a:xfrm>
            </p:grpSpPr>
            <p:sp>
              <p:nvSpPr>
                <p:cNvPr id="483" name="Freeform 246"/>
                <p:cNvSpPr/>
                <p:nvPr/>
              </p:nvSpPr>
              <p:spPr>
                <a:xfrm>
                  <a:off x="685800" y="5598720"/>
                  <a:ext cx="1179360" cy="177840"/>
                </a:xfrm>
                <a:custGeom>
                  <a:avLst/>
                  <a:gdLst>
                    <a:gd name="textAreaLeft" fmla="*/ 0 w 1179360"/>
                    <a:gd name="textAreaRight" fmla="*/ 1179360 w 117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247"/>
                <p:cNvSpPr/>
                <p:nvPr/>
              </p:nvSpPr>
              <p:spPr>
                <a:xfrm>
                  <a:off x="1380960" y="5617800"/>
                  <a:ext cx="47160" cy="5400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248"/>
                <p:cNvSpPr/>
                <p:nvPr/>
              </p:nvSpPr>
              <p:spPr>
                <a:xfrm>
                  <a:off x="1458720" y="5663880"/>
                  <a:ext cx="48960" cy="5400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249"/>
                <p:cNvSpPr/>
                <p:nvPr/>
              </p:nvSpPr>
              <p:spPr>
                <a:xfrm>
                  <a:off x="1523880" y="5692680"/>
                  <a:ext cx="93240" cy="5076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250"/>
                <p:cNvSpPr/>
                <p:nvPr/>
              </p:nvSpPr>
              <p:spPr>
                <a:xfrm>
                  <a:off x="1636560" y="5708520"/>
                  <a:ext cx="55080" cy="349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251"/>
                <p:cNvSpPr/>
                <p:nvPr/>
              </p:nvSpPr>
              <p:spPr>
                <a:xfrm>
                  <a:off x="1474560" y="5624280"/>
                  <a:ext cx="64800" cy="493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252"/>
                <p:cNvSpPr/>
                <p:nvPr/>
              </p:nvSpPr>
              <p:spPr>
                <a:xfrm>
                  <a:off x="1574640" y="5668920"/>
                  <a:ext cx="69480" cy="316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253"/>
                <p:cNvSpPr/>
                <p:nvPr/>
              </p:nvSpPr>
              <p:spPr>
                <a:xfrm>
                  <a:off x="1739520" y="5722560"/>
                  <a:ext cx="90360" cy="30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254"/>
                <p:cNvSpPr/>
                <p:nvPr/>
              </p:nvSpPr>
              <p:spPr>
                <a:xfrm>
                  <a:off x="1247400" y="5621040"/>
                  <a:ext cx="117360" cy="3348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255"/>
                <p:cNvSpPr/>
                <p:nvPr/>
              </p:nvSpPr>
              <p:spPr>
                <a:xfrm>
                  <a:off x="1384200" y="5700600"/>
                  <a:ext cx="34560" cy="270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256"/>
                <p:cNvSpPr/>
                <p:nvPr/>
              </p:nvSpPr>
              <p:spPr>
                <a:xfrm>
                  <a:off x="1131480" y="5646600"/>
                  <a:ext cx="66600" cy="777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257"/>
                <p:cNvSpPr/>
                <p:nvPr/>
              </p:nvSpPr>
              <p:spPr>
                <a:xfrm>
                  <a:off x="1195200" y="5640120"/>
                  <a:ext cx="102600" cy="3168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258"/>
                <p:cNvSpPr/>
                <p:nvPr/>
              </p:nvSpPr>
              <p:spPr>
                <a:xfrm>
                  <a:off x="1220400" y="5689440"/>
                  <a:ext cx="129960" cy="3816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259"/>
                <p:cNvSpPr/>
                <p:nvPr/>
              </p:nvSpPr>
              <p:spPr>
                <a:xfrm>
                  <a:off x="1029960" y="5667120"/>
                  <a:ext cx="42480" cy="414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260"/>
                <p:cNvSpPr/>
                <p:nvPr/>
              </p:nvSpPr>
              <p:spPr>
                <a:xfrm>
                  <a:off x="1053720" y="5695560"/>
                  <a:ext cx="45720" cy="3492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261"/>
                <p:cNvSpPr/>
                <p:nvPr/>
              </p:nvSpPr>
              <p:spPr>
                <a:xfrm>
                  <a:off x="902880" y="5667120"/>
                  <a:ext cx="90360" cy="46080"/>
                </a:xfrm>
                <a:custGeom>
                  <a:avLst/>
                  <a:gdLst>
                    <a:gd name="textAreaLeft" fmla="*/ 0 w 90360"/>
                    <a:gd name="textAreaRight" fmla="*/ 90360 w 903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62"/>
                <p:cNvSpPr/>
                <p:nvPr/>
              </p:nvSpPr>
              <p:spPr>
                <a:xfrm>
                  <a:off x="823680" y="5735520"/>
                  <a:ext cx="37800" cy="31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Freeform 263"/>
              <p:cNvSpPr/>
              <p:nvPr/>
            </p:nvSpPr>
            <p:spPr>
              <a:xfrm>
                <a:off x="1645920" y="54878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64"/>
              <p:cNvSpPr/>
              <p:nvPr/>
            </p:nvSpPr>
            <p:spPr>
              <a:xfrm>
                <a:off x="1611000" y="5457600"/>
                <a:ext cx="39240" cy="3348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265"/>
              <p:cNvGrpSpPr/>
              <p:nvPr/>
            </p:nvGrpSpPr>
            <p:grpSpPr>
              <a:xfrm>
                <a:off x="846000" y="5221080"/>
                <a:ext cx="734400" cy="254160"/>
                <a:chOff x="846000" y="5221080"/>
                <a:chExt cx="734400" cy="254160"/>
              </a:xfrm>
            </p:grpSpPr>
            <p:sp>
              <p:nvSpPr>
                <p:cNvPr id="503" name="Freeform 266"/>
                <p:cNvSpPr/>
                <p:nvPr/>
              </p:nvSpPr>
              <p:spPr>
                <a:xfrm>
                  <a:off x="846000" y="5221080"/>
                  <a:ext cx="734400" cy="254160"/>
                </a:xfrm>
                <a:custGeom>
                  <a:avLst/>
                  <a:gdLst>
                    <a:gd name="textAreaLeft" fmla="*/ 0 w 734400"/>
                    <a:gd name="textAreaRight" fmla="*/ 734760 w 73440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267"/>
                <p:cNvSpPr/>
                <p:nvPr/>
              </p:nvSpPr>
              <p:spPr>
                <a:xfrm>
                  <a:off x="1434600" y="5229000"/>
                  <a:ext cx="29880" cy="68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268"/>
                <p:cNvSpPr/>
                <p:nvPr/>
              </p:nvSpPr>
              <p:spPr>
                <a:xfrm>
                  <a:off x="1509120" y="5236920"/>
                  <a:ext cx="37800" cy="475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269"/>
                <p:cNvSpPr/>
                <p:nvPr/>
              </p:nvSpPr>
              <p:spPr>
                <a:xfrm>
                  <a:off x="1480680" y="5305320"/>
                  <a:ext cx="42480" cy="25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270"/>
                <p:cNvSpPr/>
                <p:nvPr/>
              </p:nvSpPr>
              <p:spPr>
                <a:xfrm>
                  <a:off x="1458360" y="5246640"/>
                  <a:ext cx="41040" cy="554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271"/>
                <p:cNvSpPr/>
                <p:nvPr/>
              </p:nvSpPr>
              <p:spPr>
                <a:xfrm>
                  <a:off x="1361520" y="5241600"/>
                  <a:ext cx="43920" cy="41400"/>
                </a:xfrm>
                <a:custGeom>
                  <a:avLst/>
                  <a:gdLst>
                    <a:gd name="textAreaLeft" fmla="*/ 0 w 43920"/>
                    <a:gd name="textAreaRight" fmla="*/ 43920 w 43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72"/>
                <p:cNvSpPr/>
                <p:nvPr/>
              </p:nvSpPr>
              <p:spPr>
                <a:xfrm>
                  <a:off x="1374120" y="5271840"/>
                  <a:ext cx="45720" cy="302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73"/>
                <p:cNvSpPr/>
                <p:nvPr/>
              </p:nvSpPr>
              <p:spPr>
                <a:xfrm>
                  <a:off x="1285200" y="5281560"/>
                  <a:ext cx="68040" cy="3168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74"/>
                <p:cNvSpPr/>
                <p:nvPr/>
              </p:nvSpPr>
              <p:spPr>
                <a:xfrm>
                  <a:off x="1310760" y="5319360"/>
                  <a:ext cx="64800" cy="367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75"/>
                <p:cNvSpPr/>
                <p:nvPr/>
              </p:nvSpPr>
              <p:spPr>
                <a:xfrm>
                  <a:off x="1159920" y="5381280"/>
                  <a:ext cx="67680" cy="6984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76"/>
                <p:cNvSpPr/>
                <p:nvPr/>
              </p:nvSpPr>
              <p:spPr>
                <a:xfrm>
                  <a:off x="1115280" y="5381280"/>
                  <a:ext cx="36360" cy="414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77"/>
                <p:cNvSpPr/>
                <p:nvPr/>
              </p:nvSpPr>
              <p:spPr>
                <a:xfrm>
                  <a:off x="1002600" y="5354280"/>
                  <a:ext cx="85320" cy="4608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78"/>
                <p:cNvSpPr/>
                <p:nvPr/>
              </p:nvSpPr>
              <p:spPr>
                <a:xfrm>
                  <a:off x="905760" y="5367240"/>
                  <a:ext cx="37800" cy="6012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9"/>
                <p:cNvSpPr/>
                <p:nvPr/>
              </p:nvSpPr>
              <p:spPr>
                <a:xfrm>
                  <a:off x="985320" y="5392440"/>
                  <a:ext cx="55080" cy="42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280"/>
              <p:cNvGrpSpPr/>
              <p:nvPr/>
            </p:nvGrpSpPr>
            <p:grpSpPr>
              <a:xfrm>
                <a:off x="852120" y="5136840"/>
                <a:ext cx="445680" cy="158760"/>
                <a:chOff x="852120" y="5136840"/>
                <a:chExt cx="445680" cy="158760"/>
              </a:xfrm>
            </p:grpSpPr>
            <p:sp>
              <p:nvSpPr>
                <p:cNvPr id="518" name="Freeform 281"/>
                <p:cNvSpPr/>
                <p:nvPr/>
              </p:nvSpPr>
              <p:spPr>
                <a:xfrm>
                  <a:off x="852120" y="5136840"/>
                  <a:ext cx="445680" cy="158760"/>
                </a:xfrm>
                <a:custGeom>
                  <a:avLst/>
                  <a:gdLst>
                    <a:gd name="textAreaLeft" fmla="*/ 0 w 445680"/>
                    <a:gd name="textAreaRight" fmla="*/ 446040 w 4456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282"/>
                <p:cNvSpPr/>
                <p:nvPr/>
              </p:nvSpPr>
              <p:spPr>
                <a:xfrm>
                  <a:off x="1083600" y="5194080"/>
                  <a:ext cx="114120" cy="176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283"/>
                <p:cNvSpPr/>
                <p:nvPr/>
              </p:nvSpPr>
              <p:spPr>
                <a:xfrm>
                  <a:off x="1223280" y="5216400"/>
                  <a:ext cx="56880" cy="3960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284"/>
                <p:cNvSpPr/>
                <p:nvPr/>
              </p:nvSpPr>
              <p:spPr>
                <a:xfrm>
                  <a:off x="1191600" y="52416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285"/>
                <p:cNvSpPr/>
                <p:nvPr/>
              </p:nvSpPr>
              <p:spPr>
                <a:xfrm>
                  <a:off x="1004400" y="5154480"/>
                  <a:ext cx="70920" cy="27000"/>
                </a:xfrm>
                <a:custGeom>
                  <a:avLst/>
                  <a:gdLst>
                    <a:gd name="textAreaLeft" fmla="*/ 0 w 70920"/>
                    <a:gd name="textAreaRight" fmla="*/ 71280 w 70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286"/>
                <p:cNvSpPr/>
                <p:nvPr/>
              </p:nvSpPr>
              <p:spPr>
                <a:xfrm>
                  <a:off x="1012320" y="5197320"/>
                  <a:ext cx="51840" cy="252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287"/>
                <p:cNvSpPr/>
                <p:nvPr/>
              </p:nvSpPr>
              <p:spPr>
                <a:xfrm>
                  <a:off x="1194840" y="5208480"/>
                  <a:ext cx="20160" cy="284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288"/>
                <p:cNvSpPr/>
                <p:nvPr/>
              </p:nvSpPr>
              <p:spPr>
                <a:xfrm>
                  <a:off x="913680" y="5141520"/>
                  <a:ext cx="72720" cy="2880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289"/>
              <p:cNvGrpSpPr/>
              <p:nvPr/>
            </p:nvGrpSpPr>
            <p:grpSpPr>
              <a:xfrm>
                <a:off x="990360" y="5041800"/>
                <a:ext cx="161640" cy="109440"/>
                <a:chOff x="990360" y="5041800"/>
                <a:chExt cx="161640" cy="109440"/>
              </a:xfrm>
            </p:grpSpPr>
            <p:sp>
              <p:nvSpPr>
                <p:cNvPr id="527" name="Freeform 290"/>
                <p:cNvSpPr/>
                <p:nvPr/>
              </p:nvSpPr>
              <p:spPr>
                <a:xfrm>
                  <a:off x="990360" y="5041800"/>
                  <a:ext cx="161640" cy="1094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291"/>
                <p:cNvSpPr/>
                <p:nvPr/>
              </p:nvSpPr>
              <p:spPr>
                <a:xfrm>
                  <a:off x="1061280" y="5063760"/>
                  <a:ext cx="71280" cy="44640"/>
                </a:xfrm>
                <a:custGeom>
                  <a:avLst/>
                  <a:gdLst>
                    <a:gd name="textAreaLeft" fmla="*/ 0 w 71280"/>
                    <a:gd name="textAreaRight" fmla="*/ 71280 w 7128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92"/>
                <p:cNvSpPr/>
                <p:nvPr/>
              </p:nvSpPr>
              <p:spPr>
                <a:xfrm>
                  <a:off x="1048680" y="5113080"/>
                  <a:ext cx="71280" cy="270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293"/>
                <p:cNvSpPr/>
                <p:nvPr/>
              </p:nvSpPr>
              <p:spPr>
                <a:xfrm>
                  <a:off x="1024920" y="5073480"/>
                  <a:ext cx="34560" cy="414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294"/>
              <p:cNvGrpSpPr/>
              <p:nvPr/>
            </p:nvGrpSpPr>
            <p:grpSpPr>
              <a:xfrm>
                <a:off x="1184040" y="5076720"/>
                <a:ext cx="239400" cy="133200"/>
                <a:chOff x="1184040" y="5076720"/>
                <a:chExt cx="239400" cy="133200"/>
              </a:xfrm>
            </p:grpSpPr>
            <p:sp>
              <p:nvSpPr>
                <p:cNvPr id="532" name="Freeform 295"/>
                <p:cNvSpPr/>
                <p:nvPr/>
              </p:nvSpPr>
              <p:spPr>
                <a:xfrm>
                  <a:off x="1184040" y="5076720"/>
                  <a:ext cx="239400" cy="133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296"/>
                <p:cNvSpPr/>
                <p:nvPr/>
              </p:nvSpPr>
              <p:spPr>
                <a:xfrm>
                  <a:off x="1289880" y="5103720"/>
                  <a:ext cx="107640" cy="5400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297"/>
                <p:cNvSpPr/>
                <p:nvPr/>
              </p:nvSpPr>
              <p:spPr>
                <a:xfrm>
                  <a:off x="1271160" y="5163840"/>
                  <a:ext cx="107280" cy="3168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298"/>
                <p:cNvSpPr/>
                <p:nvPr/>
              </p:nvSpPr>
              <p:spPr>
                <a:xfrm>
                  <a:off x="1236240" y="5114880"/>
                  <a:ext cx="51840" cy="5076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299"/>
              <p:cNvGrpSpPr/>
              <p:nvPr/>
            </p:nvGrpSpPr>
            <p:grpSpPr>
              <a:xfrm>
                <a:off x="1126800" y="4952880"/>
                <a:ext cx="164880" cy="139680"/>
                <a:chOff x="1126800" y="4952880"/>
                <a:chExt cx="164880" cy="139680"/>
              </a:xfrm>
            </p:grpSpPr>
            <p:sp>
              <p:nvSpPr>
                <p:cNvPr id="537" name="Freeform 300"/>
                <p:cNvSpPr/>
                <p:nvPr/>
              </p:nvSpPr>
              <p:spPr>
                <a:xfrm>
                  <a:off x="1126800" y="4952880"/>
                  <a:ext cx="164880" cy="139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301"/>
                <p:cNvSpPr/>
                <p:nvPr/>
              </p:nvSpPr>
              <p:spPr>
                <a:xfrm>
                  <a:off x="1191600" y="5014800"/>
                  <a:ext cx="66240" cy="619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302"/>
                <p:cNvSpPr/>
                <p:nvPr/>
              </p:nvSpPr>
              <p:spPr>
                <a:xfrm>
                  <a:off x="1144080" y="5003640"/>
                  <a:ext cx="39240" cy="619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303"/>
                <p:cNvSpPr/>
                <p:nvPr/>
              </p:nvSpPr>
              <p:spPr>
                <a:xfrm>
                  <a:off x="1182240" y="4984560"/>
                  <a:ext cx="63000" cy="2844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304"/>
              <p:cNvGrpSpPr/>
              <p:nvPr/>
            </p:nvGrpSpPr>
            <p:grpSpPr>
              <a:xfrm>
                <a:off x="734760" y="5364000"/>
                <a:ext cx="985320" cy="260280"/>
                <a:chOff x="734760" y="5364000"/>
                <a:chExt cx="985320" cy="260280"/>
              </a:xfrm>
            </p:grpSpPr>
            <p:grpSp>
              <p:nvGrpSpPr>
                <p:cNvPr id="542" name="Group 305"/>
                <p:cNvGrpSpPr/>
                <p:nvPr/>
              </p:nvGrpSpPr>
              <p:grpSpPr>
                <a:xfrm>
                  <a:off x="734760" y="5364000"/>
                  <a:ext cx="985320" cy="260280"/>
                  <a:chOff x="734760" y="5364000"/>
                  <a:chExt cx="985320" cy="260280"/>
                </a:xfrm>
              </p:grpSpPr>
              <p:sp>
                <p:nvSpPr>
                  <p:cNvPr id="543" name="Freeform 306"/>
                  <p:cNvSpPr/>
                  <p:nvPr/>
                </p:nvSpPr>
                <p:spPr>
                  <a:xfrm>
                    <a:off x="734760" y="5364000"/>
                    <a:ext cx="985320" cy="260280"/>
                  </a:xfrm>
                  <a:custGeom>
                    <a:avLst/>
                    <a:gdLst>
                      <a:gd name="textAreaLeft" fmla="*/ 0 w 985320"/>
                      <a:gd name="textAreaRight" fmla="*/ 985680 w 9853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Freeform 307"/>
                  <p:cNvSpPr/>
                  <p:nvPr/>
                </p:nvSpPr>
                <p:spPr>
                  <a:xfrm>
                    <a:off x="1493280" y="5520960"/>
                    <a:ext cx="34560" cy="38160"/>
                  </a:xfrm>
                  <a:custGeom>
                    <a:avLst/>
                    <a:gdLst>
                      <a:gd name="textAreaLeft" fmla="*/ 0 w 34560"/>
                      <a:gd name="textAreaRight" fmla="*/ 34920 w 345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Freeform 308"/>
                  <p:cNvSpPr/>
                  <p:nvPr/>
                </p:nvSpPr>
                <p:spPr>
                  <a:xfrm>
                    <a:off x="1448640" y="5518080"/>
                    <a:ext cx="28440" cy="507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309"/>
                  <p:cNvSpPr/>
                  <p:nvPr/>
                </p:nvSpPr>
                <p:spPr>
                  <a:xfrm>
                    <a:off x="1521720" y="5441760"/>
                    <a:ext cx="36360" cy="3024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Freeform 310"/>
                  <p:cNvSpPr/>
                  <p:nvPr/>
                </p:nvSpPr>
                <p:spPr>
                  <a:xfrm>
                    <a:off x="1459800" y="5375160"/>
                    <a:ext cx="50400" cy="9180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Freeform 311"/>
                  <p:cNvSpPr/>
                  <p:nvPr/>
                </p:nvSpPr>
                <p:spPr>
                  <a:xfrm>
                    <a:off x="1386720" y="5424120"/>
                    <a:ext cx="60120" cy="7776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Freeform 312"/>
                  <p:cNvSpPr/>
                  <p:nvPr/>
                </p:nvSpPr>
                <p:spPr>
                  <a:xfrm>
                    <a:off x="1242360" y="5493960"/>
                    <a:ext cx="64800" cy="2232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Freeform 313"/>
                  <p:cNvSpPr/>
                  <p:nvPr/>
                </p:nvSpPr>
                <p:spPr>
                  <a:xfrm>
                    <a:off x="1137600" y="5500440"/>
                    <a:ext cx="106200" cy="5076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Freeform 314"/>
                  <p:cNvSpPr/>
                  <p:nvPr/>
                </p:nvSpPr>
                <p:spPr>
                  <a:xfrm>
                    <a:off x="1209240" y="5522760"/>
                    <a:ext cx="58320" cy="4428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Freeform 315"/>
                  <p:cNvSpPr/>
                  <p:nvPr/>
                </p:nvSpPr>
                <p:spPr>
                  <a:xfrm>
                    <a:off x="1447200" y="5411520"/>
                    <a:ext cx="10800" cy="1764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Freeform 316"/>
                  <p:cNvSpPr/>
                  <p:nvPr/>
                </p:nvSpPr>
                <p:spPr>
                  <a:xfrm>
                    <a:off x="1169280" y="5570280"/>
                    <a:ext cx="29880" cy="284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Freeform 317"/>
                  <p:cNvSpPr/>
                  <p:nvPr/>
                </p:nvSpPr>
                <p:spPr>
                  <a:xfrm>
                    <a:off x="1059840" y="5511600"/>
                    <a:ext cx="60120" cy="5076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Freeform 318"/>
                  <p:cNvSpPr/>
                  <p:nvPr/>
                </p:nvSpPr>
                <p:spPr>
                  <a:xfrm>
                    <a:off x="1018440" y="5560920"/>
                    <a:ext cx="48960" cy="1584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Freeform 319"/>
                  <p:cNvSpPr/>
                  <p:nvPr/>
                </p:nvSpPr>
                <p:spPr>
                  <a:xfrm>
                    <a:off x="936000" y="5500440"/>
                    <a:ext cx="56880" cy="4752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Freeform 320"/>
                  <p:cNvSpPr/>
                  <p:nvPr/>
                </p:nvSpPr>
                <p:spPr>
                  <a:xfrm>
                    <a:off x="924840" y="5562360"/>
                    <a:ext cx="45720" cy="284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Freeform 321"/>
                  <p:cNvSpPr/>
                  <p:nvPr/>
                </p:nvSpPr>
                <p:spPr>
                  <a:xfrm>
                    <a:off x="975600" y="5530680"/>
                    <a:ext cx="31680" cy="3024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Freeform 322"/>
                  <p:cNvSpPr/>
                  <p:nvPr/>
                </p:nvSpPr>
                <p:spPr>
                  <a:xfrm>
                    <a:off x="801000" y="5484600"/>
                    <a:ext cx="60120" cy="46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" name="Freeform 323"/>
                <p:cNvSpPr/>
                <p:nvPr/>
              </p:nvSpPr>
              <p:spPr>
                <a:xfrm>
                  <a:off x="1593360" y="5460840"/>
                  <a:ext cx="78840" cy="58680"/>
                </a:xfrm>
                <a:custGeom>
                  <a:avLst/>
                  <a:gdLst>
                    <a:gd name="textAreaLeft" fmla="*/ 0 w 78840"/>
                    <a:gd name="textAreaRight" fmla="*/ 78840 w 788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324"/>
                <p:cNvSpPr/>
                <p:nvPr/>
              </p:nvSpPr>
              <p:spPr>
                <a:xfrm>
                  <a:off x="1563120" y="5481360"/>
                  <a:ext cx="41040" cy="223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2" name="Group 400"/>
          <p:cNvGrpSpPr/>
          <p:nvPr/>
        </p:nvGrpSpPr>
        <p:grpSpPr>
          <a:xfrm>
            <a:off x="3124080" y="5181480"/>
            <a:ext cx="895320" cy="1148040"/>
            <a:chOff x="3124080" y="5181480"/>
            <a:chExt cx="895320" cy="1148040"/>
          </a:xfrm>
        </p:grpSpPr>
        <p:sp>
          <p:nvSpPr>
            <p:cNvPr id="563" name="Freeform 91"/>
            <p:cNvSpPr/>
            <p:nvPr/>
          </p:nvSpPr>
          <p:spPr>
            <a:xfrm>
              <a:off x="3352680" y="6248520"/>
              <a:ext cx="358920" cy="71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Group 325"/>
            <p:cNvGrpSpPr/>
            <p:nvPr/>
          </p:nvGrpSpPr>
          <p:grpSpPr>
            <a:xfrm>
              <a:off x="3124080" y="5181480"/>
              <a:ext cx="895320" cy="1148040"/>
              <a:chOff x="3124080" y="5181480"/>
              <a:chExt cx="895320" cy="1148040"/>
            </a:xfrm>
          </p:grpSpPr>
          <p:sp>
            <p:nvSpPr>
              <p:cNvPr id="565" name="Freeform 326"/>
              <p:cNvSpPr/>
              <p:nvPr/>
            </p:nvSpPr>
            <p:spPr>
              <a:xfrm>
                <a:off x="3284280" y="5364000"/>
                <a:ext cx="222480" cy="131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Group 327"/>
              <p:cNvGrpSpPr/>
              <p:nvPr/>
            </p:nvGrpSpPr>
            <p:grpSpPr>
              <a:xfrm>
                <a:off x="3201840" y="5214960"/>
                <a:ext cx="704880" cy="1114560"/>
                <a:chOff x="3201840" y="5214960"/>
                <a:chExt cx="704880" cy="1114560"/>
              </a:xfrm>
            </p:grpSpPr>
            <p:sp>
              <p:nvSpPr>
                <p:cNvPr id="567" name="Freeform 328"/>
                <p:cNvSpPr/>
                <p:nvPr/>
              </p:nvSpPr>
              <p:spPr>
                <a:xfrm>
                  <a:off x="3201840" y="5214960"/>
                  <a:ext cx="704880" cy="111456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329"/>
                <p:cNvSpPr/>
                <p:nvPr/>
              </p:nvSpPr>
              <p:spPr>
                <a:xfrm>
                  <a:off x="3524040" y="5240160"/>
                  <a:ext cx="309600" cy="1084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Freeform 330"/>
              <p:cNvSpPr/>
              <p:nvPr/>
            </p:nvSpPr>
            <p:spPr>
              <a:xfrm>
                <a:off x="3951000" y="5622840"/>
                <a:ext cx="34920" cy="28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331"/>
              <p:cNvSpPr/>
              <p:nvPr/>
            </p:nvSpPr>
            <p:spPr>
              <a:xfrm>
                <a:off x="3919320" y="559764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1" name="Group 332"/>
              <p:cNvGrpSpPr/>
              <p:nvPr/>
            </p:nvGrpSpPr>
            <p:grpSpPr>
              <a:xfrm>
                <a:off x="3222360" y="5402160"/>
                <a:ext cx="669960" cy="209520"/>
                <a:chOff x="3222360" y="5402160"/>
                <a:chExt cx="669960" cy="209520"/>
              </a:xfrm>
            </p:grpSpPr>
            <p:sp>
              <p:nvSpPr>
                <p:cNvPr id="572" name="Freeform 333"/>
                <p:cNvSpPr/>
                <p:nvPr/>
              </p:nvSpPr>
              <p:spPr>
                <a:xfrm>
                  <a:off x="3222360" y="5402160"/>
                  <a:ext cx="669960" cy="20952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334"/>
                <p:cNvSpPr/>
                <p:nvPr/>
              </p:nvSpPr>
              <p:spPr>
                <a:xfrm>
                  <a:off x="3759120" y="5410080"/>
                  <a:ext cx="27000" cy="55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335"/>
                <p:cNvSpPr/>
                <p:nvPr/>
              </p:nvSpPr>
              <p:spPr>
                <a:xfrm>
                  <a:off x="3827160" y="5416560"/>
                  <a:ext cx="33480" cy="381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336"/>
                <p:cNvSpPr/>
                <p:nvPr/>
              </p:nvSpPr>
              <p:spPr>
                <a:xfrm>
                  <a:off x="3801960" y="5472000"/>
                  <a:ext cx="38160" cy="208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337"/>
                <p:cNvSpPr/>
                <p:nvPr/>
              </p:nvSpPr>
              <p:spPr>
                <a:xfrm>
                  <a:off x="3781080" y="5423040"/>
                  <a:ext cx="38160" cy="457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338"/>
                <p:cNvSpPr/>
                <p:nvPr/>
              </p:nvSpPr>
              <p:spPr>
                <a:xfrm>
                  <a:off x="3693960" y="541980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339"/>
                <p:cNvSpPr/>
                <p:nvPr/>
              </p:nvSpPr>
              <p:spPr>
                <a:xfrm>
                  <a:off x="3705120" y="5445000"/>
                  <a:ext cx="41040" cy="25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340"/>
                <p:cNvSpPr/>
                <p:nvPr/>
              </p:nvSpPr>
              <p:spPr>
                <a:xfrm>
                  <a:off x="3624120" y="5452920"/>
                  <a:ext cx="61920" cy="25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341"/>
                <p:cNvSpPr/>
                <p:nvPr/>
              </p:nvSpPr>
              <p:spPr>
                <a:xfrm>
                  <a:off x="3646440" y="5483160"/>
                  <a:ext cx="60120" cy="302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342"/>
                <p:cNvSpPr/>
                <p:nvPr/>
              </p:nvSpPr>
              <p:spPr>
                <a:xfrm>
                  <a:off x="3508200" y="5533920"/>
                  <a:ext cx="63360" cy="57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343"/>
                <p:cNvSpPr/>
                <p:nvPr/>
              </p:nvSpPr>
              <p:spPr>
                <a:xfrm>
                  <a:off x="3470040" y="5533920"/>
                  <a:ext cx="31680" cy="349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344"/>
                <p:cNvSpPr/>
                <p:nvPr/>
              </p:nvSpPr>
              <p:spPr>
                <a:xfrm>
                  <a:off x="3366720" y="5513400"/>
                  <a:ext cx="78120" cy="381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345"/>
                <p:cNvSpPr/>
                <p:nvPr/>
              </p:nvSpPr>
              <p:spPr>
                <a:xfrm>
                  <a:off x="3279600" y="5522760"/>
                  <a:ext cx="33480" cy="493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346"/>
                <p:cNvSpPr/>
                <p:nvPr/>
              </p:nvSpPr>
              <p:spPr>
                <a:xfrm>
                  <a:off x="3350880" y="554364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347"/>
              <p:cNvGrpSpPr/>
              <p:nvPr/>
            </p:nvGrpSpPr>
            <p:grpSpPr>
              <a:xfrm>
                <a:off x="3228840" y="5332320"/>
                <a:ext cx="404640" cy="131760"/>
                <a:chOff x="3228840" y="5332320"/>
                <a:chExt cx="404640" cy="131760"/>
              </a:xfrm>
            </p:grpSpPr>
            <p:sp>
              <p:nvSpPr>
                <p:cNvPr id="587" name="Freeform 348"/>
                <p:cNvSpPr/>
                <p:nvPr/>
              </p:nvSpPr>
              <p:spPr>
                <a:xfrm>
                  <a:off x="3228840" y="5332320"/>
                  <a:ext cx="404640" cy="1317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349"/>
                <p:cNvSpPr/>
                <p:nvPr/>
              </p:nvSpPr>
              <p:spPr>
                <a:xfrm>
                  <a:off x="3439800" y="5380200"/>
                  <a:ext cx="104760" cy="158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350"/>
                <p:cNvSpPr/>
                <p:nvPr/>
              </p:nvSpPr>
              <p:spPr>
                <a:xfrm>
                  <a:off x="3566880" y="5397480"/>
                  <a:ext cx="52560" cy="334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351"/>
                <p:cNvSpPr/>
                <p:nvPr/>
              </p:nvSpPr>
              <p:spPr>
                <a:xfrm>
                  <a:off x="3538440" y="5419800"/>
                  <a:ext cx="28440" cy="31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352"/>
                <p:cNvSpPr/>
                <p:nvPr/>
              </p:nvSpPr>
              <p:spPr>
                <a:xfrm>
                  <a:off x="3368520" y="5346720"/>
                  <a:ext cx="65160" cy="237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353"/>
                <p:cNvSpPr/>
                <p:nvPr/>
              </p:nvSpPr>
              <p:spPr>
                <a:xfrm>
                  <a:off x="3376440" y="5383080"/>
                  <a:ext cx="46080" cy="20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354"/>
                <p:cNvSpPr/>
                <p:nvPr/>
              </p:nvSpPr>
              <p:spPr>
                <a:xfrm>
                  <a:off x="3541680" y="5391000"/>
                  <a:ext cx="18720" cy="24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355"/>
                <p:cNvSpPr/>
                <p:nvPr/>
              </p:nvSpPr>
              <p:spPr>
                <a:xfrm>
                  <a:off x="3286080" y="5337000"/>
                  <a:ext cx="64800" cy="2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Group 356"/>
              <p:cNvGrpSpPr/>
              <p:nvPr/>
            </p:nvGrpSpPr>
            <p:grpSpPr>
              <a:xfrm>
                <a:off x="3354120" y="5254560"/>
                <a:ext cx="147600" cy="90360"/>
                <a:chOff x="3354120" y="5254560"/>
                <a:chExt cx="147600" cy="90360"/>
              </a:xfrm>
            </p:grpSpPr>
            <p:sp>
              <p:nvSpPr>
                <p:cNvPr id="596" name="Freeform 357"/>
                <p:cNvSpPr/>
                <p:nvPr/>
              </p:nvSpPr>
              <p:spPr>
                <a:xfrm>
                  <a:off x="3354120" y="5254560"/>
                  <a:ext cx="147600" cy="903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358"/>
                <p:cNvSpPr/>
                <p:nvPr/>
              </p:nvSpPr>
              <p:spPr>
                <a:xfrm>
                  <a:off x="3419280" y="5272200"/>
                  <a:ext cx="66600" cy="378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359"/>
                <p:cNvSpPr/>
                <p:nvPr/>
              </p:nvSpPr>
              <p:spPr>
                <a:xfrm>
                  <a:off x="3408120" y="5313240"/>
                  <a:ext cx="65160" cy="22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360"/>
                <p:cNvSpPr/>
                <p:nvPr/>
              </p:nvSpPr>
              <p:spPr>
                <a:xfrm>
                  <a:off x="3387600" y="5280120"/>
                  <a:ext cx="30240" cy="349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361"/>
              <p:cNvGrpSpPr/>
              <p:nvPr/>
            </p:nvGrpSpPr>
            <p:grpSpPr>
              <a:xfrm>
                <a:off x="3531960" y="5283360"/>
                <a:ext cx="217440" cy="109440"/>
                <a:chOff x="3531960" y="5283360"/>
                <a:chExt cx="217440" cy="109440"/>
              </a:xfrm>
            </p:grpSpPr>
            <p:sp>
              <p:nvSpPr>
                <p:cNvPr id="601" name="Freeform 362"/>
                <p:cNvSpPr/>
                <p:nvPr/>
              </p:nvSpPr>
              <p:spPr>
                <a:xfrm>
                  <a:off x="3531960" y="5283360"/>
                  <a:ext cx="217440" cy="1094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363"/>
                <p:cNvSpPr/>
                <p:nvPr/>
              </p:nvSpPr>
              <p:spPr>
                <a:xfrm>
                  <a:off x="3628800" y="5305320"/>
                  <a:ext cx="96840" cy="446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364"/>
                <p:cNvSpPr/>
                <p:nvPr/>
              </p:nvSpPr>
              <p:spPr>
                <a:xfrm>
                  <a:off x="3611520" y="5354640"/>
                  <a:ext cx="96840" cy="27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365"/>
                <p:cNvSpPr/>
                <p:nvPr/>
              </p:nvSpPr>
              <p:spPr>
                <a:xfrm>
                  <a:off x="3579480" y="5315040"/>
                  <a:ext cx="46080" cy="41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366"/>
              <p:cNvGrpSpPr/>
              <p:nvPr/>
            </p:nvGrpSpPr>
            <p:grpSpPr>
              <a:xfrm>
                <a:off x="3479760" y="5181480"/>
                <a:ext cx="149040" cy="114480"/>
                <a:chOff x="3479760" y="5181480"/>
                <a:chExt cx="149040" cy="114480"/>
              </a:xfrm>
            </p:grpSpPr>
            <p:sp>
              <p:nvSpPr>
                <p:cNvPr id="606" name="Freeform 367"/>
                <p:cNvSpPr/>
                <p:nvPr/>
              </p:nvSpPr>
              <p:spPr>
                <a:xfrm>
                  <a:off x="3479760" y="5181480"/>
                  <a:ext cx="149040" cy="114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368"/>
                <p:cNvSpPr/>
                <p:nvPr/>
              </p:nvSpPr>
              <p:spPr>
                <a:xfrm>
                  <a:off x="3538440" y="5232240"/>
                  <a:ext cx="60120" cy="51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369"/>
                <p:cNvSpPr/>
                <p:nvPr/>
              </p:nvSpPr>
              <p:spPr>
                <a:xfrm>
                  <a:off x="3495600" y="5222880"/>
                  <a:ext cx="36360" cy="522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370"/>
                <p:cNvSpPr/>
                <p:nvPr/>
              </p:nvSpPr>
              <p:spPr>
                <a:xfrm>
                  <a:off x="3528720" y="5207040"/>
                  <a:ext cx="58680" cy="23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Group 371"/>
              <p:cNvGrpSpPr/>
              <p:nvPr/>
            </p:nvGrpSpPr>
            <p:grpSpPr>
              <a:xfrm>
                <a:off x="3124080" y="5519880"/>
                <a:ext cx="895320" cy="215640"/>
                <a:chOff x="3124080" y="5519880"/>
                <a:chExt cx="895320" cy="215640"/>
              </a:xfrm>
            </p:grpSpPr>
            <p:grpSp>
              <p:nvGrpSpPr>
                <p:cNvPr id="611" name="Group 372"/>
                <p:cNvGrpSpPr/>
                <p:nvPr/>
              </p:nvGrpSpPr>
              <p:grpSpPr>
                <a:xfrm>
                  <a:off x="3124080" y="5519880"/>
                  <a:ext cx="895320" cy="215640"/>
                  <a:chOff x="3124080" y="5519880"/>
                  <a:chExt cx="895320" cy="215640"/>
                </a:xfrm>
              </p:grpSpPr>
              <p:sp>
                <p:nvSpPr>
                  <p:cNvPr id="612" name="Freeform 373"/>
                  <p:cNvSpPr/>
                  <p:nvPr/>
                </p:nvSpPr>
                <p:spPr>
                  <a:xfrm>
                    <a:off x="3124080" y="5519880"/>
                    <a:ext cx="895320" cy="21564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374"/>
                  <p:cNvSpPr/>
                  <p:nvPr/>
                </p:nvSpPr>
                <p:spPr>
                  <a:xfrm>
                    <a:off x="3813120" y="5649840"/>
                    <a:ext cx="31680" cy="31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Freeform 375"/>
                  <p:cNvSpPr/>
                  <p:nvPr/>
                </p:nvSpPr>
                <p:spPr>
                  <a:xfrm>
                    <a:off x="3771720" y="5648400"/>
                    <a:ext cx="27000" cy="410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Freeform 376"/>
                  <p:cNvSpPr/>
                  <p:nvPr/>
                </p:nvSpPr>
                <p:spPr>
                  <a:xfrm>
                    <a:off x="3838320" y="5584680"/>
                    <a:ext cx="33480" cy="2412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Freeform 377"/>
                  <p:cNvSpPr/>
                  <p:nvPr/>
                </p:nvSpPr>
                <p:spPr>
                  <a:xfrm>
                    <a:off x="3782880" y="5530680"/>
                    <a:ext cx="46080" cy="74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Freeform 378"/>
                  <p:cNvSpPr/>
                  <p:nvPr/>
                </p:nvSpPr>
                <p:spPr>
                  <a:xfrm>
                    <a:off x="3716280" y="5570640"/>
                    <a:ext cx="54000" cy="63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Freeform 379"/>
                  <p:cNvSpPr/>
                  <p:nvPr/>
                </p:nvSpPr>
                <p:spPr>
                  <a:xfrm>
                    <a:off x="3584520" y="5627520"/>
                    <a:ext cx="60120" cy="19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Freeform 380"/>
                  <p:cNvSpPr/>
                  <p:nvPr/>
                </p:nvSpPr>
                <p:spPr>
                  <a:xfrm>
                    <a:off x="3489120" y="5632560"/>
                    <a:ext cx="96840" cy="428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Freeform 381"/>
                  <p:cNvSpPr/>
                  <p:nvPr/>
                </p:nvSpPr>
                <p:spPr>
                  <a:xfrm>
                    <a:off x="3554280" y="5651640"/>
                    <a:ext cx="54000" cy="36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Freeform 382"/>
                  <p:cNvSpPr/>
                  <p:nvPr/>
                </p:nvSpPr>
                <p:spPr>
                  <a:xfrm>
                    <a:off x="3770280" y="5559480"/>
                    <a:ext cx="9360" cy="14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Freeform 383"/>
                  <p:cNvSpPr/>
                  <p:nvPr/>
                </p:nvSpPr>
                <p:spPr>
                  <a:xfrm>
                    <a:off x="3519360" y="5691240"/>
                    <a:ext cx="27000" cy="22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Freeform 384"/>
                  <p:cNvSpPr/>
                  <p:nvPr/>
                </p:nvSpPr>
                <p:spPr>
                  <a:xfrm>
                    <a:off x="3419280" y="5641920"/>
                    <a:ext cx="54000" cy="428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Freeform 385"/>
                  <p:cNvSpPr/>
                  <p:nvPr/>
                </p:nvSpPr>
                <p:spPr>
                  <a:xfrm>
                    <a:off x="3381120" y="5683320"/>
                    <a:ext cx="44640" cy="126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Freeform 386"/>
                  <p:cNvSpPr/>
                  <p:nvPr/>
                </p:nvSpPr>
                <p:spPr>
                  <a:xfrm>
                    <a:off x="3306600" y="5632560"/>
                    <a:ext cx="52200" cy="3960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Freeform 387"/>
                  <p:cNvSpPr/>
                  <p:nvPr/>
                </p:nvSpPr>
                <p:spPr>
                  <a:xfrm>
                    <a:off x="3296880" y="5684760"/>
                    <a:ext cx="39960" cy="2232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Freeform 388"/>
                  <p:cNvSpPr/>
                  <p:nvPr/>
                </p:nvSpPr>
                <p:spPr>
                  <a:xfrm>
                    <a:off x="3341520" y="5657760"/>
                    <a:ext cx="28440" cy="255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Freeform 389"/>
                  <p:cNvSpPr/>
                  <p:nvPr/>
                </p:nvSpPr>
                <p:spPr>
                  <a:xfrm>
                    <a:off x="3184200" y="5619600"/>
                    <a:ext cx="54000" cy="381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Freeform 390"/>
                <p:cNvSpPr/>
                <p:nvPr/>
              </p:nvSpPr>
              <p:spPr>
                <a:xfrm>
                  <a:off x="3903480" y="5600520"/>
                  <a:ext cx="73080" cy="493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391"/>
                <p:cNvSpPr/>
                <p:nvPr/>
              </p:nvSpPr>
              <p:spPr>
                <a:xfrm>
                  <a:off x="3876480" y="5618160"/>
                  <a:ext cx="36360" cy="172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631" name="Object 0"/>
          <p:cNvGraphicFramePr/>
          <p:nvPr/>
        </p:nvGraphicFramePr>
        <p:xfrm>
          <a:off x="3657600" y="4735440"/>
          <a:ext cx="493884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735440"/>
                    <a:ext cx="49388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394"/>
          <p:cNvSpPr/>
          <p:nvPr/>
        </p:nvSpPr>
        <p:spPr>
          <a:xfrm>
            <a:off x="914400" y="1905120"/>
            <a:ext cx="75438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氢氧化钠标准液浓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样品、空白消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标准液体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09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毫摩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当的水的质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mo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需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ol NaO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反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取样品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395"/>
          <p:cNvSpPr/>
          <p:nvPr/>
        </p:nvSpPr>
        <p:spPr>
          <a:xfrm>
            <a:off x="4800600" y="380880"/>
            <a:ext cx="38862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和滴定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96"/>
          <p:cNvSpPr/>
          <p:nvPr/>
        </p:nvSpPr>
        <p:spPr>
          <a:xfrm>
            <a:off x="1249920" y="581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97"/>
          <p:cNvSpPr/>
          <p:nvPr/>
        </p:nvSpPr>
        <p:spPr>
          <a:xfrm>
            <a:off x="1644480" y="1371600"/>
            <a:ext cx="497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%=C*(V-V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*0.009*50/25*m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*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609480" y="114300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般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干，不致引起有机物焦化。含水量较多的，则应先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-6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烤，然后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5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烘干至恒重。本法适用于不含易热解和易挥发成分的有机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样制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取风干的实验室样品充分混匀后，按四分法缩减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左右时，粉碎，全部通过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孔径筛，装入样品瓶中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取回的新鲜实验室样品尽快称其鲜重，再将样品放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电热鼓风恒温干燥箱中烘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0mi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然后降温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5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保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4h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取出，再称量。然后按风干样方法制备，装瓶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010240" y="380880"/>
            <a:ext cx="45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节   有机肥料中水分的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4"/>
          <p:cNvSpPr/>
          <p:nvPr/>
        </p:nvSpPr>
        <p:spPr>
          <a:xfrm>
            <a:off x="91440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称取试样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g,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准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01g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放在预先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烘至恒重的铝盒内，摊平，将铝盒盖放在盒底下，移入干燥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5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下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时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然后打开干燥箱，立即盖好盒盖，取出放入干燥器中，冷至室温，迅速称量。再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小时，检验是否恒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5"/>
          <p:cNvSpPr/>
          <p:nvPr/>
        </p:nvSpPr>
        <p:spPr>
          <a:xfrm>
            <a:off x="3429000" y="380880"/>
            <a:ext cx="45720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机肥水分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168200" y="1066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操作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533520" y="2286000"/>
            <a:ext cx="83055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空铝盒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新鲜有机肥试样总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风干有机肥试样总的质量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,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风干有机肥试样及铝盒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烘干有机肥试样及铝盒的质量，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測定結果計算至小数点后一位，以算术平均值表示。两次平行测定结果允许差：风干样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2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鲜样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注意事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有机肥料水分含量，一般以新鲜样品为基础，即鲜基。这样便于计算新鲜肥料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133280" y="131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380880" y="990720"/>
            <a:ext cx="83822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风干样品中水分含量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风干基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= (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+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*100/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鲜样中水分含量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鲜基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= (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-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)*100/m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6"/>
          <p:cNvSpPr/>
          <p:nvPr/>
        </p:nvSpPr>
        <p:spPr>
          <a:xfrm>
            <a:off x="4038480" y="228600"/>
            <a:ext cx="45720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有机肥水分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linetree"/>
          <p:cNvPicPr/>
          <p:nvPr/>
        </p:nvPicPr>
        <p:blipFill>
          <a:blip r:embed="rId1"/>
          <a:stretch/>
        </p:blipFill>
        <p:spPr>
          <a:xfrm>
            <a:off x="4114800" y="5715000"/>
            <a:ext cx="4724280" cy="504720"/>
          </a:xfrm>
          <a:prstGeom prst="rect">
            <a:avLst/>
          </a:prstGeom>
          <a:ln w="0">
            <a:noFill/>
          </a:ln>
        </p:spPr>
      </p:pic>
      <p:pic>
        <p:nvPicPr>
          <p:cNvPr id="647" name="Object 3" descr=""/>
          <p:cNvPicPr/>
          <p:nvPr/>
        </p:nvPicPr>
        <p:blipFill>
          <a:blip r:embed="rId2"/>
          <a:stretch/>
        </p:blipFill>
        <p:spPr>
          <a:xfrm>
            <a:off x="304920" y="440856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4"/>
          <p:cNvSpPr/>
          <p:nvPr/>
        </p:nvSpPr>
        <p:spPr>
          <a:xfrm>
            <a:off x="594360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WordArt 5"/>
          <p:cNvSpPr txBox="1"/>
          <p:nvPr/>
        </p:nvSpPr>
        <p:spPr>
          <a:xfrm>
            <a:off x="2286000" y="990720"/>
            <a:ext cx="51814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结束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5335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样品的代表性与取样的点数和数量密切相关。产品按批检验，以一天或两天的产量为一批，最大批量为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000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袋装产品，按下表采样，超过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12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袋时，按公式：取样袋数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=3*3√n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为总袋数，计算结果如遇小数，则进为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1589760" y="276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二、取样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3124080"/>
          <a:ext cx="7848720" cy="31244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55520"/>
                <a:gridCol w="1368360"/>
                <a:gridCol w="1203480"/>
                <a:gridCol w="233280"/>
                <a:gridCol w="1001520"/>
                <a:gridCol w="1295640"/>
              </a:tblGrid>
              <a:tr h="6465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少采样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788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-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-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-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-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-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部袋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-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2-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-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5-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7-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4-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5-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1-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990720" y="1447920"/>
            <a:ext cx="70866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随机抽取一定袋数，用采样器从每袋最长对角线插入至袋的四分之三处，取出不少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0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样品，每批采取总样品量不得少于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k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散装肥料可根据堆放情况多点、分散、不同部位和深度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每点的采样数量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1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将各点采集的样品混匀，用四分法将样品缩分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0-2000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分装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个洁净、干燥的样品瓶中，封口，标签分别装入瓶内和贴于瓶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609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采样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609480" y="2895480"/>
            <a:ext cx="8153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参加国家抽检样品时，抽检单位一般应有两人与被抽检单位人员同时在场的情况下取样，填写两份取样报告由双方签名后各保存一份。抽检结果应通知被抽检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仲裁样品应有公证机关在场，有甲乙双方同时取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厂方或用户送检样品时，检验结果只对样品负责，不对产品负责，以防利用检验结果作宣传材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73320" y="3110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、取样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14400" y="1066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责任心要强，严格取样规程和数量，注意节约，防止浪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40440" y="228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09480" y="1295280"/>
            <a:ext cx="769644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主题内容和适用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本标准规定了肥料采样报告的内容和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本标准适用于肥料产品贸易中受货方采样时使用，也适用于法定质量检验机构对产品的质量监督和抽验时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注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对所采取的每个肥料样品，应有相应的采样报告；如果将样品分成若干份，每份应附有相应的副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869040" y="380880"/>
            <a:ext cx="140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国家标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514600" y="22860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55040" y="3887640"/>
            <a:ext cx="9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57200" y="914400"/>
            <a:ext cx="8229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基本部分：采样报告必需具备的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.1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产品名称和采样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.2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采样人姓名、所属单位或部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2.3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采样地点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或单位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、日期、天气，以及采样产品的贮存情况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4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产品商标、优等品和认证等标志，以及所标明的养分含量或组成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2.5 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如为袋装肥料，注明包装袋的性质和封装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.6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每袋袋装肥料的净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.7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受检批量的全部批样或交付数，并尽可能注明生产和交付等容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.8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采取的肥料数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以质量或包装件数计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以及和总数量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666880" y="0"/>
            <a:ext cx="6248520" cy="838080"/>
          </a:xfrm>
          <a:custGeom>
            <a:avLst/>
            <a:gdLst>
              <a:gd name="textAreaLeft" fmla="*/ 1462680 w 6248520"/>
              <a:gd name="textAreaRight" fmla="*/ 4785840 w 6248520"/>
              <a:gd name="textAreaTop" fmla="*/ 196200 h 838080"/>
              <a:gd name="textAreaBottom" fmla="*/ 641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9" y="11790"/>
                </a:lnTo>
                <a:lnTo>
                  <a:pt x="368" y="13595"/>
                </a:lnTo>
                <a:lnTo>
                  <a:pt x="3269" y="13843"/>
                </a:lnTo>
                <a:lnTo>
                  <a:pt x="1447" y="16200"/>
                </a:lnTo>
                <a:lnTo>
                  <a:pt x="4313" y="15688"/>
                </a:lnTo>
                <a:lnTo>
                  <a:pt x="3163" y="18437"/>
                </a:lnTo>
                <a:lnTo>
                  <a:pt x="5800" y="17200"/>
                </a:lnTo>
                <a:lnTo>
                  <a:pt x="5400" y="20153"/>
                </a:lnTo>
                <a:lnTo>
                  <a:pt x="7626" y="18276"/>
                </a:lnTo>
                <a:lnTo>
                  <a:pt x="8005" y="21232"/>
                </a:lnTo>
                <a:lnTo>
                  <a:pt x="9670" y="18843"/>
                </a:lnTo>
                <a:lnTo>
                  <a:pt x="10800" y="21600"/>
                </a:lnTo>
                <a:lnTo>
                  <a:pt x="11790" y="18861"/>
                </a:lnTo>
                <a:lnTo>
                  <a:pt x="13595" y="21232"/>
                </a:lnTo>
                <a:lnTo>
                  <a:pt x="13843" y="18331"/>
                </a:lnTo>
                <a:lnTo>
                  <a:pt x="16200" y="20153"/>
                </a:lnTo>
                <a:lnTo>
                  <a:pt x="15688" y="17287"/>
                </a:lnTo>
                <a:lnTo>
                  <a:pt x="18437" y="18437"/>
                </a:lnTo>
                <a:lnTo>
                  <a:pt x="17200" y="15800"/>
                </a:lnTo>
                <a:lnTo>
                  <a:pt x="20153" y="16200"/>
                </a:lnTo>
                <a:lnTo>
                  <a:pt x="18276" y="13974"/>
                </a:lnTo>
                <a:lnTo>
                  <a:pt x="21232" y="13595"/>
                </a:lnTo>
                <a:lnTo>
                  <a:pt x="18843" y="11930"/>
                </a:lnTo>
                <a:lnTo>
                  <a:pt x="21600" y="10800"/>
                </a:lnTo>
                <a:lnTo>
                  <a:pt x="18861" y="9810"/>
                </a:lnTo>
                <a:lnTo>
                  <a:pt x="21232" y="8005"/>
                </a:lnTo>
                <a:lnTo>
                  <a:pt x="18331" y="7757"/>
                </a:lnTo>
                <a:lnTo>
                  <a:pt x="20153" y="5400"/>
                </a:lnTo>
                <a:lnTo>
                  <a:pt x="17287" y="5912"/>
                </a:lnTo>
                <a:lnTo>
                  <a:pt x="18437" y="3163"/>
                </a:lnTo>
                <a:lnTo>
                  <a:pt x="15800" y="4400"/>
                </a:lnTo>
                <a:lnTo>
                  <a:pt x="16200" y="1447"/>
                </a:lnTo>
                <a:lnTo>
                  <a:pt x="13974" y="3324"/>
                </a:lnTo>
                <a:lnTo>
                  <a:pt x="13595" y="368"/>
                </a:lnTo>
                <a:lnTo>
                  <a:pt x="11930" y="2757"/>
                </a:lnTo>
                <a:lnTo>
                  <a:pt x="10800" y="0"/>
                </a:lnTo>
                <a:lnTo>
                  <a:pt x="9810" y="2739"/>
                </a:lnTo>
                <a:lnTo>
                  <a:pt x="8005" y="368"/>
                </a:lnTo>
                <a:lnTo>
                  <a:pt x="7757" y="3269"/>
                </a:lnTo>
                <a:lnTo>
                  <a:pt x="5400" y="1447"/>
                </a:lnTo>
                <a:lnTo>
                  <a:pt x="5912" y="4313"/>
                </a:lnTo>
                <a:lnTo>
                  <a:pt x="3163" y="3163"/>
                </a:lnTo>
                <a:lnTo>
                  <a:pt x="4400" y="5800"/>
                </a:lnTo>
                <a:lnTo>
                  <a:pt x="1447" y="5400"/>
                </a:lnTo>
                <a:lnTo>
                  <a:pt x="3324" y="7626"/>
                </a:lnTo>
                <a:lnTo>
                  <a:pt x="368" y="8005"/>
                </a:lnTo>
                <a:lnTo>
                  <a:pt x="2757" y="967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肥料采样报告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9-02-25T00:34:05Z</dcterms:modified>
  <cp:revision>24</cp:revision>
  <dc:subject/>
  <dc:title>PowerPoint 演示文稿</dc:title>
</cp:coreProperties>
</file>